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5DB2-C8FA-4359-9639-1C5AB22E6BBE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9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Programming with Java 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6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iveProblems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iveProblem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canner console, int coun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text,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BinaryOperator ope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ndom r = new Random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Righ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count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 = r.nextInt(12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y = r.nextInt(12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x + " " + text + " " + y + " =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nswer =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perator.applyAsInt(x, y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response = 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esponse == answ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it righ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Right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incorrect...the answer was 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answ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Right + " of " + count + " correc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(19.3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quence of elements from a data source that supports aggregate oper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s operate on a data source and modify i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+               +--------+                      +------------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source| -&gt; stream1 -&gt; |modifier| -&gt; stream2 -&gt; ... -&gt; | terminator 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+               +--------+                      +------------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print each element of a coll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sum each integer in a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concatenate strings together into one large 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find the largest value in a coll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e w/o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functional programming sum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the sum of the squares of integers 1-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5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m = sum + i * i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map modifi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ifier applies a lambda to each stream el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igher-order fun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akes a function as an argu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the sum of the squares of integers 1-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int sum = </a:t>
            </a:r>
            <a:r>
              <a:rPr b="0" lang="pt-BR" sz="2200" spc="-1" strike="noStrike">
                <a:solidFill>
                  <a:srgbClr val="333399"/>
                </a:solidFill>
                <a:latin typeface="Courier New"/>
              </a:rPr>
              <a:t>IntStream.range(1, 6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.map(n -&gt; n * 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pt-BR" sz="2200" spc="-1" strike="noStrike">
                <a:solidFill>
                  <a:srgbClr val="333399"/>
                </a:solidFill>
                <a:latin typeface="Courier New"/>
              </a:rPr>
              <a:t>.sum()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the stream operations are as follow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range(1, 6) -&gt; [1, 2, 3, 4, 5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p -&gt; [1, 4, 9, 16, 25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sum -&gt; 5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filter modifi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ream modifier removes/keeps elements of the stream using a boolean lamb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the sum of squares of odd integ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int sum =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IntStream.of(3, 1, 4, 1, 5, 9, 2, 6, 5, 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.filter(n -&gt; n % 2 !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.map(n -&gt; n * 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.su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the stream operations are as follow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of  -&gt; [3, 1, 4, 1, 5, 9, 2, 6, 5, 3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filter -&gt; [3, 1, 1, 5, 9, 5, 3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p -&gt; [9, 1, 1, 25, 81, 25, 9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sum -&gt; 15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streams as part of a regular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Returns true if the given integer is pr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ssumes n &gt;=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boolean isPrime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IntStream.range(1, n +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x -&gt; n % x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count() ==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duce modifi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du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ifier combines elements of a stream using a lambda combination fun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pts two parameters: an initial value and a lambda to combine that initial value with each next value in the stre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Returns n!, or 1*2*3*...*(n-1)*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ssumes n is non-negati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factorial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IntStream.range(2, n +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.reduce(1, (a, b) -&gt; a * b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op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68120" y="1143000"/>
          <a:ext cx="8809200" cy="5263920"/>
        </p:xfrm>
        <a:graphic>
          <a:graphicData uri="http://schemas.openxmlformats.org/drawingml/2006/table">
            <a:tbl>
              <a:tblPr/>
              <a:tblGrid>
                <a:gridCol w="1959120"/>
                <a:gridCol w="685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nyMat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any elements of stream match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llMat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all elements of stream match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verag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rithmetic mean of numbers in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ll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vert stream into a collection and return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un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number of elements in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istinc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unique elements from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ter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elements that match the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rEa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forms an action on each element of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imi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only the nex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elements of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p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lies the given function to every element of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neMat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zero elements of stream match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op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68120" y="1143000"/>
          <a:ext cx="8809200" cy="3286080"/>
        </p:xfrm>
        <a:graphic>
          <a:graphicData uri="http://schemas.openxmlformats.org/drawingml/2006/table">
            <a:tbl>
              <a:tblPr/>
              <a:tblGrid>
                <a:gridCol w="1959120"/>
                <a:gridCol w="685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arallel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multithreaded version of this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eek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xamines the first element of stream on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duc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lies the given binary reduction function to stream e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quential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ngle-threaded, opposite of parallel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p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mits the next n elements from the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ed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stream's elements in sorted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m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sum of elements in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Arra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verts stream into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71360" y="4572000"/>
          <a:ext cx="8809200" cy="2190600"/>
        </p:xfrm>
        <a:graphic>
          <a:graphicData uri="http://schemas.openxmlformats.org/drawingml/2006/table">
            <a:tbl>
              <a:tblPr/>
              <a:tblGrid>
                <a:gridCol w="2637000"/>
                <a:gridCol w="6172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atic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ca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s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ues two streams toge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zero-element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rat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infinite stream with given start e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verts the given values into a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ng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ar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ge of integer values as a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ptional resul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tream terminators like max return an "optional" result because the stream might be empty or not contain the resul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print largest multiple of 10 in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(does not compile!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largest =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of(55, 20, 19, 31, 40, -2, 62, 3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10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max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arge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FP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al programming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style of programming that emphasizes the use of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methods) to decompose a complex task into sub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 of functional language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SP, Scheme, ML, Haskell, Erlang, F#, Clojure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is considered an object-oriented language, not a functional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Java 8 adds several language features to facilitate a partial functional programming sty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ptional results fi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extract the optional result, use a "get as" terminat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verts type OptionalInt to Inte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print largest multiple of 10 in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(this version compiles and works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largest =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of(55, 20, 19, 31, 40, -2, 62, 3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10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x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.getAsInt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arge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AbsV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uses stream operations to compute the sum of the absolute values of an array of integers.  For example, the sum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-1, 2, -4, 6, -9}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rgestEv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uses stream operations to find and return the largest even number from an array of integers. For example, if the array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5, -1, 12, 10, 2, 8}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r method should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You may assume that the array contains at least one even integ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osures (19.4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und/free vari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 a lambda expression, parameters are bound variables while variables in the outer containing scope are free vari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 clo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block of code defining a function along with the definitions of any free variables that are defined in the containing sco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Courier New"/>
              </a:rPr>
              <a:t>// free variables: min, max, multipl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Courier New"/>
              </a:rPr>
              <a:t>// bound variables: x,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=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= 5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ultiplier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ompute((x, y) -&gt; Math.max(x,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) *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Math.max(y,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) *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ultiplier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ray can be converted into a stream with Arrays.stre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sum of absolute values of even 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3, -4, 8, 4, -2, 17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, -10, 14, 6, -12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Arrays.stream(number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n -&gt; Math.abs(n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2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istinct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su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thod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reference lets you pass a method where a lambda would otherwise be expect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sum of absolute values of even 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3, -4, 8, 4, -2, 17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, -10, 14, 6, -12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Arrays.stream(number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Math::ab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2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istinct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su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li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llection can be converted into a stream by calling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sum of absolute values of even 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&lt;Integer&gt; list =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 ArrayLis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-4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-1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6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stream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Math::ab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orEach(System.out::printl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nvert into set of lowercase wor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String&gt; words = Arrays.asList(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To", "be", "or", "Not", "to", "be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words2 = words.stream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String::toLowerCas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collect(Collectors.toSet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word set = " + words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 set = [not, be, or, to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fi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find longest line in the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longest = Files.lines(Paths.get("haiku.txt"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ToInt(String::length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x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getAs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ream oper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s.lines -&gt; ["haiku are funny"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but sometimes they don't make sense"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refrigerator"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pToInt -&gt; [15, 35, 12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x -&gt; 3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igLat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uses stream operations to convert a String parameter into its "Pig Latin" form.  For example, if the string passed is "go seattle mariners", return "o-gay eattle-say ariners-may"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LetterWor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file name as a parameter and returns a count of the number of unique lines in the file that are exactly four letters long.  Assume that each line in the file contains at least one wor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8 FP fea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Effect-free program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Processing structured data via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First-class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 Function clos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. Higher-order operations on col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ect-free code (19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de eff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hange to the state of an object or program variable produced by a call on a function (i.e., a metho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modifying the value of a vari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printing output to System.o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reading/writing data to a file, collection, or networ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 = f(x) + f(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 = 2 * f(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the two above statements the sam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es, if the function f() has n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de eff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goal of functional programming is to minimize side eff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e w/ side eff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SideEffect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int x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int f(int n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x * 2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 + 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// what if it were 2 * f(x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5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result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(x) + f(x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result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rst-class functions (19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rst-class citiz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lement of a programming language that is tightly integrated with the language and supports the full range of operations generally available to other entities in the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functional programming, functions (methods) are treated as first-class citizens of the languag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store a function in a vari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pass a function as a parameter to another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return a value from a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reate a collection of fun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mbda expres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mbda express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"lambda"): Expression that describes a function by specifying its parameters and return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 8 adds support for lambda express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arameter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-&gt;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express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x) -&gt; x * x      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squares a numb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is roughly equivalent 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squared(int 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*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/multiply tu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a program that gives addition and multiplication quiz problems to the us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 + 6 =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 got it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* 7 =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correct...the answer was 2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generalize the idea of "add or multiply"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uch work would it be to add other operator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functional programming hel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e w/ lambda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represent the math operation as a lamb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quiz the user on 3 addition probl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iveProblems(console, 3, "+"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(x, y) -&gt; x + 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quiz the user on 3 multiplication probl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iveProblems(console, 3, "*"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(x, y) -&gt; x * 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Registered User</cp:lastModifiedBy>
  <dcterms:modified xsi:type="dcterms:W3CDTF">2016-08-17T07:01:37Z</dcterms:modified>
  <cp:revision>658</cp:revision>
  <dc:subject/>
  <dc:title>CSE 142 Python Slides</dc:title>
</cp:coreProperties>
</file>