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1031-026C-40A0-AC8C-6181B5271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and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already called System.out.println and passed parameter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D3B7-2D9D-423F-9BCC-96C710D1AD03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meters and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ow parameters are pass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method is call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 is stored into the parameter variab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's code executes using tha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nt(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hant(int tim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651040" y="3328920"/>
            <a:ext cx="3200040" cy="1066680"/>
            <a:chOff x="2651040" y="3328920"/>
            <a:chExt cx="3200040" cy="1066680"/>
          </a:xfrm>
        </p:grpSpPr>
        <p:sp>
          <p:nvSpPr>
            <p:cNvPr id="121" name=""/>
            <p:cNvSpPr/>
            <p:nvPr/>
          </p:nvSpPr>
          <p:spPr>
            <a:xfrm>
              <a:off x="2651040" y="3328920"/>
              <a:ext cx="255276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67520" y="3739320"/>
              <a:ext cx="583560" cy="65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651040" y="3657600"/>
            <a:ext cx="3210120" cy="738000"/>
            <a:chOff x="2651040" y="3657600"/>
            <a:chExt cx="3210120" cy="738000"/>
          </a:xfrm>
        </p:grpSpPr>
        <p:sp>
          <p:nvSpPr>
            <p:cNvPr id="124" name=""/>
            <p:cNvSpPr/>
            <p:nvPr/>
          </p:nvSpPr>
          <p:spPr>
            <a:xfrm>
              <a:off x="5277600" y="3739680"/>
              <a:ext cx="583560" cy="65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51040" y="3657600"/>
              <a:ext cx="2553480" cy="32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method accepts a parameter, it is illegal to call it without passing any value for that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chant();  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// ERROR: parameter value requir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value passed to a method must be of the correct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chant(3.7);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// ERROR: must be of type 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hang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use a parameterized method for drawing lines of sta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s a parameterized method to remove redundanc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2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can accept multiple parameters. (separate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calling it, you must pass values for each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param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4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17, 6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8, 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0, 8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4444444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717171717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0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draw boxes with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rd version with multiple parameterized method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count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lin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space = 1; spac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spac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en primitive variables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re passed as parameters, their values are copi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parameter will not affect the variable passed i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trang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x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1. x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2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ange(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2. x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7162920" y="5033880"/>
            <a:ext cx="1590480" cy="11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 x =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. x =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"Parameter Mystery" problem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arameterMyste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z = 5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tery(z, y, 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tery(y, x, z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ystery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 and " +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486400" y="4572000"/>
            <a:ext cx="2590920" cy="609480"/>
            <a:chOff x="5486400" y="4572000"/>
            <a:chExt cx="2590920" cy="609480"/>
          </a:xfrm>
        </p:grpSpPr>
        <p:sp>
          <p:nvSpPr>
            <p:cNvPr id="144" name=""/>
            <p:cNvSpPr/>
            <p:nvPr/>
          </p:nvSpPr>
          <p:spPr>
            <a:xfrm>
              <a:off x="5486400" y="4572000"/>
              <a:ext cx="609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77120" y="4572000"/>
              <a:ext cx="609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67480" y="4572000"/>
              <a:ext cx="6098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quence of text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200"/>
            </a:b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point = 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reci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und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und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ringParameters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Hello("Marty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teacher = "Bictolia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Hello(teache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sayHello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elcome, " + nam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lcome, Mar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lcome, Bictol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use string parameters. Us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pe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a string many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rth version with Str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4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*", cou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height - 2; lin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 ", width -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String the given number of tim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repeat(String s, int time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turn valu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'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219320"/>
          <a:ext cx="6643800" cy="5235480"/>
        </p:xfrm>
        <a:graphic>
          <a:graphicData uri="http://schemas.openxmlformats.org/drawingml/2006/table">
            <a:tbl>
              <a:tblPr/>
              <a:tblGrid>
                <a:gridCol w="3083040"/>
                <a:gridCol w="3560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ab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solut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eil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s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floor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s 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log10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arithm, base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ax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rg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mall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ow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o th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dom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between 0 an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ound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arest whole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qrt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quare ro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o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a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e/cosine/tangent o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 angle in radi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Degree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Radian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vert degrees to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dians and 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172200" y="5243400"/>
          <a:ext cx="2771640" cy="1005120"/>
        </p:xfrm>
        <a:graphic>
          <a:graphicData uri="http://schemas.openxmlformats.org/drawingml/2006/table">
            <a:tbl>
              <a:tblPr/>
              <a:tblGrid>
                <a:gridCol w="1219320"/>
                <a:gridCol w="1552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a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7182818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1415926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squareRoo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sqrt(121.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quareRoot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1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bsoluteValu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abs(-5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bsoluteValue)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min(3, 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2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do not print to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method produces ("returns") a numeric res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ults are used as expressions (printed, stored, etc.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send out a value as the result of a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pposite of a paramet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meters send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the caller to the meth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values send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a method to its call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call to the method can be used as part of an express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144880" y="3581280"/>
            <a:ext cx="4904640" cy="2431080"/>
            <a:chOff x="2144880" y="3581280"/>
            <a:chExt cx="4904640" cy="2431080"/>
          </a:xfrm>
        </p:grpSpPr>
        <p:sp>
          <p:nvSpPr>
            <p:cNvPr id="165" name=""/>
            <p:cNvSpPr/>
            <p:nvPr/>
          </p:nvSpPr>
          <p:spPr>
            <a:xfrm>
              <a:off x="2144880" y="44578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966760" y="3660480"/>
              <a:ext cx="14475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30520" y="3581280"/>
              <a:ext cx="21618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abs(-4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36400" y="3645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-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39760" y="4856040"/>
              <a:ext cx="1474560" cy="70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30520" y="5613480"/>
              <a:ext cx="2619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round(2.7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2890800" y="4952880"/>
              <a:ext cx="152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73080" y="48798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2.7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119040" y="3965400"/>
              <a:ext cx="129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0440" y="41781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09560" y="5397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 the following expres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abs(-1.2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ow(3, 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ow(10, -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sqrt(121.0) - Math.sqrt(256.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round(Math.PI) + Math.round(Math.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ceil(6.022) + Math.floor(15.9994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abs(Math.min(-3, -5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m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m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used to bound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tatement would replace negative ages with 0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tatement would cap the maximum age to 40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rks of real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other non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y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nt x = Math.pow(10, 3)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: incompat.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lues print poorly (too many digit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esult = 1.0 / 3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result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0.33333333333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puter represen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in an imprecise w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0.1 + 0.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0.3, the outpu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.3000000000000000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 c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nversion from one type to an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promot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get exact division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truncat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a real number to an 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resul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9 / 5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3.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2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result;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Math.pow(10, 3)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0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ized recip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cup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ag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10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lue that distinguishes similar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type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casting has high precedence and only casts the item immediately next to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+ 1 / 2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y = 1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/ 2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.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parentheses to force evaluation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verage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(a + b + c) /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nversion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achieved in other w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verage = 1.0 * (a + b + c) /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a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slope of the line between the given po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lope(int x1, int y1, int x2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lope(1, 3, 5, 11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verts degrees Fahrenheit to Celsiu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egreesC = 5.0 / 9.0 * (degreesF - 3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egrees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mputes triangle hypotenuse length given its side length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hypotenuse(int a, int b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c = Math.sqrt(a * a + b * b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shorten the examples by returning an expre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.0 / 9.0 * (degreesF - 3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: Not sto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students incorrectly think tha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 sends a variable's name back to the calling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RRO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sult not defin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xing the common err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returning sends the variable'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turned value must be stored into a variable or used in an expression to be useful to the call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ouble s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s and Classes; Str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entity that represent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rogram / module, 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326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lass is a blueprint or template for constructing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224"/>
              </a:spcBef>
              <a:buNone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(type) is a template f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ing man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 (window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4320" indent="-169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 has 1000s of classes.  Later (Ch.8) we will write our ow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4320" indent="0">
              <a:spcBef>
                <a:spcPts val="649"/>
              </a:spcBef>
              <a:buNone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ntity that combines data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-oriented programming (OOP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rograms that perform their behavior as interactions between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entity that contains data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riables inside the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ehavi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s inside the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interact with the method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ata is hidden in the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37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37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(creating) an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ing an object's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172200" y="2133720"/>
            <a:ext cx="28195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lueprin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1600200" y="1359000"/>
            <a:ext cx="487692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Pod blueprint/fac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04920" y="4387680"/>
            <a:ext cx="8076960" cy="2019240"/>
            <a:chOff x="304920" y="4387680"/>
            <a:chExt cx="8076960" cy="2019240"/>
          </a:xfrm>
        </p:grpSpPr>
        <p:sp>
          <p:nvSpPr>
            <p:cNvPr id="202" name=""/>
            <p:cNvSpPr/>
            <p:nvPr/>
          </p:nvSpPr>
          <p:spPr>
            <a:xfrm>
              <a:off x="3049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</a:t>
              </a:r>
              <a:r>
                <a:rPr b="0" lang="en-US" sz="12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1,000,000 Miles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00400" y="4387680"/>
              <a:ext cx="21337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Letting You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485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Discipli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286000" y="3564000"/>
            <a:ext cx="4419720" cy="823680"/>
            <a:chOff x="2286000" y="3564000"/>
            <a:chExt cx="4419720" cy="823680"/>
          </a:xfrm>
        </p:grpSpPr>
        <p:grpSp>
          <p:nvGrpSpPr>
            <p:cNvPr id="206" name=""/>
            <p:cNvGrpSpPr/>
            <p:nvPr/>
          </p:nvGrpSpPr>
          <p:grpSpPr>
            <a:xfrm>
              <a:off x="2286000" y="3564000"/>
              <a:ext cx="4191120" cy="823680"/>
              <a:chOff x="2286000" y="3564000"/>
              <a:chExt cx="4191120" cy="823680"/>
            </a:xfrm>
          </p:grpSpPr>
          <p:sp>
            <p:nvSpPr>
              <p:cNvPr id="207" name=""/>
              <p:cNvSpPr/>
              <p:nvPr/>
            </p:nvSpPr>
            <p:spPr>
              <a:xfrm flipH="1">
                <a:off x="2286000" y="3564000"/>
                <a:ext cx="18288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114800" y="3564000"/>
                <a:ext cx="15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14800" y="3564000"/>
                <a:ext cx="23623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5699160" y="36259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5751" t="5926" r="10795" b="3210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rcRect l="5751" t="5926" r="10795" b="3210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storing a sequence of text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like most other objects,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created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200"/>
            </a:b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poin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fig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task of printing the following lines/box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*************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  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dex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 of a string are numbered with 0-bas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dex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name = "R. Kelly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character's index : 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 character's index : 1 less than the string's leng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dividual characters are values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397160" y="2446200"/>
          <a:ext cx="6535440" cy="830520"/>
        </p:xfrm>
        <a:graphic>
          <a:graphicData uri="http://schemas.openxmlformats.org/drawingml/2006/table">
            <a:tbl>
              <a:tblPr/>
              <a:tblGrid>
                <a:gridCol w="1379520"/>
                <a:gridCol w="644400"/>
                <a:gridCol w="646200"/>
                <a:gridCol w="642960"/>
                <a:gridCol w="644400"/>
                <a:gridCol w="644400"/>
                <a:gridCol w="644760"/>
                <a:gridCol w="644400"/>
                <a:gridCol w="644400"/>
              </a:tblGrid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01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methods are called using the dot no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gangsta = "Dr. Dr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angsta.length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52280" y="1371600"/>
          <a:ext cx="8839440" cy="3071880"/>
        </p:xfrm>
        <a:graphic>
          <a:graphicData uri="http://schemas.openxmlformats.org/drawingml/2006/table">
            <a:tbl>
              <a:tblPr/>
              <a:tblGrid>
                <a:gridCol w="3695760"/>
                <a:gridCol w="5143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 where the start of the given string appears in this string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umber of characters in this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e characters in this string from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inclusive)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imes New Roman"/>
                        </a:rPr>
                        <a:t>exclus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f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s omitted, grabs till end 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Low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 new string with all low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Upp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 new string with all upp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dex     0123456789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1 = "Stuart Reges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2 = "Marty Stepp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indexOf("e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substring(7, 1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Reg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3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.substring(1, 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3.toLow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arty s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the following st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dex       01234567890123456789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book = "Building Java Programs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you extract the wor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Java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ying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ild and return a new string, rather than modifying the current st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dify a variable's value, you must reassign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 =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active Programs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ystem.i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active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ads input from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le the program runs, it asks the user to type in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put typed by the user is stored in variables in th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icky; users are unpredictable and misbeh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interactive programs have more interesting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can read input from many sour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unicate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(the opposit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also read from files (Ch. 6), web sites, databases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s found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o you can use Scann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to read console in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method waits until the user presses En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 typed by the user is return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95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How old are you? 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onsole.nextInt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You typed " + ag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95240" indent="-151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message telling the user what input to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69880" y="1339920"/>
          <a:ext cx="8001000" cy="1976400"/>
        </p:xfrm>
        <a:graphic>
          <a:graphicData uri="http://schemas.openxmlformats.org/drawingml/2006/table">
            <a:tbl>
              <a:tblPr/>
              <a:tblGrid>
                <a:gridCol w="2133360"/>
                <a:gridCol w="586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 and returns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 one-wor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eads a one-</a:t>
                      </a: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ine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UserInput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old are you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console.nextIn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years = 65 - ag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years + " years to retirement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ole (user input underlined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old are you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6 years until retirement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407960" y="297180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07960" y="322416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07960" y="388620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38000" y="5765760"/>
            <a:ext cx="10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276720" y="5867280"/>
            <a:ext cx="2367000" cy="961920"/>
            <a:chOff x="3276720" y="5867280"/>
            <a:chExt cx="2367000" cy="9619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0" t="0" r="5017" b="0"/>
            <a:stretch/>
          </p:blipFill>
          <p:spPr>
            <a:xfrm>
              <a:off x="4648320" y="5867280"/>
              <a:ext cx="9954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 flipH="1" flipV="1">
              <a:off x="3276720" y="5927040"/>
              <a:ext cx="137160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 flipV="1">
            <a:off x="3076560" y="3352680"/>
            <a:ext cx="961920" cy="236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672160" y="3200400"/>
            <a:ext cx="576000" cy="474840"/>
            <a:chOff x="5672160" y="3200400"/>
            <a:chExt cx="576000" cy="47484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5672160" y="3200400"/>
              <a:ext cx="39276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064920" y="3338280"/>
              <a:ext cx="1832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9" name=""/>
          <p:cNvGraphicFramePr/>
          <p:nvPr/>
        </p:nvGraphicFramePr>
        <p:xfrm>
          <a:off x="7543800" y="2743200"/>
          <a:ext cx="1295280" cy="395280"/>
        </p:xfrm>
        <a:graphic>
          <a:graphicData uri="http://schemas.openxmlformats.org/drawingml/2006/table">
            <a:tbl>
              <a:tblPr/>
              <a:tblGrid>
                <a:gridCol w="647640"/>
                <a:gridCol w="64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7238880" y="3262320"/>
          <a:ext cx="1593720" cy="395280"/>
        </p:xfrm>
        <a:graphic>
          <a:graphicData uri="http://schemas.openxmlformats.org/drawingml/2006/table">
            <a:tbl>
              <a:tblPr/>
              <a:tblGrid>
                <a:gridCol w="946080"/>
                <a:gridCol w="64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2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23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cannerMultipl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Please type two numbers: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1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2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roduct = num1 * num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product is " + produc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user input underlined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ease type two numbers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8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product is 4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read multiple values from one li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dundan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tars1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13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7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35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x10x3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x5x4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13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13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7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7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35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35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1600200"/>
            <a:ext cx="38102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is redund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variables help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constants hel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better solu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3429000"/>
            <a:ext cx="4191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A method to draw a line of any number of st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A method to draw a box of any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toke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k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unit of user input, as rea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kens are separated b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te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paces, tabs, new line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tokens appear on the following line of inpu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John Smith   42.0  "Hello world"  $2.50  "  19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oken is not the type you ask for, it crash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ag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sole.nextIn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at is your age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Tim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java.util.InputMismatchExcep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next(Unknown Sour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nextInt(Unknown Sour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ads a word of input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 = name.toUpperCa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has " + name.length() +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letters and starts with " + name.substring(0, 1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at is your nam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hamillionai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MILLIONAIRE has 14 letters and starts with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ads a line of input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address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address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Lin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s user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outputs a person's "gangsta name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initi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idd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 name (all ca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-izz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your name, playa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arge Simps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r gangsta name is "M. Diddy SIMPSON Marge-izzle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prints your "gangsta" na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GangstaNam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your name, playa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Lin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plit name into first/last name and initia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r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.substring(0, name.indexOf(" ")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a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.substring(name.indexOf(" ") + 1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.toUpperCas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nitial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rst.substring(0, 1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r gangsta name is \"" + fInitial 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. Diddy " + last + " " + first + "-izzle\"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lue passed to a method by its call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Of7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Of1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ri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draw any lengt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clar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ethod, we will state that it requires a parameter for the number of st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l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method, we will specify how many stars to dra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154160" y="4419720"/>
            <a:ext cx="6916680" cy="1310040"/>
            <a:chOff x="1154160" y="4419720"/>
            <a:chExt cx="6916680" cy="1310040"/>
          </a:xfrm>
        </p:grpSpPr>
        <p:sp>
          <p:nvSpPr>
            <p:cNvPr id="101" name=""/>
            <p:cNvSpPr/>
            <p:nvPr/>
          </p:nvSpPr>
          <p:spPr>
            <a:xfrm>
              <a:off x="1154160" y="462276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76400" y="481644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40160" y="46162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67440" y="48164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09040" y="46288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75000" y="441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49400" y="5021280"/>
              <a:ext cx="1474920" cy="49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40160" y="531792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67440" y="55180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09040" y="533088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***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98680" y="5238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laring a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ing that a method requires a parameter in order to r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sayPasswor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c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password is: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ayPasswor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called, the caller must specif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teger code to pr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ssing a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ing a method and specifying values for its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Password(4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Password(1234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password is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password is 123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s an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arameter can guide the number of repetitions of a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hant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i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08Z</dcterms:modified>
  <cp:revision>122</cp:revision>
  <dc:subject/>
  <dc:title>CSE 142 Python Slides</dc:title>
</cp:coreProperties>
</file>