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4F82-3AB3-4ECB-9B78-FB22FC4BD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8A20-385B-407F-9E2C-439F91E8795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3Z</dcterms:modified>
  <cp:revision>125</cp:revision>
  <dc:subject/>
  <dc:title>CSE 142 Python Slides</dc:title>
</cp:coreProperties>
</file>