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95FC-A243-41E7-92AA-68187499618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util/Arrays.html#binarySearch(int[],%20int)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need Javadoc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* ... a Javadoc comment ..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item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vate members do not appear in the generated HTML p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esn't have tags for pre/post, but you can add th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default, these tags won't show up in the generated HTML.  But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8680" y="1981080"/>
          <a:ext cx="8434440" cy="3345120"/>
        </p:xfrm>
        <a:graphic>
          <a:graphicData uri="http://schemas.openxmlformats.org/drawingml/2006/table">
            <a:tbl>
              <a:tblPr/>
              <a:tblGrid>
                <a:gridCol w="3763800"/>
                <a:gridCol w="467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re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re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must be true for the method to perform its 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o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ost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ost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is guaranteed to b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's functionality, so long as all preconditions wer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custom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doc -d doc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re:cm:"Precondition: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ost:cm:"Postcondition:" *.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Eclipse: Project  →  Generate Javadoc...  → Next → Next →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"Extra Javadoc options" box,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tag pre:cm:"Precondition:" -tag post:cm:"Postcondition: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ted Java API web pag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now be able to displ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gs properly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3962520"/>
            <a:ext cx="3124080" cy="2590560"/>
            <a:chOff x="5715000" y="3962520"/>
            <a:chExt cx="3124080" cy="259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63280" y="6050160"/>
              <a:ext cx="853560" cy="30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4840" y="1319040"/>
          <a:ext cx="8763120" cy="3176280"/>
        </p:xfrm>
        <a:graphic>
          <a:graphicData uri="http://schemas.openxmlformats.org/drawingml/2006/table">
            <a:tbl>
              <a:tblPr/>
              <a:tblGrid>
                <a:gridCol w="4230720"/>
                <a:gridCol w="4532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modifi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state of this object or other object(s) that may be changed by a call to thi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effect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promises this method makes about the final state in which it will leave some other object(s) when it is done ru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by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 by contract (design by contrac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fining formal, precise and verifiable interface specifications for software components, which extend the ordinary definition of abstract data types with preconditions, postconditions and invari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key questions that the designer must repeatedly 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code expec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guarant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maintai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021" r="0" b="10888"/>
          <a:stretch/>
        </p:blipFill>
        <p:spPr>
          <a:xfrm>
            <a:off x="5867280" y="419112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d to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"solve" the problem of users passing improper indexes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376704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oos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poorly chosen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the obvio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:  String s is a string!   The computer has enough memory to ru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ing up for a lazy or poor implementa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ow:  Exponent can't be negative; can only do positive po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st.isSorted:  List shouldn't contain any duplicates because our code messes up in that case and returns the wrong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gs that clients cannot check, avoid, or ensu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tack.push:  Stack's internal array capacity must be &gt;= stack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download: If it starts, the whole file will arrive successfu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must be able to check the preconditions of a method before call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vio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, if a client violates a precondition, (by defaul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es not spec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at will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 promi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method will work successful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o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return an unusual value or "error" value   (null, 0, -1, ""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throw an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get stuck in an infinit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leave the object in a corrupt state, save the wrong fil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 is the best way to handle a precondition viol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1: retur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returning a special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or ba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-1 returned is indistinguishable from a -1 in the actual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client might not notice the error and won't fix their bu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2: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throwing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ail-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ient learns about the problem immediately and can fix it.  Passing a bad value usually indicates a bug in the client, so this is go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description of class/method/field/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pecial comment syntax for describing detailed specifications of Java classes an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 on class headers, methods, constructors, public field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nefi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can turn Javadoc comments into HTML spec p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and other editors have useful built-in Javadoc suppor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in drawbac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ents can become bulky and harder to 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in the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: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p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oves the object on top of this stack and return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: The object at the top of this stack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w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tyStack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if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econditions are things the stack assumes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s far as the client knows, that are not checked by the stack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ient violates a precondition, stack could do any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the stack documents a predictable behavior (throw) in response to the empty stack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e say tha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exception is part of the contra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change it (say, to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you have changed the contra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31080" y="1271520"/>
            <a:ext cx="1103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usually test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 an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/ should I check 0 &lt;= index &lt; size he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method can only be called internally, the class author can make sure to call it only when the preconditions ho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check at all is made, make i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o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</a:t>
            </a:r>
            <a:br>
              <a:rPr sz="2400"/>
            </a:br>
            <a:br>
              <a:rPr sz="8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arches the specified array o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for the specified value using the binary search algorithm. The array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must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be sort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as by th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method, above) prior to making this call. If it is not sorted, the results are undefined.  ...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Sun just check whether the array is sorted?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1:  If it isn't sorted, sor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2:  If it isn't sorted, throw an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is costly (takes O(n log n) or worse;  search is O(log n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to see if the array is sorted is costly (O(n)); omitting this check and assuming it to be true makes binary search run much fa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modifies the input array; binarySearch would have a side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how do we catch bugs where the client violates this precondition? 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statement that can be made about a program at a point in time and is expected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At this point in the code, it should be the case that x &gt; 0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nd other languages sup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 statements can be en/disabled; they are off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ions check your basic assumptions that should never fail;  they uncover things that should not have happene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verify preconditions when testing/debugg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assertion fails, this is considered an error on the part of the developer and should be fixed immediat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in the contract ar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its execution, if all preconditions were true at the start of the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Precondition: capacity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method or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class hea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6920" y="1816200"/>
          <a:ext cx="8762760" cy="2770200"/>
        </p:xfrm>
        <a:graphic>
          <a:graphicData uri="http://schemas.openxmlformats.org/drawingml/2006/table">
            <a:tbl>
              <a:tblPr/>
              <a:tblGrid>
                <a:gridCol w="4230720"/>
                <a:gridCol w="45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aram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retur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what value will be retu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throw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Typ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n exception that may be thrown (and what would cause it to be thr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cod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cod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 showing Java code in the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inheritDo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ows a subclass method to copy Javadoc comments from the superclass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6920" y="5199120"/>
          <a:ext cx="8762760" cy="1125360"/>
        </p:xfrm>
        <a:graphic>
          <a:graphicData uri="http://schemas.openxmlformats.org/drawingml/2006/table">
            <a:tbl>
              <a:tblPr/>
              <a:tblGrid>
                <a:gridCol w="4230360"/>
                <a:gridCol w="453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author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 of a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versio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's version number, in any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Each BankAccount object models the account information f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a single user of Fells Wargo ban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author James T. Kir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version 1.4 (Aug 9 2008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 The standard interest rate on all accounts. 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final double INTEREST_RATE = 0.03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s the given amount of money from this account'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balance, if possible, and returns whether the money w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ed successfully (true if so, false if not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If the account does not contain sufficient funds 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make this withdrawal, no funds are withdraw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param amount the amount of money to be withdraw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return true if amount was withdrawn, else fals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throws IllegalArgumentException if amount is negativ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boolean withdraw(double amount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output as HTM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ools to convert Javadoc comments in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 -d doc/ *.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has this built 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ct  →  Generate Javadoc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ctual Java AP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 web pages 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d from Sun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doc comments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own sourc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3313080"/>
            <a:ext cx="4448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HTM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sourc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eturns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this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p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This method is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not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/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guaranteed to 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constant time. In some implementations it m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un in time proportional to the element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param index index of element to return; must 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non-negative and less than size of this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return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the index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= this.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HTML tags may be embedded inside the com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nums,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ass constant or enumeration value can be comme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An instrument section of a symphony orches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author John Willi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num OrchestraSecti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Woodwinds, such as flute, clarinet, and oboe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ODWIN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Brass instruments, such as trumpet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AS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Percussion instruments, such as cymbals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CUSS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Stringed instruments, such as violin and cello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@param/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repeat yourself or write vacuous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Takes an index and element and adds the element t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to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Inserts the specified element at the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position in this list.  Shifts the element currently 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at position (if any) and any subsequent element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right (adds one to their indices).  Returns whe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add was successfu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at which the element is to be ins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be inserted at the given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return true if added successfully; false if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index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 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our Javadoc is your spec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you write a class to be used by clients, you should write full Javadoc comments for all of its public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nstitutes your specification to all clients for y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post the generated HTML files publicly for clients to vie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distribution of a library of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na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.class files, often packaged into an arch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doc .html files, or a public URL to view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uses Javadoc for auto-comple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Javadoc commen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d API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nything that is non-priv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310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4:02Z</dcterms:modified>
  <cp:revision>609</cp:revision>
  <dc:subject/>
  <dc:title>CSE 142 Python Slides</dc:title>
</cp:coreProperties>
</file>