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45A3-B36D-4E06-A222-3E8ED74FF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t of 143 students implement a kind of insertion sort on their SortedIntList add op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805F-FB65-4284-BFF2-2AB7CAFDB1C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array of String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 not work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trings as having an alphabetic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rison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de that, when given two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given type, decides their relative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lt;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=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gt;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0" y="1295280"/>
            <a:ext cx="779760" cy="1143000"/>
            <a:chOff x="2286000" y="1295280"/>
            <a:chExt cx="779760" cy="1143000"/>
          </a:xfrm>
        </p:grpSpPr>
        <p:sp>
          <p:nvSpPr>
            <p:cNvPr id="129" name=""/>
            <p:cNvSpPr/>
            <p:nvPr/>
          </p:nvSpPr>
          <p:spPr>
            <a:xfrm>
              <a:off x="2286000" y="1295280"/>
              <a:ext cx="380880" cy="1143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1160" y="1633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2743200"/>
            <a:ext cx="927000" cy="990720"/>
            <a:chOff x="5791320" y="2743200"/>
            <a:chExt cx="927000" cy="990720"/>
          </a:xfrm>
        </p:grpSpPr>
        <p:sp>
          <p:nvSpPr>
            <p:cNvPr id="132" name=""/>
            <p:cNvSpPr/>
            <p:nvPr/>
          </p:nvSpPr>
          <p:spPr>
            <a:xfrm>
              <a:off x="5791320" y="27432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06120" y="29718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791320" y="4267080"/>
            <a:ext cx="1082880" cy="1752840"/>
            <a:chOff x="5791320" y="4267080"/>
            <a:chExt cx="1082880" cy="1752840"/>
          </a:xfrm>
        </p:grpSpPr>
        <p:sp>
          <p:nvSpPr>
            <p:cNvPr id="135" name=""/>
            <p:cNvSpPr/>
            <p:nvPr/>
          </p:nvSpPr>
          <p:spPr>
            <a:xfrm>
              <a:off x="5791320" y="4267080"/>
              <a:ext cx="380880" cy="17528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88120" y="48769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162920" y="1219320"/>
            <a:ext cx="1731600" cy="5181480"/>
            <a:chOff x="7162920" y="1219320"/>
            <a:chExt cx="1731600" cy="5181480"/>
          </a:xfrm>
        </p:grpSpPr>
        <p:sp>
          <p:nvSpPr>
            <p:cNvPr id="138" name=""/>
            <p:cNvSpPr/>
            <p:nvPr/>
          </p:nvSpPr>
          <p:spPr>
            <a:xfrm>
              <a:off x="7162920" y="1219320"/>
              <a:ext cx="609480" cy="518148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35000 h 5181480"/>
                <a:gd name="textAreaBottom" fmla="*/ 5046480 h 518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02280" y="358128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j = 1; j &lt;= N; j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atements will execute if N = 10?  If N = 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62920" y="1219320"/>
            <a:ext cx="1884600" cy="4800600"/>
            <a:chOff x="7162920" y="1219320"/>
            <a:chExt cx="1884600" cy="4800600"/>
          </a:xfrm>
        </p:grpSpPr>
        <p:sp>
          <p:nvSpPr>
            <p:cNvPr id="143" name=""/>
            <p:cNvSpPr/>
            <p:nvPr/>
          </p:nvSpPr>
          <p:spPr>
            <a:xfrm>
              <a:off x="7162920" y="1219320"/>
              <a:ext cx="609480" cy="48006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24920 h 4800600"/>
                <a:gd name="textAreaBottom" fmla="*/ 4675680 h 48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97240" y="3407400"/>
              <a:ext cx="125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+ 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324480" y="1371600"/>
            <a:ext cx="921600" cy="990720"/>
            <a:chOff x="6324480" y="1371600"/>
            <a:chExt cx="921600" cy="990720"/>
          </a:xfrm>
        </p:grpSpPr>
        <p:sp>
          <p:nvSpPr>
            <p:cNvPr id="146" name=""/>
            <p:cNvSpPr/>
            <p:nvPr/>
          </p:nvSpPr>
          <p:spPr>
            <a:xfrm>
              <a:off x="6324480" y="13716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33440" y="1600200"/>
              <a:ext cx="5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324480" y="3505320"/>
            <a:ext cx="1082880" cy="1752480"/>
            <a:chOff x="6324480" y="3505320"/>
            <a:chExt cx="1082880" cy="1752480"/>
          </a:xfrm>
        </p:grpSpPr>
        <p:sp>
          <p:nvSpPr>
            <p:cNvPr id="149" name=""/>
            <p:cNvSpPr/>
            <p:nvPr/>
          </p:nvSpPr>
          <p:spPr>
            <a:xfrm>
              <a:off x="6324480" y="3505320"/>
              <a:ext cx="380880" cy="175248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1280" y="411480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growth rate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.2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easure runtime in proportion to the input data size,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owth r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ange in runtime as N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 an algorithm run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4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25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8N + 1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the runtime when N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xtremely 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ignore constants like 25 because they are tiny next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ighest-order term 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dominates the overall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is algorithm runs "on the order of" 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short   (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g-O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N cubed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ity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lexity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ategory of algorithm efficiency based on the algorithm's relationship to the input size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2362320"/>
          <a:ext cx="8093160" cy="3406680"/>
        </p:xfrm>
        <a:graphic>
          <a:graphicData uri="http://schemas.openxmlformats.org/drawingml/2006/table">
            <a:tbl>
              <a:tblPr/>
              <a:tblGrid>
                <a:gridCol w="1710000"/>
                <a:gridCol w="1482480"/>
                <a:gridCol w="3146400"/>
                <a:gridCol w="1754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g-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you double N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chan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s sligh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-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 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ightly more than 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u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in 4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b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by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on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drastic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*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 efficie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205884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 of various operations on different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05740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, 13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cessively eliminates half of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gorithm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Examine the middle element of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big, eliminate the righ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small, eliminate the lef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it is the value we're searching for, so sto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indexes does the algorithm examine to find valu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 complexity class of binary sear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320" y="5207040"/>
          <a:ext cx="8915400" cy="1041480"/>
        </p:xfrm>
        <a:graphic>
          <a:graphicData uri="http://schemas.openxmlformats.org/drawingml/2006/table">
            <a:tbl>
              <a:tblPr/>
              <a:tblGrid>
                <a:gridCol w="848880"/>
                <a:gridCol w="537480"/>
                <a:gridCol w="537840"/>
                <a:gridCol w="537480"/>
                <a:gridCol w="537840"/>
                <a:gridCol w="53892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array of size N, it eliminat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ntil 1 element remai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, N/2, N/4, N/8, ..., 4, 2,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divisions does it tak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it from the other dire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imes do I have to multiply by 2 to reach 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4, 8, ..., N/4, N/2,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is number of multiplications "x"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= lo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is in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arithm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lexity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quential 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tial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n array/list by examining each element from start to fini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the array is sorted.  Could we take advantage of thi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2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55887E-008 L 0.49166 -8.55887E-008 E">
                                      <p:cBhvr>
                                        <p:cTn id="6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mplexity class is this algorithm?  Can it be impro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0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 i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A slightly bet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final version is O(N).  It runs MUCH f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numbers[0]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max/min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ma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lt; mi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x - mi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first 2 ver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638680" cy="234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8120" y="3989520"/>
            <a:ext cx="5638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3r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3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54864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r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rranging the values in an array or collection into a specific order (usually into their "natural ordering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of the fundamental problems in computer sci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solved in many way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many sort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are faster/slower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use more/less memory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work better with specific kinds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n utilize multiple computers / processors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mparison-based sor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termining order b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ing pairs of elem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method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le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a static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sorts the elements of an array/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{"foo", "bar", "baz", "ball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sort(word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words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2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word : word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2.add(word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lections.sort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lection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320" y="1407960"/>
          <a:ext cx="8966160" cy="4916520"/>
        </p:xfrm>
        <a:graphic>
          <a:graphicData uri="http://schemas.openxmlformats.org/drawingml/2006/table">
            <a:tbl>
              <a:tblPr/>
              <a:tblGrid>
                <a:gridCol w="4317840"/>
                <a:gridCol w="464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sorted list (&lt; 0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pi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's elements to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Lis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Map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e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ead-only collection of the given type that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in the list to have the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x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in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rgest/smallest 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plac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l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an element value with an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vers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erses the order of a list's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huffl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 random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scending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huffle and p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wap adjacent pairs that are out of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ok for the smallest element, move to fro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build an increasingly large sorted front po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divide the array in half and sort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lace the values into a sorted tree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ick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partition array based on a middl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specialized sorting algorith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cket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uster elements into smaller groups, sort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adix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ort integers by last digit, then 2nd to last, then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titively shuffling them and checking if they are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me comes from the word "bogu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an the list, seeing if it is sorted.  If so,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, shuffle the values in the list and repe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orting algorithm (obviously) has terrible performanc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its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/list by successively eliminating half of the array from consid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7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8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562640" y="4572000"/>
            <a:ext cx="618840" cy="825480"/>
            <a:chOff x="4562640" y="4572000"/>
            <a:chExt cx="618840" cy="825480"/>
          </a:xfrm>
        </p:grpSpPr>
        <p:sp>
          <p:nvSpPr>
            <p:cNvPr id="101" name=""/>
            <p:cNvSpPr/>
            <p:nvPr/>
          </p:nvSpPr>
          <p:spPr>
            <a:xfrm>
              <a:off x="4562640" y="5029200"/>
              <a:ext cx="618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87656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8305920" y="4572000"/>
            <a:ext cx="618840" cy="1099800"/>
            <a:chOff x="8305920" y="4572000"/>
            <a:chExt cx="618840" cy="1099800"/>
          </a:xfrm>
        </p:grpSpPr>
        <p:sp>
          <p:nvSpPr>
            <p:cNvPr id="104" name=""/>
            <p:cNvSpPr/>
            <p:nvPr/>
          </p:nvSpPr>
          <p:spPr>
            <a:xfrm>
              <a:off x="8305920" y="5029200"/>
              <a:ext cx="6188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1984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8.55887E-008 L 0.20052 -8.55887E-008 E">
                                      <p:cBhvr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8.55887E-008 L 0.44218 -8.55887E-008 E">
                                      <p:cBhvr>
                                        <p:cTn id="3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52 -8.55887E-008 L 0.10052 -8.55887E-008 E">
                                      <p:cBhvr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8.55887E-008 L -0.25886 -8.55887E-008 E">
                                      <p:cBhvr>
                                        <p:cTn id="3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laces the elements of a into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bogo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!isSorted(a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uffle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a's elements are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Sorted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huffles an array of ints by randomly swapping 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ement with an element ahead of it in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huffle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ick a random index in [i+1, a.length-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ge = a.length - 1 - (i + 1)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j = (int) (Math.random() * range + (i + 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j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s a[i] with a[j]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 !=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atedly putting the smallest or largest unplaced value into its final pos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econd-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1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eat until all values are in their proper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1st, 2nd, and 3rd p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80036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8600" y="347652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28600" y="44672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28600" y="548640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selection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election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index of smallest remaining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i + 1; j &lt; a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j] &lt; a[min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 smallest value its proper place, a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m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runtim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Fig. 13.6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selection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2109960"/>
            <a:ext cx="80769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milar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ke repeated passes, swapping adjacent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er than selection sort (has to do more sw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hift each element into a sorted sub-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ster than selection sort (examines fewer valu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8380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28600" y="26668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996840" y="35082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7623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35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829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376236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4528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9636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51530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4825440" y="638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752120" y="6613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5520" y="594360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ed sub-array (indexes 0-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divides the data in half, sorts each half, and combines the sorted halves into a sorted wh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e the list into two roughly equal halv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lef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righ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rge the two sorted halves into one sort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implemented recursiv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xample of a "divide and conquer" algorith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nted by John von Neumann in 19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362320" y="1295280"/>
          <a:ext cx="44258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14360"/>
                <a:gridCol w="460440"/>
                <a:gridCol w="46656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820880" y="2562120"/>
          <a:ext cx="17953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1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28736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12536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890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28412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426960" y="4343400"/>
            <a:ext cx="1695240" cy="368280"/>
            <a:chOff x="426960" y="4343400"/>
            <a:chExt cx="1695240" cy="368280"/>
          </a:xfrm>
        </p:grpSpPr>
        <p:grpSp>
          <p:nvGrpSpPr>
            <p:cNvPr id="231" name=""/>
            <p:cNvGrpSpPr/>
            <p:nvPr/>
          </p:nvGrpSpPr>
          <p:grpSpPr>
            <a:xfrm>
              <a:off x="1360440" y="4343400"/>
              <a:ext cx="761760" cy="228600"/>
              <a:chOff x="1360440" y="4343400"/>
              <a:chExt cx="76176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13604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8176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2696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1400" y="3505320"/>
            <a:ext cx="1374480" cy="380880"/>
            <a:chOff x="671400" y="3505320"/>
            <a:chExt cx="1374480" cy="380880"/>
          </a:xfrm>
        </p:grpSpPr>
        <p:grpSp>
          <p:nvGrpSpPr>
            <p:cNvPr id="236" name=""/>
            <p:cNvGrpSpPr/>
            <p:nvPr/>
          </p:nvGrpSpPr>
          <p:grpSpPr>
            <a:xfrm>
              <a:off x="1436760" y="3733920"/>
              <a:ext cx="609120" cy="152280"/>
              <a:chOff x="1436760" y="3733920"/>
              <a:chExt cx="6091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676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413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67140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0" name=""/>
          <p:cNvGraphicFramePr/>
          <p:nvPr/>
        </p:nvGraphicFramePr>
        <p:xfrm>
          <a:off x="325764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095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860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25440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2396880" y="4343400"/>
            <a:ext cx="1695240" cy="368280"/>
            <a:chOff x="2396880" y="4343400"/>
            <a:chExt cx="1695240" cy="368280"/>
          </a:xfrm>
        </p:grpSpPr>
        <p:grpSp>
          <p:nvGrpSpPr>
            <p:cNvPr id="245" name=""/>
            <p:cNvGrpSpPr/>
            <p:nvPr/>
          </p:nvGrpSpPr>
          <p:grpSpPr>
            <a:xfrm>
              <a:off x="3330720" y="4343400"/>
              <a:ext cx="761400" cy="228600"/>
              <a:chOff x="3330720" y="4343400"/>
              <a:chExt cx="761400" cy="228600"/>
            </a:xfrm>
          </p:grpSpPr>
          <p:sp>
            <p:nvSpPr>
              <p:cNvPr id="246" name=""/>
              <p:cNvSpPr/>
              <p:nvPr/>
            </p:nvSpPr>
            <p:spPr>
              <a:xfrm>
                <a:off x="3330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78756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9688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41680" y="3505320"/>
            <a:ext cx="1374480" cy="380880"/>
            <a:chOff x="2641680" y="3505320"/>
            <a:chExt cx="1374480" cy="380880"/>
          </a:xfrm>
        </p:grpSpPr>
        <p:grpSp>
          <p:nvGrpSpPr>
            <p:cNvPr id="250" name=""/>
            <p:cNvGrpSpPr/>
            <p:nvPr/>
          </p:nvGrpSpPr>
          <p:grpSpPr>
            <a:xfrm>
              <a:off x="3406680" y="3733920"/>
              <a:ext cx="609480" cy="152280"/>
              <a:chOff x="3406680" y="3733920"/>
              <a:chExt cx="609480" cy="15228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340668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1124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64168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204920" y="2819520"/>
            <a:ext cx="2441520" cy="380880"/>
            <a:chOff x="1204920" y="2819520"/>
            <a:chExt cx="2441520" cy="380880"/>
          </a:xfrm>
        </p:grpSpPr>
        <p:sp>
          <p:nvSpPr>
            <p:cNvPr id="255" name=""/>
            <p:cNvSpPr/>
            <p:nvPr/>
          </p:nvSpPr>
          <p:spPr>
            <a:xfrm>
              <a:off x="120492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817640" y="2971800"/>
              <a:ext cx="1828800" cy="228600"/>
              <a:chOff x="1817640" y="2971800"/>
              <a:chExt cx="1828800" cy="228600"/>
            </a:xfrm>
          </p:grpSpPr>
          <p:sp>
            <p:nvSpPr>
              <p:cNvPr id="257" name=""/>
              <p:cNvSpPr/>
              <p:nvPr/>
            </p:nvSpPr>
            <p:spPr>
              <a:xfrm flipH="1">
                <a:off x="18176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320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9" name=""/>
          <p:cNvGraphicFramePr/>
          <p:nvPr/>
        </p:nvGraphicFramePr>
        <p:xfrm>
          <a:off x="181764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087960" y="2562120"/>
          <a:ext cx="18417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55480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392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6157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55156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65" name=""/>
          <p:cNvGrpSpPr/>
          <p:nvPr/>
        </p:nvGrpSpPr>
        <p:grpSpPr>
          <a:xfrm>
            <a:off x="4694040" y="4343400"/>
            <a:ext cx="1695240" cy="368280"/>
            <a:chOff x="4694040" y="4343400"/>
            <a:chExt cx="1695240" cy="368280"/>
          </a:xfrm>
        </p:grpSpPr>
        <p:grpSp>
          <p:nvGrpSpPr>
            <p:cNvPr id="266" name=""/>
            <p:cNvGrpSpPr/>
            <p:nvPr/>
          </p:nvGrpSpPr>
          <p:grpSpPr>
            <a:xfrm>
              <a:off x="5627520" y="4343400"/>
              <a:ext cx="761760" cy="228600"/>
              <a:chOff x="5627520" y="4343400"/>
              <a:chExt cx="761760" cy="228600"/>
            </a:xfrm>
          </p:grpSpPr>
          <p:sp>
            <p:nvSpPr>
              <p:cNvPr id="267" name=""/>
              <p:cNvSpPr/>
              <p:nvPr/>
            </p:nvSpPr>
            <p:spPr>
              <a:xfrm>
                <a:off x="56275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084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69404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938840" y="3505320"/>
            <a:ext cx="1374120" cy="380880"/>
            <a:chOff x="4938840" y="3505320"/>
            <a:chExt cx="1374120" cy="380880"/>
          </a:xfrm>
        </p:grpSpPr>
        <p:grpSp>
          <p:nvGrpSpPr>
            <p:cNvPr id="271" name=""/>
            <p:cNvGrpSpPr/>
            <p:nvPr/>
          </p:nvGrpSpPr>
          <p:grpSpPr>
            <a:xfrm>
              <a:off x="5703840" y="3733920"/>
              <a:ext cx="609120" cy="152280"/>
              <a:chOff x="5703840" y="3733920"/>
              <a:chExt cx="609120" cy="15228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570384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0840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93884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752472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7362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12808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752148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6664320" y="4343400"/>
            <a:ext cx="1695240" cy="368280"/>
            <a:chOff x="6664320" y="4343400"/>
            <a:chExt cx="1695240" cy="368280"/>
          </a:xfrm>
        </p:grpSpPr>
        <p:grpSp>
          <p:nvGrpSpPr>
            <p:cNvPr id="280" name=""/>
            <p:cNvGrpSpPr/>
            <p:nvPr/>
          </p:nvGrpSpPr>
          <p:grpSpPr>
            <a:xfrm>
              <a:off x="7597800" y="4343400"/>
              <a:ext cx="761760" cy="228600"/>
              <a:chOff x="7597800" y="4343400"/>
              <a:chExt cx="761760" cy="228600"/>
            </a:xfrm>
          </p:grpSpPr>
          <p:sp>
            <p:nvSpPr>
              <p:cNvPr id="281" name=""/>
              <p:cNvSpPr/>
              <p:nvPr/>
            </p:nvSpPr>
            <p:spPr>
              <a:xfrm>
                <a:off x="759780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805464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66432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908760" y="3505320"/>
            <a:ext cx="1374840" cy="380880"/>
            <a:chOff x="6908760" y="3505320"/>
            <a:chExt cx="1374840" cy="380880"/>
          </a:xfrm>
        </p:grpSpPr>
        <p:grpSp>
          <p:nvGrpSpPr>
            <p:cNvPr id="285" name=""/>
            <p:cNvGrpSpPr/>
            <p:nvPr/>
          </p:nvGrpSpPr>
          <p:grpSpPr>
            <a:xfrm>
              <a:off x="7674120" y="3733920"/>
              <a:ext cx="609480" cy="152280"/>
              <a:chOff x="7674120" y="3733920"/>
              <a:chExt cx="609480" cy="152280"/>
            </a:xfrm>
          </p:grpSpPr>
          <p:sp>
            <p:nvSpPr>
              <p:cNvPr id="286" name=""/>
              <p:cNvSpPr/>
              <p:nvPr/>
            </p:nvSpPr>
            <p:spPr>
              <a:xfrm flipH="1">
                <a:off x="76741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7868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90876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472000" y="2819520"/>
            <a:ext cx="2441520" cy="380880"/>
            <a:chOff x="5472000" y="2819520"/>
            <a:chExt cx="2441520" cy="380880"/>
          </a:xfrm>
        </p:grpSpPr>
        <p:sp>
          <p:nvSpPr>
            <p:cNvPr id="290" name=""/>
            <p:cNvSpPr/>
            <p:nvPr/>
          </p:nvSpPr>
          <p:spPr>
            <a:xfrm>
              <a:off x="547200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6084720" y="2971800"/>
              <a:ext cx="1828800" cy="228600"/>
              <a:chOff x="6084720" y="2971800"/>
              <a:chExt cx="1828800" cy="22860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60847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991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94" name=""/>
          <p:cNvGraphicFramePr/>
          <p:nvPr/>
        </p:nvGraphicFramePr>
        <p:xfrm>
          <a:off x="608472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139920" y="6157800"/>
          <a:ext cx="36831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2895480" y="2057400"/>
            <a:ext cx="3810240" cy="457200"/>
            <a:chOff x="2895480" y="2057400"/>
            <a:chExt cx="3810240" cy="457200"/>
          </a:xfrm>
        </p:grpSpPr>
        <p:sp>
          <p:nvSpPr>
            <p:cNvPr id="297" name=""/>
            <p:cNvSpPr/>
            <p:nvPr/>
          </p:nvSpPr>
          <p:spPr>
            <a:xfrm>
              <a:off x="3044880" y="20574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895480" y="2133720"/>
              <a:ext cx="3810240" cy="380880"/>
              <a:chOff x="2895480" y="2133720"/>
              <a:chExt cx="3810240" cy="38088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2895480" y="2133720"/>
                <a:ext cx="18288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24280" y="2133720"/>
                <a:ext cx="19814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971640" y="5029200"/>
            <a:ext cx="2749680" cy="382680"/>
            <a:chOff x="971640" y="5029200"/>
            <a:chExt cx="2749680" cy="382680"/>
          </a:xfrm>
        </p:grpSpPr>
        <p:grpSp>
          <p:nvGrpSpPr>
            <p:cNvPr id="302" name=""/>
            <p:cNvGrpSpPr/>
            <p:nvPr/>
          </p:nvGrpSpPr>
          <p:grpSpPr>
            <a:xfrm>
              <a:off x="1741320" y="5029200"/>
              <a:ext cx="1980000" cy="228600"/>
              <a:chOff x="1741320" y="5029200"/>
              <a:chExt cx="1980000" cy="228600"/>
            </a:xfrm>
          </p:grpSpPr>
          <p:sp>
            <p:nvSpPr>
              <p:cNvPr id="303" name=""/>
              <p:cNvSpPr/>
              <p:nvPr/>
            </p:nvSpPr>
            <p:spPr>
              <a:xfrm>
                <a:off x="174132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92968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97164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238720" y="5029200"/>
            <a:ext cx="2749680" cy="382680"/>
            <a:chOff x="5238720" y="5029200"/>
            <a:chExt cx="2749680" cy="382680"/>
          </a:xfrm>
        </p:grpSpPr>
        <p:grpSp>
          <p:nvGrpSpPr>
            <p:cNvPr id="307" name=""/>
            <p:cNvGrpSpPr/>
            <p:nvPr/>
          </p:nvGrpSpPr>
          <p:grpSpPr>
            <a:xfrm>
              <a:off x="6008760" y="5029200"/>
              <a:ext cx="1979640" cy="228600"/>
              <a:chOff x="6008760" y="5029200"/>
              <a:chExt cx="1979640" cy="228600"/>
            </a:xfrm>
          </p:grpSpPr>
          <p:sp>
            <p:nvSpPr>
              <p:cNvPr id="308" name=""/>
              <p:cNvSpPr/>
              <p:nvPr/>
            </p:nvSpPr>
            <p:spPr>
              <a:xfrm>
                <a:off x="6008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196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23872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71840" y="5715000"/>
            <a:ext cx="4436280" cy="444600"/>
            <a:chOff x="2571840" y="5715000"/>
            <a:chExt cx="4436280" cy="444600"/>
          </a:xfrm>
        </p:grpSpPr>
        <p:grpSp>
          <p:nvGrpSpPr>
            <p:cNvPr id="312" name=""/>
            <p:cNvGrpSpPr/>
            <p:nvPr/>
          </p:nvGrpSpPr>
          <p:grpSpPr>
            <a:xfrm>
              <a:off x="2743200" y="5715000"/>
              <a:ext cx="4264920" cy="380520"/>
              <a:chOff x="2743200" y="5715000"/>
              <a:chExt cx="4264920" cy="380520"/>
            </a:xfrm>
          </p:grpSpPr>
          <p:sp>
            <p:nvSpPr>
              <p:cNvPr id="313" name=""/>
              <p:cNvSpPr/>
              <p:nvPr/>
            </p:nvSpPr>
            <p:spPr>
              <a:xfrm>
                <a:off x="27432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3028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571840" y="57913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ing sorted halv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00280" y="1089000"/>
            <a:ext cx="750564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many useful array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320" y="1905120"/>
          <a:ext cx="8991360" cy="404964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index of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between index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/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1 (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resized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halves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s the left/right elements into a sorted resul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left/right are so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(int[] result, int[] lef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1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lef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2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righ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result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2 &gt;= right.length |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1 &lt; left.length &amp;&amp; left[i1] &lt;= right[i2]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left[i1]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le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1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right[i2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2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 (recursiv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.length &gt;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merge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600200" y="1908000"/>
            <a:ext cx="6005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an entire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given portion of a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mines minIndex (inclusive) through maxIndex (exclusiv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earches an array very efficiently if the array is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search the entire array, or just a range of index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eful for "unfilled" arrays such as the one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array is not sorted, you may need to sort it fir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    0  1  2  3   4   5   6   7   8   9  10  11  12  13  14  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 = {-4, 2, 7, 9, 15, 19, 25, 28, 30, 36, 42, 50, 56, 68, 85, 9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 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1 is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2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2 is -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 the index where the value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valu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und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(insertionPoint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ndex where the elemen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oul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been, if it had been in the array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the value into the array, neg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ToInsert21 = -(index2 + 1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index of an occurrence of target in 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a negative number if the target is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a.length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min &lt;=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mid] &l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mid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mid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-(min + 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binary search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3.3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target value is not found, return its negative insertion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  = binarySearch(data, 42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2 = binarySearch(data, 66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335268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598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the index of an occurrence of the given value 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he given array, or a negative number if no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inarySearch(a,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 0, a.length -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helper to implement search behavi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binarySearch(int[] a, int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 min, int ma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in &gt;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[mid] &lt; target) {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small; go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d + 1, max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large; go lef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n, mid - 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found; a[mid] == 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07Z</dcterms:modified>
  <cp:revision>98</cp:revision>
  <dc:subject/>
  <dc:title>CSE 142 Python Slides</dc:title>
</cp:coreProperties>
</file>