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CFAD-106F-406F-8DE9-67B4C5771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B2DD-1AB2-47B7-98DB-053DCD2B041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34Z</dcterms:modified>
  <cp:revision>266</cp:revision>
  <dc:subject/>
  <dc:title>CSE 142 Python Slides</dc:title>
</cp:coreProperties>
</file>