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2C030-821F-4D92-9FBB-306C629962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// This program computes two people's body mass index (BMI)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// compares them.  The code uses parameters, returns, and Scann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ort java.util.*;  // so that I can use Scann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blic class BMI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blic static void main(String[] args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.out.println("This program reads in data for two people and"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.out.println("computes their body mass index (BMI)"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.out.printl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// finish m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would we round the BMI numb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9C312-D3E6-4615-8A66-7D0CB590555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that == tests equality, not = .  The = is used for the assignment operat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3"/>
          <p:cNvSpPr/>
          <p:nvPr/>
        </p:nvSpPr>
        <p:spPr>
          <a:xfrm>
            <a:off x="0" y="0"/>
            <a:ext cx="9144000" cy="1066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203480" indent="-1731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Slide Number Placeholder 3"/>
          <p:cNvSpPr/>
          <p:nvPr/>
        </p:nvSpPr>
        <p:spPr>
          <a:xfrm>
            <a:off x="822960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90FDB-1EA9-485B-B1F8-293423CB4480}" type="slidenum">
              <a:rPr b="0" lang="en-US" sz="1200" spc="-1" strike="noStrike">
                <a:solidFill>
                  <a:srgbClr val="424242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AutoShape 3"/>
          <p:cNvSpPr/>
          <p:nvPr/>
        </p:nvSpPr>
        <p:spPr>
          <a:xfrm>
            <a:off x="0" y="0"/>
            <a:ext cx="9144000" cy="1390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4596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739800" algn="ctr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030320" algn="ctr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376280" algn="ctr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Building Java Program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hapter 4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ditional Exec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pyright (c) Pearson 2013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Nested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if/els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ques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mula for body mass index (BMI)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program that produces output like the follow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his program reads data for two people and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mputes their body mass index (BMI)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nter next person's information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height (in inches)?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Courier New"/>
              </a:rPr>
              <a:t>70.0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eight (in pounds)?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Courier New"/>
              </a:rPr>
              <a:t>194.25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nter next person's information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height (in inches)?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Courier New"/>
              </a:rPr>
              <a:t>62.5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eight (in pounds)?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Courier New"/>
              </a:rPr>
              <a:t>130.5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erson 1 BMI = 27.86892857142857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overweigh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erson 2 BMI = 23.485824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norma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ifference = 4.3831045714285715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888840" y="1884240"/>
                <a:ext cx="246384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MI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weight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heigh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703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13" name=""/>
          <p:cNvGraphicFramePr/>
          <p:nvPr/>
        </p:nvGraphicFramePr>
        <p:xfrm>
          <a:off x="5867280" y="1295280"/>
          <a:ext cx="3054600" cy="1505160"/>
        </p:xfrm>
        <a:graphic>
          <a:graphicData uri="http://schemas.openxmlformats.org/drawingml/2006/table">
            <a:tbl>
              <a:tblPr/>
              <a:tblGrid>
                <a:gridCol w="1420920"/>
                <a:gridCol w="1633680"/>
              </a:tblGrid>
              <a:tr h="31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eight clas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elow 18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underweigh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.5 - 24.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orm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.0 - 29.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verweigh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.0 and 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be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Nested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if/els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answe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This program computes two people's body mass index (BMI) and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compares them.  The code uses </a:t>
            </a: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Scanner for input, and </a:t>
            </a: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parameters/returns.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mport java.util.*;  </a:t>
            </a: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so that I can use Scanner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class BMI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ntroduction(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double bmi1 = person(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console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double bmi2 = person(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console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report overall results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report(1, bmi1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report(2, bmi2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ln("Difference = " + Math.abs(bmi1 - bmi2)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prints a welcome message explaining the program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static void introduction(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ln("This program reads data for two people and"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ln("computes their body mass index (BMI)."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Nested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if/els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, cont'd.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// reads information for one person, computes their BMI, and returns it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public static double person(Scanner console) {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System.out.println("Enter next person's information:"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System.out.print("height (in inches)? "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double height = console.nextDouble(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System.out.print("weight (in pounds)? "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double weight = console.nextDouble(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double bodyMass = bmi(height, weight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return bodyMass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// Computes/returns a person's BMI based on their height and weight.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public static double bmi(double height, double weight) {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return (weight * 703 / height / height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// Outputs information about a person's BMI and weight status.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public static void report(int number, double bmi) {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System.out.println("Person " + number + " BMI = " + bmi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if (bmi &lt; 18.5) {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System.out.println("underweight"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} else if (bmi &lt; 25) {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System.out.println("normal"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} else if (bmi &lt; 30) {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System.out.println("overweight"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System.out.println("obese"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canners as paramete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any methods need to read input, declare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can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ai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pass it to the other methods as a paramet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sum = readSum3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nsol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The sum is " + sum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Prompts for 3 numbers and returns their su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int readSum3(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Scanner consol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("Type 3 numbers: 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num1 = console.nextInt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num2 = console.nextInt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num3 = console.nextInt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num1 + num2 + num3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Logical operato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sts can be combined using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ogical operato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"Truth tables" for each, used with logical value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1103400" y="1905120"/>
          <a:ext cx="6897600" cy="1460520"/>
        </p:xfrm>
        <a:graphic>
          <a:graphicData uri="http://schemas.openxmlformats.org/drawingml/2006/table">
            <a:tbl>
              <a:tblPr/>
              <a:tblGrid>
                <a:gridCol w="1333440"/>
                <a:gridCol w="1652400"/>
                <a:gridCol w="2914920"/>
                <a:gridCol w="9968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pera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sul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&amp;&amp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2 == 3) &amp;&amp; (-1 &lt; 5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a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||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2 == 3) || (-1 &lt; 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!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o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!(2 == 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3" name=""/>
          <p:cNvGraphicFramePr/>
          <p:nvPr/>
        </p:nvGraphicFramePr>
        <p:xfrm>
          <a:off x="1104840" y="4422600"/>
          <a:ext cx="3721320" cy="1825560"/>
        </p:xfrm>
        <a:graphic>
          <a:graphicData uri="http://schemas.openxmlformats.org/drawingml/2006/table">
            <a:tbl>
              <a:tblPr/>
              <a:tblGrid>
                <a:gridCol w="866880"/>
                <a:gridCol w="866880"/>
                <a:gridCol w="1054080"/>
                <a:gridCol w="9334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q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&amp;&amp;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q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||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q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a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a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a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a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a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a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a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a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4" name=""/>
          <p:cNvGraphicFramePr/>
          <p:nvPr/>
        </p:nvGraphicFramePr>
        <p:xfrm>
          <a:off x="6226200" y="4422600"/>
          <a:ext cx="1774800" cy="1095480"/>
        </p:xfrm>
        <a:graphic>
          <a:graphicData uri="http://schemas.openxmlformats.org/drawingml/2006/table">
            <a:tbl>
              <a:tblPr/>
              <a:tblGrid>
                <a:gridCol w="866880"/>
                <a:gridCol w="9079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!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a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a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valuating logic express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7800" indent="-217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tional operators have lower precedence than math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5 * 7 &gt;= 3 + 5 *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7 - 1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5 * 7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&gt;= 3 +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5 * 6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35    &gt;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3 + 3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35    &gt;= 3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17800" indent="-217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tional operators cannot be "chained" as in algebr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2 &lt;= x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&lt;= 1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true   &lt;= 10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assume that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error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stead, combine multiple tests with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r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||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2 &lt;= x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&amp;&amp;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 &lt;= 1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rue   &amp;&amp; fal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Courier New"/>
              </a:rPr>
              <a:t>fal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2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12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2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2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Logical ques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is the result of each of the following expression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x = 42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y = 17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z = 25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y &lt; x &amp;&amp; y &lt;= z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x % 2 == y % 2 || x % 2 == z % 2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x &lt;= y + z &amp;&amp; x &gt;= y + z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!(x &lt; y &amp;&amp; x &lt; z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x + y) % 2 == 0 || !((z - y) % 2 == 0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77680" indent="-1674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swers: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al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al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rcise: Write a program that prompts for information about a person and uses it to decide whether to date them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2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2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Factoring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if/els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cod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7800" indent="-217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actor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xtracting common/redundant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 reduce or eliminate redundancy from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/els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od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17800" indent="-217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a == 1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a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 = 3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 = b + x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if (a == 2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a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 = 6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y = y + 1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 = b + x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{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a == 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a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 = 9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 = b + x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4419720" y="2895480"/>
            <a:ext cx="4647600" cy="3276720"/>
            <a:chOff x="4419720" y="2895480"/>
            <a:chExt cx="4647600" cy="3276720"/>
          </a:xfrm>
        </p:grpSpPr>
        <p:sp>
          <p:nvSpPr>
            <p:cNvPr id="132" name=""/>
            <p:cNvSpPr/>
            <p:nvPr/>
          </p:nvSpPr>
          <p:spPr>
            <a:xfrm>
              <a:off x="5790960" y="3657600"/>
              <a:ext cx="3276360" cy="1739880"/>
            </a:xfrm>
            <a:prstGeom prst="rect">
              <a:avLst/>
            </a:prstGeom>
            <a:noFill/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ystem.out.println(a)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x = 3 * a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if (a == 2) {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y = y + 10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}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b = b + x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3" name=""/>
            <p:cNvGrpSpPr/>
            <p:nvPr/>
          </p:nvGrpSpPr>
          <p:grpSpPr>
            <a:xfrm>
              <a:off x="4419720" y="2895480"/>
              <a:ext cx="1301040" cy="3276720"/>
              <a:chOff x="4419720" y="2895480"/>
              <a:chExt cx="1301040" cy="3276720"/>
            </a:xfrm>
          </p:grpSpPr>
          <p:sp>
            <p:nvSpPr>
              <p:cNvPr id="134" name=""/>
              <p:cNvSpPr/>
              <p:nvPr/>
            </p:nvSpPr>
            <p:spPr>
              <a:xfrm>
                <a:off x="5033880" y="4535640"/>
                <a:ext cx="686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9720" y="2895480"/>
                <a:ext cx="609480" cy="3276720"/>
              </a:xfrm>
              <a:custGeom>
                <a:avLst/>
                <a:gdLst>
                  <a:gd name="textAreaLeft" fmla="*/ 0 w 609480"/>
                  <a:gd name="textAreaRight" fmla="*/ 219960 w 609480"/>
                  <a:gd name="textAreaTop" fmla="*/ 85320 h 3276720"/>
                  <a:gd name="textAreaBottom" fmla="*/ 3191400 h 3276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if/els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with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retur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Returns the larger of the two given intege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int max(int a, int b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a &gt; b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urn a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urn b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hods can return different values using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f/el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ichever path the code enters, it will return that valu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turning a value causes a method to immediately exi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ll paths through the code must reach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statemen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ll paths must retur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int max(int a, int b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a &gt; b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a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a50021"/>
                </a:solidFill>
                <a:latin typeface="Courier New"/>
              </a:rPr>
              <a:t>// Error: not all paths return a val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following also does not compi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int max(int a, int b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a &gt; b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a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if (b &gt;= a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return b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compiler think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/else/if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ode might skip all paths, even though mathematically it must choose one or the oth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3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13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13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13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3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13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3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13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if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statemen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Executes a block of statements only if a test is tr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es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statemen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statemen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double gpa = console.nextDouble();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if (gpa &gt;= 2.0) {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System.out.println("Application accepted.");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6629400" y="2019240"/>
            <a:ext cx="2239920" cy="2095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if/els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return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ques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quadra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accepts a pair of real number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returns the quadrant for that point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quadrant(-4.2, 17.3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eturn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96040" indent="-1710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the point falls directly on either axis, retur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"/>
          <p:cNvSpPr/>
          <p:nvPr/>
        </p:nvSpPr>
        <p:spPr>
          <a:xfrm>
            <a:off x="4510080" y="2617920"/>
            <a:ext cx="0" cy="220968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048120" y="3714840"/>
            <a:ext cx="281916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698080" y="3524400"/>
            <a:ext cx="99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2600" indent="-282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  <a:ea typeface="Times New Roman"/>
              </a:rPr>
              <a:t>x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268720" y="3519360"/>
            <a:ext cx="93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2600" indent="-282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  <a:ea typeface="Times New Roman"/>
              </a:rPr>
              <a:t>x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072680" y="2236680"/>
            <a:ext cx="99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2600" indent="-282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  <a:ea typeface="Times New Roman"/>
              </a:rPr>
              <a:t>y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024440" y="476568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2600" indent="-282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  <a:ea typeface="Times New Roman"/>
              </a:rPr>
              <a:t>y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636440" y="2867040"/>
            <a:ext cx="188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2600" indent="-282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404040"/>
                </a:solidFill>
                <a:latin typeface="Verdana"/>
                <a:ea typeface="Times New Roman"/>
              </a:rPr>
              <a:t>quadran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01280" y="2881440"/>
            <a:ext cx="188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2600" indent="-282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404040"/>
                </a:solidFill>
                <a:latin typeface="Verdana"/>
                <a:ea typeface="Times New Roman"/>
              </a:rPr>
              <a:t>quadran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501280" y="4100400"/>
            <a:ext cx="188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2600" indent="-282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404040"/>
                </a:solidFill>
                <a:latin typeface="Verdana"/>
                <a:ea typeface="Times New Roman"/>
              </a:rPr>
              <a:t>quadran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636440" y="4086360"/>
            <a:ext cx="188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2600" indent="-282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404040"/>
                </a:solidFill>
                <a:latin typeface="Verdana"/>
                <a:ea typeface="Times New Roman"/>
              </a:rPr>
              <a:t>quadran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if/els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return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answe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public static int quadrant(double x, double y) {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if (x &gt; 0 &amp;&amp; y &gt; 0) {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return 1;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} else if (x &lt; 0 &amp;&amp; y &gt; 0) {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return 2;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} else if (x &lt; 0 &amp;&amp; y &lt; 0) {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return 3;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} else if (x &gt; 0 &amp;&amp; y &lt; 0) {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return 4;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} else {      </a:t>
            </a:r>
            <a:r>
              <a:rPr b="1" lang="en-US" sz="1900" spc="-1" strike="noStrike">
                <a:solidFill>
                  <a:srgbClr val="008080"/>
                </a:solidFill>
                <a:latin typeface="Courier New"/>
              </a:rPr>
              <a:t>// at least one coordinate equals 0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umulative algorithms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dding many numbe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would you find the sum of all integers from 1-1000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This may require a lot of typ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um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= 1 + 2 + 3 + 4 + ... 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"The sum is " + sum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if we want the sum from 1 - 1,000,000?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 the sum up to any maximu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can we generalize the above code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umulative sum loop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int sum = 0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or (int i = 1; i &lt;= 1000; i++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um = sum + i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"The sum is " + sum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umulative su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variable that keeps a sum in progress and is updated repeatedly until summing is fin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1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um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the above code is an attempt at a cumulative sum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1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umulative sum variables must be declared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outsid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the loops that update them, so that they will still exist after the loop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umulative produc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cumulative idea can be used with other operato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product = 1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1; i &lt;= 20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oduct = product * 2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2 ^ 20 = " +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oduc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would we make the base and exponent adjustable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Scanner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and cumul. sum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can do a cumulative sum of user inpu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sum = 0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or (int i = 1; i &lt;= 100; i++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("Type a number: 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um = sum + console.nextInt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"The sum is " + sum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umulative sum ques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ify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ceip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program from Ch. 2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ompt for how many people, and each person's dinner cos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Use static methods to structure the solutio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 log of execu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ow many people ate?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erson #1: How much did your dinner cost?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20.0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erson #2: How much did your dinner cost?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erson #3: How much did your dinner cost?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30.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erson #4: How much did your dinner cost?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10.0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ubtotal: $75.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x: $6.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ip: $11.2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otal: $92.2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umulative sum answe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This program enhances our Receipt program using a cumulative sum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mport java.util.*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Receipt2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uble subtotal = meals(console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sults(subtotal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Prompts for number of people and returns total meal subtotal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double meals(Scanner console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("How many people ate? 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people =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nsole.nextInt()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ouble subtotal = 0.0;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cumulative sum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 (int i = 1; i &lt;= people; i++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("Person #" + i +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": How much did your dinner cost? 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uble personCost =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nsole.nextDouble()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ubtotal = subtotal + personCost;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add to sum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subtotal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umulative answer, cont'd.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Calculates total owed, assuming 8% tax and 15% tip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results(double subtotal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uble tax = subtotal * .08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uble tip = subtotal * .15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uble total = subtotal + tax + tip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Subtotal: $" + subtotal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Tax: $" + tax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Tip: $" + tip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Total: $" + total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if/els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statemen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Executes one block if a test is true, another if fal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es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statement(s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statement(s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double gpa = console.nextDouble();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if (gpa &gt;= 2.0) {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System.out.println("Welcome to Mars University!");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System.out.println("Application denied.");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5638680" y="2003400"/>
            <a:ext cx="3254400" cy="2111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if/els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return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ques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7800" indent="-217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untFacto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return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umber of factors of an integ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ountFactors(24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eturn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8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because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1, 2, 3, 4, 6, 8, 12, and 24 are factors of 24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7800" indent="-21780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8080"/>
                </a:solidFill>
                <a:latin typeface="Courier New"/>
              </a:rPr>
              <a:t>// Returns how many factors the given number has.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public static int countFactors(int number) {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int count = 0;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for (int i = 1; i &lt;= number; i++) {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if (number % i == 0) {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count++;  </a:t>
            </a:r>
            <a:r>
              <a:rPr b="1" lang="en-US" sz="2100" spc="-1" strike="noStrike">
                <a:solidFill>
                  <a:srgbClr val="008080"/>
                </a:solidFill>
                <a:latin typeface="Courier New"/>
              </a:rPr>
              <a:t>// i is a factor of number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return count;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Text Processing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539280" y="3016080"/>
            <a:ext cx="7905960" cy="185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ype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cha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a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: A primitive type representing single character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s stored internally as an array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ha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 s = "Ali G."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t is legal to have variables, parameters, returns of typ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ha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rrounded with apostrophes: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'a'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or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'4'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or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'\n'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or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'\''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har letter =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'P'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letter);      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letter + " Diddy");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P Didd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4191120" y="2562120"/>
          <a:ext cx="4722840" cy="942840"/>
        </p:xfrm>
        <a:graphic>
          <a:graphicData uri="http://schemas.openxmlformats.org/drawingml/2006/table">
            <a:tbl>
              <a:tblPr/>
              <a:tblGrid>
                <a:gridCol w="874440"/>
                <a:gridCol w="641520"/>
                <a:gridCol w="641160"/>
                <a:gridCol w="641520"/>
                <a:gridCol w="641520"/>
                <a:gridCol w="641160"/>
                <a:gridCol w="641520"/>
              </a:tblGrid>
              <a:tr h="47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A'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l'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i'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 '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G'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.'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charA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metho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ha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 in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an be accessed using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harA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metho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pts a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ndex parameter and returns th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h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t that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food = "cookie"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har firstLetter 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od.charAt(0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'c'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firstLetter + " is for " + food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You can use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loop to print or examine each charact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major = "CSE"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0; i &lt; major.length(); i++) {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output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har c 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ajor.charAt(i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           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c);              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                                      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mparing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char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valu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can compar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ha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 with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==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!=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and other operato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 word = console.next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har last = word.charAt(word.length() - 1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last == 's'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word + " is plural.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prints the alphabe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or (char c = 'a';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 &lt;= 'z'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 c++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(c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char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vs.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in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3200400"/>
                <a:tab algn="l" pos="4402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ha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mapped to an integer value internal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3200400"/>
                <a:tab algn="l" pos="4402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lled an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ASCII valu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3200400"/>
                <a:tab algn="l" pos="4402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200400"/>
                <a:tab algn="l" pos="4402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'A'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is  65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'B'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is  66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' '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is  32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0"/>
                <a:tab algn="l" pos="3200400"/>
                <a:tab algn="l" pos="4402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'a'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is  97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'b'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is  98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'*'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is  42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3200400"/>
                <a:tab algn="l" pos="4402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3200400"/>
                <a:tab algn="l" pos="4402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ixing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ha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auses automatic conversion to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0"/>
                <a:tab algn="l" pos="3200400"/>
                <a:tab algn="l" pos="4402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'a' + 10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s 107,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'A' + 'A'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s 130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0"/>
                <a:tab algn="l" pos="3200400"/>
                <a:tab algn="l" pos="4402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3200400"/>
                <a:tab algn="l" pos="4402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o convert a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to the equivalent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ha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type-cast i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0"/>
                <a:tab algn="l" pos="3200400"/>
                <a:tab algn="l" pos="4402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char) ('a' + 2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is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'c'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  <a:ea typeface="Courier New"/>
              </a:rPr>
              <a:t>char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vs.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  <a:ea typeface="Courier New"/>
              </a:rPr>
              <a:t>String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9640" indent="-274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"h"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bu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'h'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ha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they are differe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359640" indent="-274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an object; it contains method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7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s = "h"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s = s.toUpperCase();    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  <a:ea typeface="Courier New"/>
              </a:rPr>
              <a:t>// "H"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len = s.length();   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  <a:ea typeface="Courier New"/>
              </a:rPr>
              <a:t>//  1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char first = s.charAt(0);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  <a:ea typeface="Courier New"/>
              </a:rPr>
              <a:t>// 'H'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7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7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359640" indent="-274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ha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primitive; you can't call methods on i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7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char c = 'h'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Courier New"/>
                <a:ea typeface="Courier New"/>
              </a:rPr>
              <a:t>c = </a:t>
            </a:r>
            <a:r>
              <a:rPr b="1" lang="en-US" sz="2200" spc="-1" strike="noStrike">
                <a:solidFill>
                  <a:srgbClr val="800000"/>
                </a:solidFill>
                <a:latin typeface="Courier New"/>
                <a:ea typeface="Courier New"/>
              </a:rPr>
              <a:t>c.toUpperCase();             // ERRO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Courier New"/>
                <a:ea typeface="Courier New"/>
              </a:rPr>
              <a:t>s = </a:t>
            </a:r>
            <a:r>
              <a:rPr b="1" lang="en-US" sz="2200" spc="-1" strike="noStrike">
                <a:solidFill>
                  <a:srgbClr val="800000"/>
                </a:solidFill>
                <a:latin typeface="Courier New"/>
                <a:ea typeface="Courier New"/>
              </a:rPr>
              <a:t>s.charAt(0).toUpperCase();   // ERRO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i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 + 1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?  What i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 + 1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?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i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 + 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?  What i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 + c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1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1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18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18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18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18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Formatting text with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printf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92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ystem.out.printf("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ormat string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",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rameters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8720" indent="0">
              <a:spcBef>
                <a:spcPts val="601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9240" indent="-21924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format string can contain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placeholders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o insert parameter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48720" indent="-2192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%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teg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48720" indent="-2192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%f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al numb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48720" indent="-2192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%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r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19160" indent="-1594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se placeholders are used instead of + concate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19160" indent="0">
              <a:spcBef>
                <a:spcPts val="499"/>
              </a:spcBef>
              <a:buNone/>
              <a:tabLst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8720" indent="-2192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48720" indent="0">
              <a:lnSpc>
                <a:spcPct val="70000"/>
              </a:lnSpc>
              <a:spcBef>
                <a:spcPts val="249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648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x = 3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8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y = -17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8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f("x i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%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and y i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%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!\n", x, y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8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x is 3 and y is -17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8720" indent="0">
              <a:spcBef>
                <a:spcPts val="201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2" marL="1019160" indent="-15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ntf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oes not drop to the next line unless you writ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\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printf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width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620280" indent="-2383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%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teger,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haracters wide, right-align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-2383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%-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teger,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haracters wide,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lef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-align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-2383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%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al number,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haracters wide, right-align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-2383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or (int i = 1; i &lt;= 3; i++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or (int j = 1; j &lt;= 10; j++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f("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%4d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", (i * j)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);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to end the lin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0">
              <a:spcBef>
                <a:spcPts val="550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utput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1   2   3   4   5   6   7   8   9  10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2   4   6   8  10  12  14  16  18  20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3   6   9  12  15  18  21  24  27  30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printf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precis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39720" indent="-2458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%.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al number, rounded to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digits after decima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%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al number,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hars wide,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digits after decima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%-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al number,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wide (left-align),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fter decima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ouble gpa = 3.253764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f("your GPA i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%.1f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\n", gpa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f("more precisely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%8.3f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\n", gpa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utput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your GPA is 3.3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more precisely:    3.254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3657600" y="5186520"/>
            <a:ext cx="1218960" cy="682560"/>
            <a:chOff x="3657600" y="5186520"/>
            <a:chExt cx="1218960" cy="682560"/>
          </a:xfrm>
        </p:grpSpPr>
        <p:sp>
          <p:nvSpPr>
            <p:cNvPr id="192" name=""/>
            <p:cNvSpPr/>
            <p:nvPr/>
          </p:nvSpPr>
          <p:spPr>
            <a:xfrm>
              <a:off x="3817440" y="5500800"/>
              <a:ext cx="876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2600" indent="-28260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rot="16200000">
              <a:off x="4114800" y="4729320"/>
              <a:ext cx="304560" cy="1218960"/>
            </a:xfrm>
            <a:custGeom>
              <a:avLst/>
              <a:gdLst>
                <a:gd name="textAreaLeft" fmla="*/ 194760 w 304560"/>
                <a:gd name="textAreaRight" fmla="*/ 304920 w 304560"/>
                <a:gd name="textAreaTop" fmla="*/ 31680 h 1218960"/>
                <a:gd name="textAreaBottom" fmla="*/ 1187280 h 1218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" name=""/>
          <p:cNvGrpSpPr/>
          <p:nvPr/>
        </p:nvGrpSpPr>
        <p:grpSpPr>
          <a:xfrm>
            <a:off x="4205160" y="4294080"/>
            <a:ext cx="876960" cy="582480"/>
            <a:chOff x="4205160" y="4294080"/>
            <a:chExt cx="876960" cy="582480"/>
          </a:xfrm>
        </p:grpSpPr>
        <p:sp>
          <p:nvSpPr>
            <p:cNvPr id="195" name=""/>
            <p:cNvSpPr/>
            <p:nvPr/>
          </p:nvSpPr>
          <p:spPr>
            <a:xfrm rot="5400000">
              <a:off x="4533840" y="4533480"/>
              <a:ext cx="228600" cy="457200"/>
            </a:xfrm>
            <a:custGeom>
              <a:avLst/>
              <a:gdLst>
                <a:gd name="textAreaLeft" fmla="*/ 146160 w 228600"/>
                <a:gd name="textAreaRight" fmla="*/ 228960 w 228600"/>
                <a:gd name="textAreaTop" fmla="*/ 11880 h 457200"/>
                <a:gd name="textAreaBottom" fmla="*/ 44532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05160" y="4294080"/>
              <a:ext cx="876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2600" indent="-28260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lational express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 statements and </a:t>
            </a:r>
            <a:r>
              <a:rPr b="0" lang="en-US" sz="25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 loops both use logical tests.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or (int i = 1;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i &lt;= 10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 i++) { 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i &lt;= 10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 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se ar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expressions, seen in Ch. 5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sts us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elational operato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19320" y="3921120"/>
          <a:ext cx="6735600" cy="2556000"/>
        </p:xfrm>
        <a:graphic>
          <a:graphicData uri="http://schemas.openxmlformats.org/drawingml/2006/table">
            <a:tbl>
              <a:tblPr/>
              <a:tblGrid>
                <a:gridCol w="1333440"/>
                <a:gridCol w="2948040"/>
                <a:gridCol w="1549440"/>
                <a:gridCol w="904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pera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=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qu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 + 1 ==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!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oes not equ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3.2 != 2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&l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ess th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 &lt;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a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reater th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 &gt;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&lt;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ess than or equal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26 &lt;= 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a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&gt;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reater than or equal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5.0 &gt;= 5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printf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ques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ify our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ceip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program to better format its outpu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isplay results in the format below, with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$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nd 2 digits after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 log of execu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How many people ate?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erson #1: How much did your dinner cost?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20.0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erson #2: How much did your dinner cost?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erson #3: How much did your dinner cost?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25.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erson #4: How much did your dinner cost?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10.0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ubtotal:  $70.0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ax:       $5.6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ip:       $10.5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otal:     $86.1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printf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answer (partial)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Calculates total owed, assuming 8% tax and 15% ti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results(double subtotal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uble tax = subtotal * .08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uble tip = subtotal * .15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uble total = subtotal + tax + tip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</a:rPr>
              <a:t>// System.out.println("Subtotal: $" + subtotal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</a:rPr>
              <a:t>// System.out.println("Tax: $" + tax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</a:rPr>
              <a:t>// System.out.println("Tip: $" + tip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</a:rPr>
              <a:t>// System.out.println("Total: $" + total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ystem.out.printf("Subtotal: $%.2f\n", subtotal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ystem.out.printf("Tax:      $%.2f\n", tax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ystem.out.printf("Tip:      $%.2f\n", tip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ystem.out.printf("Total:    $%.2f\n", total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mparing string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tional operators such a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==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ail on objec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("What is your name? 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 name = console.next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000" spc="-1" strike="noStrike">
                <a:solidFill>
                  <a:srgbClr val="a50021"/>
                </a:solidFill>
                <a:latin typeface="Courier New"/>
              </a:rPr>
              <a:t>name == "Barney"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I love you, you love me,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We're a happy family!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is code will compile, but it will not print the song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==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ompares objects by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reference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(seen later), so it often give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als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even when two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 have the same letter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equals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metho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jects are compared using a method name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qual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("What is your name? 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 name = console.next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name.equals("Barney"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I love you, you love me,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We're a happy family!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chnically this is a method that returns a value of typ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type used in logical test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String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test metho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lvl="1" marL="6267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67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67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67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67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67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67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676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name = console.next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676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ame.startsWith("Prof"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 {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System.out.println("When are your office hours?")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if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ame.equalsIgnoreCase("STUART"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 {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System.out.println("Let's talk about meta!")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38160" y="1219320"/>
          <a:ext cx="9067680" cy="2690640"/>
        </p:xfrm>
        <a:graphic>
          <a:graphicData uri="http://schemas.openxmlformats.org/drawingml/2006/table">
            <a:tbl>
              <a:tblPr/>
              <a:tblGrid>
                <a:gridCol w="3038400"/>
                <a:gridCol w="6029280"/>
              </a:tblGrid>
              <a:tr h="410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eth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quals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tr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whether two strings contain the same charact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qualsIgnoreCase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tr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whether two strings contain the same characters, ignoring upper vs. lower ca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tartsWith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tr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whether one contains other's characters at sta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ndsWith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tr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whether one contains other's characters at e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ontains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tr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whether the given string is found within this o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7470720" y="1969920"/>
            <a:ext cx="1563840" cy="457200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isuse of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if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's wrong with the following cod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"What percentage did you earn? 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percent = console.nextInt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(percent &gt;= 90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You got an A!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(percent &gt;= 80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You got a B!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(percent &gt;= 70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You got a C!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(percent &gt;= 60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You got a D!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(percent &lt; 60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You got an F!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Nested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if/el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hooses between outcomes using many te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es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tatement(s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if (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es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tatement(s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tatement(s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if (x &gt; 0) {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System.out.println("Positive");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} else if (x &lt; 0) {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System.out.println("Negative");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System.out.println("Zero");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950080" y="1969920"/>
            <a:ext cx="3117600" cy="2435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Nested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if/else/if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lvl="1" marL="568800" indent="-254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it ends with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exactly one path must be take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-254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it ends with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the code might not execute any path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es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tatement(s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if (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es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tatement(s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</a:t>
            </a:r>
            <a:r>
              <a:rPr b="0" lang="en-US" sz="2000" spc="-1" strike="noStrike">
                <a:solidFill>
                  <a:srgbClr val="003399"/>
                </a:solidFill>
                <a:latin typeface="Courier New"/>
              </a:rPr>
              <a:t>if (</a:t>
            </a:r>
            <a:r>
              <a:rPr b="1" lang="en-US" sz="2000" spc="-1" strike="noStrike">
                <a:solidFill>
                  <a:srgbClr val="003399"/>
                </a:solidFill>
                <a:latin typeface="Tahoma"/>
              </a:rPr>
              <a:t>test</a:t>
            </a:r>
            <a:r>
              <a:rPr b="0" lang="en-US" sz="2000" spc="-1" strike="noStrike">
                <a:solidFill>
                  <a:srgbClr val="003399"/>
                </a:solidFill>
                <a:latin typeface="Courier New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tatement(s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0960" indent="-210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if (place == 1) {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System.out.println("Gold medal!");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} else if (place == 2) {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System.out.println("Silver medal!");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} else if (place == 3) {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System.out.println("Bronze medal.");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5791320" y="2013120"/>
            <a:ext cx="3276360" cy="2863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Nested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if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structur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0" y="1295280"/>
          <a:ext cx="9144000" cy="5124600"/>
        </p:xfrm>
        <a:graphic>
          <a:graphicData uri="http://schemas.openxmlformats.org/drawingml/2006/table">
            <a:tbl>
              <a:tblPr/>
              <a:tblGrid>
                <a:gridCol w="4572000"/>
                <a:gridCol w="4572000"/>
              </a:tblGrid>
              <a:tr h="2467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9080" indent="-28908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xactly 1 path   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mutually exclusiv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8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90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f (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st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 {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90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atement(s)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90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} else if (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st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 {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90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atement(s)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90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} else {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90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atement(s)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90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}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2880">
                      <a:solidFill>
                        <a:srgbClr val="808080"/>
                      </a:solidFill>
                    </a:lnR>
                    <a:lnT>
                      <a:noFill/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9080" indent="-28908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 or 1 path   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mutually exclusiv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8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90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f (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st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 {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90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atement(s)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90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} else if (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st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 {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90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atement(s)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90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} else if (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st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 {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90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atement(s)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90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}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90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8242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2117880" indent="-289080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117880" indent="-28908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Tahoma"/>
                        <a:buChar char="•"/>
                        <a:tabLst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, 1, or many paths   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independent tests; not exclusiv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2743200">
                        <a:lnSpc>
                          <a:spcPct val="8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1178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f (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st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 {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1178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atement(s)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1178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}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1178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f (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st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 {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1178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atement(s)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1178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}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1178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f (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st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 {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1178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atement(s)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1178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}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80808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Which nested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if/els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(1) if/if/if   (2) nested if/else   (3) nested if/else/i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ether a user is lower, middle, or upper-class based on incom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(2)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ste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/ else if / els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ether you made the dean's list (GPA ≥ 3.8) or honor roll (3.5-3.8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(3)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ste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/ else if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ether a number is divisible by 2, 3, and/or 5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(1)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quential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/ if / if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uting a grade of A, B, C, D, or F based on a percentag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(2)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ste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/ else if / else if / else if / el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8T20:57:21Z</dcterms:created>
  <dc:creator>Marty Stepp</dc:creator>
  <dc:description>Slides used in the University of Washington's CSE 142 Python sessions.</dc:description>
  <cp:keywords>Python</cp:keywords>
  <dc:language>en-US</dc:language>
  <cp:lastModifiedBy>Marty Stepp</cp:lastModifiedBy>
  <dcterms:modified xsi:type="dcterms:W3CDTF">2013-03-28T21:52:12Z</dcterms:modified>
  <cp:revision>122</cp:revision>
  <dc:subject/>
  <dc:title>CSE 142 Python Slides</dc:title>
</cp:coreProperties>
</file>