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B27A-348C-4984-8B3B-4B8AB74CD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7EEE-C10B-45D1-935C-A9DF1E5D33F7}"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AC85-F98A-4E00-8492-42E032CBEF03}"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2:23Z</dcterms:modified>
  <cp:revision>124</cp:revision>
  <dc:subject/>
  <dc:title>CSE 142 Python Slides</dc:title>
</cp:coreProperties>
</file>