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42FB-F5AD-45DB-AFBE-3A7E80C87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66DF-661E-45AD-971B-EAF3488892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basically not possible to write a swap method that accepts two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p can't escape from itself to modify the outsid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rt of like the villains in the holodeck on Star Trek; they can wreak havoc in their holo-world, but they can't leave and attack the real Enterprise outs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obably won't reach this in lecture; it's here just in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time: Curve the scores; add a fixed number to each sco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t don't allow a curved score to exceed the max of 100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ime purposes, I will begin with the code already written to open the file and read each s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956D-1A45-4709-A0C2-3FD4BA5F8F4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array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s to access array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assign each element a value in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ng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iel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stores its number of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use parentheses like a String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xpressions refer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of any array?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ddle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n array to solve the weather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[] temps = new int[days];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um += temps[i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ount = 0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array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know what the array's elements will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figures out the size by counting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Array mystery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each element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lement values are stored in the following arra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mitations of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resize an existing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new int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.length = 10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compare array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2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 == a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.equals(a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does not know how to print itsel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1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[I@98f8c4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useful static methods for manipulating arr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320" y="2209680"/>
          <a:ext cx="8991360" cy="340992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to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array as a parameter an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of its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n we solve this proble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program (input underline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" descr="CLOUDS&amp;RAIN"/>
          <p:cNvPicPr/>
          <p:nvPr/>
        </p:nvPicPr>
        <p:blipFill>
          <a:blip r:embed="rId1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eather program to print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emperatures: [45, 44, 39, 48, 37, 46, 5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coldest days: 37, 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hottest days: 53, 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2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[] temps = new int[days]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   </a:t>
            </a: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(same as Weather program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emperatures: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toString(temps)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sort(temp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coldest days: " + temps[0] + ", " + temps[1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hottest days: " + temps[temps.length - 1] +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", " + temps[temps.length - 2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as paramet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apping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wrong with this code?  What is its out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d code should be replaced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al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reverses the elements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if the array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1, 42, -5, 27, 0, 8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fter your reversal code, it should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89, 0, 27, -5, 42, 1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should work for an array of any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think about swapping various element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ap pairs of elements from the edges;  work inw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flipV="1">
            <a:off x="29718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199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 flipV="1">
            <a:off x="35812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100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[11, 42, -5, 27, 0, 89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verse the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goes too far and un-reverses the array!  Fixed vers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 /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write methods that accept arrays as paramete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we need to return the new array contents after reversa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the average of the given array of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number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don't specify the array's length (but you can examine 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array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figure out the average TA I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q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IQ = " + av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you don't wri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passing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the problem is ha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each input value tw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mpute the average (a cumulative su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unt how many were abov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read each value into a variable... but w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days are needed until the program ru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variables to dec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a way to declare many variables in one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a new array with two copies of each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Example: [1, 4, 0, 7] -&gt; [1, 1, 4, 4, 0, 0, 7, 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tter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int[2 * numbers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]    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 + 1]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stutte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tutter(iq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Arrays.toString(stuttered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6, 126, 84, 84, 149, 149, 167, 167, 95, 9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B054-40F7-4335-A598-340AEE294022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, passed as parameters, or retur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rimitive types in Java use value semantic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ference semantics (objects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the object is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15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toString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[7, 15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533520" y="5803920"/>
            <a:ext cx="2523960" cy="444600"/>
            <a:chOff x="533520" y="5803920"/>
            <a:chExt cx="2523960" cy="444600"/>
          </a:xfrm>
        </p:grpSpPr>
        <p:sp>
          <p:nvSpPr>
            <p:cNvPr id="199" name=""/>
            <p:cNvSpPr/>
            <p:nvPr/>
          </p:nvSpPr>
          <p:spPr>
            <a:xfrm>
              <a:off x="533520" y="58039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679760" y="5819760"/>
              <a:ext cx="1377720" cy="380880"/>
              <a:chOff x="1679760" y="5819760"/>
              <a:chExt cx="1377720" cy="380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67120" y="60102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9760" y="581976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171840" y="5791320"/>
            <a:ext cx="2438280" cy="444240"/>
            <a:chOff x="6171840" y="5791320"/>
            <a:chExt cx="2438280" cy="444240"/>
          </a:xfrm>
        </p:grpSpPr>
        <p:sp>
          <p:nvSpPr>
            <p:cNvPr id="204" name=""/>
            <p:cNvSpPr/>
            <p:nvPr/>
          </p:nvSpPr>
          <p:spPr>
            <a:xfrm>
              <a:off x="7467480" y="5791320"/>
              <a:ext cx="114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171840" y="5829120"/>
              <a:ext cx="1295280" cy="380520"/>
              <a:chOff x="6171840" y="5829120"/>
              <a:chExt cx="1295280" cy="38052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6171840" y="6019200"/>
                <a:ext cx="91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86240" y="5829120"/>
                <a:ext cx="380880" cy="380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nd object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212" name="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216" name="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object is passed as a parameter,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ied.  The parameter refers to the same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parameter is modified, i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the original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231" name="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29360" y="3581280"/>
            <a:ext cx="1631880" cy="1143000"/>
            <a:chOff x="7029360" y="3581280"/>
            <a:chExt cx="1631880" cy="1143000"/>
          </a:xfrm>
        </p:grpSpPr>
        <p:sp>
          <p:nvSpPr>
            <p:cNvPr id="235" name=""/>
            <p:cNvSpPr/>
            <p:nvPr/>
          </p:nvSpPr>
          <p:spPr>
            <a:xfrm>
              <a:off x="7029360" y="35812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pass by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re passed as parameters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s made in the method are also seen by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ase(iq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increas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827840" y="3581280"/>
            <a:ext cx="554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7238880" y="3505320"/>
            <a:ext cx="1371600" cy="1739880"/>
            <a:chOff x="7238880" y="3505320"/>
            <a:chExt cx="1371600" cy="1739880"/>
          </a:xfrm>
        </p:grpSpPr>
        <p:sp>
          <p:nvSpPr>
            <p:cNvPr id="244" name=""/>
            <p:cNvSpPr/>
            <p:nvPr/>
          </p:nvSpPr>
          <p:spPr>
            <a:xfrm>
              <a:off x="7238880" y="350532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 flipH="1">
              <a:off x="8229240" y="375768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240" y="35686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57600" y="5486400"/>
            <a:ext cx="1980720" cy="444600"/>
            <a:chOff x="3657600" y="5486400"/>
            <a:chExt cx="1980720" cy="444600"/>
          </a:xfrm>
        </p:grpSpPr>
        <p:sp>
          <p:nvSpPr>
            <p:cNvPr id="248" name=""/>
            <p:cNvSpPr/>
            <p:nvPr/>
          </p:nvSpPr>
          <p:spPr>
            <a:xfrm>
              <a:off x="3657600" y="5486400"/>
              <a:ext cx="102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8"/>
            <p:cNvSpPr/>
            <p:nvPr/>
          </p:nvSpPr>
          <p:spPr>
            <a:xfrm>
              <a:off x="4952880" y="5702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7040" y="552132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vers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 / 2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ject that stores many values of the sam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value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0-based integer to access an element from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9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9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0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0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s of integers and two indexes and swaps the elements at those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1, 1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56, 3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s parameters and swaps their entire cont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two arrays are the same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20, 50, 8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All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20, 50, 8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2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34, 5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values at the given two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entire contents of a1 with those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All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[i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2[i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nd returns a new array containing all elements of the first array followed by all elements of the seco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3 = merge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merges 3 arrays simila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3 = {444, 222, -1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4 = merge3(a1, a2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, 444, 222, 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llowed by all elements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[] merge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esult = new int[a1.length + a2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.length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,a2,a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4 = new int[a1.length + a2.length + a3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i] = a1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a1.length + i] = a2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3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.length + a2.length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a3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horter version that calls mer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(merge(a1, a2)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for tally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git value that occurs most frequently in a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number 669260267 contai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0, two 2s, four 6es, one 7, and one 9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a tie, return the digit with the lower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571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declare 10 counter variable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better solution is to use an array of size 1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store the counter for digit valu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for 669260267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build such an array?  And how does it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19320" y="44449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ng an array of tall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ssume n = 669260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all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digit value that occurs most frequently in 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reaks ties by choosing the smaller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ostFrequentDigit(int 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git = n % 1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luck off a digit and tally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nd the most frequently occurring dig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est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 counts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s[i] &gt; counts[bestIndex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stIndex =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estInde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file of integer exam scores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hat will print a histogram of stars indicating the number of students who earned each unique exam sc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a file of test scores and shows a histogram of score distribu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file of section attenda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e next sl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nyyynayayynyyyayanyyyaynayyayyanayyyanyay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yyanyyyyayanaayyanayyyananayayaynyayayynyny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ayaynyyayyanynnyyyayyanayaynannnyyayyayay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produce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20, 17, 19, 16, 1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100.0, 85.0, 95.0, 80.0, 65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20, 16, 16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100.0, 80.0, 80.0, 5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18, 17, 20, 16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90.0, 85.0, 100.0, 8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earn 3 points for each section attended up to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line represents a se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ne consists of 9 weeks' worth of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week has 5 characters because there are 5 stud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in each week, each character represents one stud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 student was abs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0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but didn't do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2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and did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3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input fi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76320" y="2347920"/>
          <a:ext cx="8705880" cy="11253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nyyynayayynyyyayanyyyaynayyayyanayyyanyay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yanyyyyayanaayyanayyyananayayaynyayayyny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ayaynyyayyanynnyyyayyanayaynannnyyayyayay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6320" y="19717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  2    3    4    5    6    7    8 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76320" y="15415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345123451234512345123451234512345123451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15"/>
          <p:cNvSpPr/>
          <p:nvPr/>
        </p:nvSpPr>
        <p:spPr>
          <a:xfrm>
            <a:off x="1828800" y="2403360"/>
            <a:ext cx="6858000" cy="327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828800" y="2405160"/>
            <a:ext cx="6858000" cy="326880"/>
            <a:chOff x="1828800" y="2405160"/>
            <a:chExt cx="6858000" cy="326880"/>
          </a:xfrm>
        </p:grpSpPr>
        <p:sp>
          <p:nvSpPr>
            <p:cNvPr id="288" name="Rectangle 15"/>
            <p:cNvSpPr/>
            <p:nvPr/>
          </p:nvSpPr>
          <p:spPr>
            <a:xfrm>
              <a:off x="1828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2590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3352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4114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4876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5638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6400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7162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7924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7772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7619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7467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7315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62481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60958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9436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57909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4724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"/>
            <p:cNvSpPr/>
            <p:nvPr/>
          </p:nvSpPr>
          <p:spPr>
            <a:xfrm>
              <a:off x="4572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4419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4267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3200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3047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2895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2743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1981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2133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286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2438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90920" y="2405160"/>
            <a:ext cx="5333400" cy="326880"/>
            <a:chOff x="2590920" y="2405160"/>
            <a:chExt cx="5333400" cy="326880"/>
          </a:xfrm>
        </p:grpSpPr>
        <p:sp>
          <p:nvSpPr>
            <p:cNvPr id="318" name="Rectangle 15"/>
            <p:cNvSpPr/>
            <p:nvPr/>
          </p:nvSpPr>
          <p:spPr>
            <a:xfrm>
              <a:off x="3352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"/>
            <p:cNvSpPr/>
            <p:nvPr/>
          </p:nvSpPr>
          <p:spPr>
            <a:xfrm>
              <a:off x="4114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4876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"/>
            <p:cNvSpPr/>
            <p:nvPr/>
          </p:nvSpPr>
          <p:spPr>
            <a:xfrm>
              <a:off x="5638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6400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7162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259092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76320" y="2363760"/>
          <a:ext cx="8705880" cy="112572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 == 'y' or 'n' or 'a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point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ta transform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problems we transform data between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digit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nt of each digit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frequent dig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each transformation is computed/stored as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tructure, a transformation is often put in its own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map between data and array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224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os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tor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 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 we read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f input value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tore it at array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icit mapp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J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0, 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X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y our Sections program to use static methods that use arrays as parameters and retur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countPoints(lin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sults(section, points, grade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results(int section, int[] points, double[] grade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score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[] countPoints(String lin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// c == 'y'  or  c == 'n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ngth can be any integer exp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initially gets a "zero-equivalent"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828800" y="507528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: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's length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7160" y="497844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28Z</dcterms:modified>
  <cp:revision>126</cp:revision>
  <dc:subject/>
  <dc:title>CSE 142 Python Slides</dc:title>
</cp:coreProperties>
</file>