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43D288-1DCE-417C-BD5C-2E25F0533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76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60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76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60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176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60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176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60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812EE1-967D-4EF6-8C0D-341BC7E5A2F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55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51040" y="3328920"/>
            <a:ext cx="3198960" cy="1064880"/>
            <a:chOff x="2651040" y="3328920"/>
            <a:chExt cx="3198960" cy="1064880"/>
          </a:xfrm>
        </p:grpSpPr>
        <p:sp>
          <p:nvSpPr>
            <p:cNvPr id="122" name=""/>
            <p:cNvSpPr/>
            <p:nvPr/>
          </p:nvSpPr>
          <p:spPr>
            <a:xfrm>
              <a:off x="2651040" y="3328920"/>
              <a:ext cx="255132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67160" y="3738960"/>
              <a:ext cx="582840" cy="6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51040" y="3657600"/>
            <a:ext cx="3208320" cy="736560"/>
            <a:chOff x="2651040" y="3657600"/>
            <a:chExt cx="3208320" cy="736560"/>
          </a:xfrm>
        </p:grpSpPr>
        <p:sp>
          <p:nvSpPr>
            <p:cNvPr id="125" name=""/>
            <p:cNvSpPr/>
            <p:nvPr/>
          </p:nvSpPr>
          <p:spPr>
            <a:xfrm>
              <a:off x="5276880" y="3740040"/>
              <a:ext cx="58248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1040" y="3657600"/>
              <a:ext cx="25513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8680" indent="-2667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4572000"/>
            <a:ext cx="2589120" cy="608040"/>
            <a:chOff x="5486400" y="4572000"/>
            <a:chExt cx="2589120" cy="608040"/>
          </a:xfrm>
        </p:grpSpPr>
        <p:sp>
          <p:nvSpPr>
            <p:cNvPr id="145" name=""/>
            <p:cNvSpPr/>
            <p:nvPr/>
          </p:nvSpPr>
          <p:spPr>
            <a:xfrm>
              <a:off x="548640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712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8520" indent="-21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219320"/>
          <a:ext cx="6644880" cy="5260320"/>
        </p:xfrm>
        <a:graphic>
          <a:graphicData uri="http://schemas.openxmlformats.org/drawingml/2006/table">
            <a:tbl>
              <a:tblPr/>
              <a:tblGrid>
                <a:gridCol w="3083400"/>
                <a:gridCol w="356148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172200" y="5243400"/>
          <a:ext cx="2773080" cy="1010880"/>
        </p:xfrm>
        <a:graphic>
          <a:graphicData uri="http://schemas.openxmlformats.org/drawingml/2006/table">
            <a:tbl>
              <a:tblPr/>
              <a:tblGrid>
                <a:gridCol w="1220040"/>
                <a:gridCol w="155304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1680" indent="-172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44160" y="3581280"/>
            <a:ext cx="4905000" cy="2431080"/>
            <a:chOff x="2144160" y="3581280"/>
            <a:chExt cx="4905000" cy="2431080"/>
          </a:xfrm>
        </p:grpSpPr>
        <p:sp>
          <p:nvSpPr>
            <p:cNvPr id="166" name=""/>
            <p:cNvSpPr/>
            <p:nvPr/>
          </p:nvSpPr>
          <p:spPr>
            <a:xfrm>
              <a:off x="214416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7120" y="3659040"/>
              <a:ext cx="144612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3016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40120" y="4856040"/>
              <a:ext cx="147312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16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889000" y="4951440"/>
              <a:ext cx="152532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115800" y="3965400"/>
              <a:ext cx="1297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9008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840" indent="-213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520" indent="-22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520" indent="-22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75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0">
              <a:spcBef>
                <a:spcPts val="224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2520" indent="-1681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2520" indent="0">
              <a:spcBef>
                <a:spcPts val="649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6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6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0">
              <a:spcBef>
                <a:spcPts val="37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0">
              <a:spcBef>
                <a:spcPts val="37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4387680"/>
            <a:ext cx="8075520" cy="2019240"/>
            <a:chOff x="304920" y="4387680"/>
            <a:chExt cx="8075520" cy="2019240"/>
          </a:xfrm>
        </p:grpSpPr>
        <p:sp>
          <p:nvSpPr>
            <p:cNvPr id="203" name=""/>
            <p:cNvSpPr/>
            <p:nvPr/>
          </p:nvSpPr>
          <p:spPr>
            <a:xfrm>
              <a:off x="30492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52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0" y="3564000"/>
            <a:ext cx="4417920" cy="822240"/>
            <a:chOff x="2286000" y="3564000"/>
            <a:chExt cx="4417920" cy="822240"/>
          </a:xfrm>
        </p:grpSpPr>
        <p:grpSp>
          <p:nvGrpSpPr>
            <p:cNvPr id="207" name=""/>
            <p:cNvGrpSpPr/>
            <p:nvPr/>
          </p:nvGrpSpPr>
          <p:grpSpPr>
            <a:xfrm>
              <a:off x="2286000" y="3564000"/>
              <a:ext cx="4188960" cy="822240"/>
              <a:chOff x="2286000" y="3564000"/>
              <a:chExt cx="4188960" cy="82224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286000" y="3564000"/>
                <a:ext cx="182952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5520" y="3564000"/>
                <a:ext cx="15048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15520" y="3564000"/>
                <a:ext cx="235944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699160" y="3625920"/>
              <a:ext cx="10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name = "P. Diddy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97160" y="2446200"/>
          <a:ext cx="6536880" cy="831600"/>
        </p:xfrm>
        <a:graphic>
          <a:graphicData uri="http://schemas.openxmlformats.org/drawingml/2006/table">
            <a:tbl>
              <a:tblPr/>
              <a:tblGrid>
                <a:gridCol w="1379880"/>
                <a:gridCol w="644400"/>
                <a:gridCol w="646560"/>
                <a:gridCol w="642960"/>
                <a:gridCol w="644760"/>
                <a:gridCol w="644400"/>
                <a:gridCol w="645120"/>
                <a:gridCol w="644400"/>
                <a:gridCol w="64440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280" y="1371600"/>
          <a:ext cx="8840520" cy="3090600"/>
        </p:xfrm>
        <a:graphic>
          <a:graphicData uri="http://schemas.openxmlformats.org/drawingml/2006/table">
            <a:tbl>
              <a:tblPr/>
              <a:tblGrid>
                <a:gridCol w="3696120"/>
                <a:gridCol w="51444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39720" indent="-24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  <a:ea typeface="Noto Sans CJK SC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9880" y="1339920"/>
          <a:ext cx="8002440" cy="1993320"/>
        </p:xfrm>
        <a:graphic>
          <a:graphicData uri="http://schemas.openxmlformats.org/drawingml/2006/table">
            <a:tbl>
              <a:tblPr/>
              <a:tblGrid>
                <a:gridCol w="2134080"/>
                <a:gridCol w="586836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0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2971800"/>
            <a:ext cx="228600" cy="144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224160"/>
            <a:ext cx="228600" cy="1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7960" y="3886200"/>
            <a:ext cx="228600" cy="144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38360" y="5765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276720" y="5867280"/>
            <a:ext cx="2364840" cy="960480"/>
            <a:chOff x="3276720" y="5867280"/>
            <a:chExt cx="2364840" cy="960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9040" y="5867280"/>
              <a:ext cx="99252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H="1" flipV="1">
              <a:off x="3276720" y="5925960"/>
              <a:ext cx="1372320" cy="30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V="1">
            <a:off x="3076560" y="3351240"/>
            <a:ext cx="961920" cy="23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72160" y="3200400"/>
            <a:ext cx="574200" cy="473040"/>
            <a:chOff x="5672160" y="3200400"/>
            <a:chExt cx="574200" cy="4730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132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064920" y="3338640"/>
              <a:ext cx="181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0" name=""/>
          <p:cNvGraphicFramePr/>
          <p:nvPr/>
        </p:nvGraphicFramePr>
        <p:xfrm>
          <a:off x="7543800" y="2743200"/>
          <a:ext cx="1296720" cy="399600"/>
        </p:xfrm>
        <a:graphic>
          <a:graphicData uri="http://schemas.openxmlformats.org/drawingml/2006/table">
            <a:tbl>
              <a:tblPr/>
              <a:tblGrid>
                <a:gridCol w="648360"/>
                <a:gridCol w="64836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238880" y="3262320"/>
          <a:ext cx="1595160" cy="399600"/>
        </p:xfrm>
        <a:graphic>
          <a:graphicData uri="http://schemas.openxmlformats.org/drawingml/2006/table">
            <a:tbl>
              <a:tblPr/>
              <a:tblGrid>
                <a:gridCol w="947160"/>
                <a:gridCol w="6480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Noto Sans CJK S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Noto Sans CJK SC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53800" y="4419720"/>
            <a:ext cx="6916320" cy="1310040"/>
            <a:chOff x="1153800" y="4419720"/>
            <a:chExt cx="6916320" cy="1310040"/>
          </a:xfrm>
        </p:grpSpPr>
        <p:sp>
          <p:nvSpPr>
            <p:cNvPr id="102" name=""/>
            <p:cNvSpPr/>
            <p:nvPr/>
          </p:nvSpPr>
          <p:spPr>
            <a:xfrm>
              <a:off x="115380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6400" y="4816440"/>
              <a:ext cx="14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3980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81644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08320" y="46292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428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9400" y="5021280"/>
              <a:ext cx="1473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9800" y="5318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551808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0832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9796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/>
  <dcterms:modified xsi:type="dcterms:W3CDTF">2022-02-12T15:54:17Z</dcterms:modified>
  <cp:revision>123</cp:revision>
  <dc:subject/>
  <dc:title>CSE 142 Python Slides</dc:title>
</cp:coreProperties>
</file>