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41177301"/>
        <c:axId val="60117749"/>
      </c:barChart>
      <c:catAx>
        <c:axId val="4117730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17749"/>
        <c:crossesAt val="0"/>
        <c:auto val="1"/>
        <c:lblAlgn val="ctr"/>
        <c:lblOffset val="100"/>
        <c:noMultiLvlLbl val="0"/>
      </c:catAx>
      <c:valAx>
        <c:axId val="60117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7730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DFF6-D6CC-47F7-853B-1B763CED2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1E1D-30F6-4C1A-B0F6-8277044501C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1:48Z</dcterms:modified>
  <cp:revision>117</cp:revision>
  <dc:subject/>
  <dc:title>CSE 142 Python Slides</dc:title>
</cp:coreProperties>
</file>