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A0BA-E5C3-474E-B87C-CEC943AB0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F820-8B0C-4444-A0F9-6DFEEF9EFA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: You can base your knowledge of variable B on variable A if B's value is related to A'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lide, we know things about next, so we also know things about prev at certai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4459-7738-4746-989C-69341D9B592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Logic and Indefinite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egories of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ecutes a known number of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s we have seen are definite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"hello" 10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all the prime numbers up to an intege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each odd number between 5 and 12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ere the number of times its body repeats is not known in adv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pt the user until they type a non-negative numb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random numbers until a prime number is prin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until the user has types "q" to qu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executes i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dy as long as a logical test is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1;   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um &lt;= 200) {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 = num * 2;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p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utput:  1 2 4 8 16 32 64 12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while"/>
          <p:cNvPicPr/>
          <p:nvPr/>
        </p:nvPicPr>
        <p:blipFill>
          <a:blip r:embed="rId1"/>
          <a:stretch/>
        </p:blipFill>
        <p:spPr>
          <a:xfrm>
            <a:off x="6553080" y="1471680"/>
            <a:ext cx="2459160" cy="23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inds the first factor of 91, other than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9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 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n % factor !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rst factor is " + facto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 First factor is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better th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we don't know how many times we will need to increment to find the fa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value that signals the end of user inpu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ntinel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peats until a sentinel value is s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Write a program that prompts the user for numbers until the user types 0, then outputs their s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this case, 0 is the sentinel valu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sum is 6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entine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0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program to use a sentinel value of -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total is 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ee the problem, change the sentinel's value to -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e solution produces the wrong output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total was 7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 with our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ode uses a pattern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 input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last pass, the sentinel -1 is added to the su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 (-1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add input (-1)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a fencepost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rea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s, but only sum the fir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1 of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fencepos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add input to the sum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wire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inel loops often utilize a fencepost "loop-and-a-half" style solution by pulling some code out of the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rrect sentinel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-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m = sum + number;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deceptive problem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each number from 1 to a given maximum, separated by comma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e 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pri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as a consta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static final int SENTINEL =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andom numb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generates pseudo-random nu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ound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Numb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0-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2666880"/>
          <a:ext cx="8809200" cy="179244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 in the range [0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 other words, 0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 inclu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Doubl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real number in the range [0.0, 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ating random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usage: to get a random number from 1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20) +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-20 inclus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et a number in arbitrary range 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inclusiv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nextInt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+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is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-240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random integer between 4 and 10 inclusiv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7) + 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declaration, how would you g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1 and 47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1 = rand.nextInt(47)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23 and 30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2 = rand.nextInt(8) + 2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even number between 4 and 12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3 = rand.nextInt(5) * 2 + 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tween 0.0 - 1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Get a random GPA value between 1.5 and 4.0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andomGpa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Doubl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2.5 + 1.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set of possible values can be mapped to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to randomly play Rock-Paper-Scisso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 = rand.nextI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r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Rock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r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Paper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 =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Scissor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simulates rolling of two 6-sided dice until their combined result comes up as 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sum !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 the dice o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1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lays an adding g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user to solve random adding problems with 2-5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user gets 1 point for a correct answer, 0 for incorr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stops after 3 incorrect answ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10 + 3 + 10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 + 6 + 7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9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+ 1 + 7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2 + 10 + 9 + 7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earned 4 total poi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sks the user to do adding problems and scores the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AddingG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until user gets 3 wro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oint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wrong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wrong &lt; 3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esult = play(console, rand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one g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esult &gt;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ong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earned " + points + " total poi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 + ", 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, "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Builds one addition problem and presents it to the us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1 point if you get it right, 0 if wr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play(Scanner console, Random ran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 the operands being added, and sum th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operands = rand.nextInt(4) + 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operands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=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+ " + 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=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ad user's guess and report whether it was corr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uess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guess == sum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Wrong! The answer was 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forms its test at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each repet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the loop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}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ody will run at least o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Example: prompt until correct password is ty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phra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your password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hras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!phrase.equals("abracadabra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3" descr="do_while"/>
          <p:cNvPicPr/>
          <p:nvPr/>
        </p:nvPicPr>
        <p:blipFill>
          <a:blip r:embed="rId1"/>
          <a:stretch/>
        </p:blipFill>
        <p:spPr>
          <a:xfrm>
            <a:off x="7385040" y="2178000"/>
            <a:ext cx="15336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dify the previous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ic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good fit for our pa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1 = rand.nextInt(6) + 1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ne rol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while (sum != 7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thods that are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thods return logical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all to such a method is used 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a loop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your first name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Dr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ill you marry me?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ndsWith("Esq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nd I am Ted 'Theodore' Loga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8160" y="137160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ogical type whose values 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gical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ctually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as a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from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 a method that return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use it as a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minor 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age &lt; 21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isProf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lovesCS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low only CSE-loving students over 2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nor || isProf || !lovesC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Can't enter the club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is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fu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pture a complex logical test result and use it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write a method that does a complex test and returns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s code more read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pass around the result of a logical test (as param/retur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Age    = age &gt;= 12 &amp;&amp; age &lt; 2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Height = height &gt;= 78 &amp;&amp; height &lt; 8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rich       = salary &gt;= 100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goodAge &amp;&amp; goodHeight) || ri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Okay, let's go out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t's not you, it's me..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actors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s to methods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t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rime(5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 pos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pri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umbers but need on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1 comm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building a fence with wires separated by po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use a flawed algorithm that repeatedly places a post + wire, the last post will have an extra dangling wir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for (length of fenc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2286000" y="4876920"/>
            <a:ext cx="4952520" cy="990360"/>
            <a:chOff x="2286000" y="4876920"/>
            <a:chExt cx="4952520" cy="990360"/>
          </a:xfrm>
        </p:grpSpPr>
        <p:grpSp>
          <p:nvGrpSpPr>
            <p:cNvPr id="95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98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" name="Group 10"/>
            <p:cNvGrpSpPr/>
            <p:nvPr/>
          </p:nvGrpSpPr>
          <p:grpSpPr>
            <a:xfrm>
              <a:off x="3276360" y="4876920"/>
              <a:ext cx="990360" cy="990360"/>
              <a:chOff x="3276360" y="4876920"/>
              <a:chExt cx="990360" cy="990360"/>
            </a:xfrm>
          </p:grpSpPr>
          <p:sp>
            <p:nvSpPr>
              <p:cNvPr id="101" name="Rectangle 11"/>
              <p:cNvSpPr/>
              <p:nvPr/>
            </p:nvSpPr>
            <p:spPr>
              <a:xfrm>
                <a:off x="32763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Group 12"/>
              <p:cNvGrpSpPr/>
              <p:nvPr/>
            </p:nvGrpSpPr>
            <p:grpSpPr>
              <a:xfrm>
                <a:off x="3504960" y="5029200"/>
                <a:ext cx="761760" cy="380160"/>
                <a:chOff x="3504960" y="5029200"/>
                <a:chExt cx="761760" cy="380160"/>
              </a:xfrm>
            </p:grpSpPr>
            <p:sp>
              <p:nvSpPr>
                <p:cNvPr id="103" name="Rectangle 13"/>
                <p:cNvSpPr/>
                <p:nvPr/>
              </p:nvSpPr>
              <p:spPr>
                <a:xfrm>
                  <a:off x="35049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4"/>
                <p:cNvSpPr/>
                <p:nvPr/>
              </p:nvSpPr>
              <p:spPr>
                <a:xfrm>
                  <a:off x="35049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" name="Group 15"/>
            <p:cNvGrpSpPr/>
            <p:nvPr/>
          </p:nvGrpSpPr>
          <p:grpSpPr>
            <a:xfrm>
              <a:off x="4267080" y="4876920"/>
              <a:ext cx="990360" cy="990360"/>
              <a:chOff x="4267080" y="4876920"/>
              <a:chExt cx="990360" cy="990360"/>
            </a:xfrm>
          </p:grpSpPr>
          <p:sp>
            <p:nvSpPr>
              <p:cNvPr id="106" name="Rectangle 16"/>
              <p:cNvSpPr/>
              <p:nvPr/>
            </p:nvSpPr>
            <p:spPr>
              <a:xfrm>
                <a:off x="426708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17"/>
              <p:cNvGrpSpPr/>
              <p:nvPr/>
            </p:nvGrpSpPr>
            <p:grpSpPr>
              <a:xfrm>
                <a:off x="4495680" y="5029200"/>
                <a:ext cx="761760" cy="380160"/>
                <a:chOff x="4495680" y="5029200"/>
                <a:chExt cx="761760" cy="380160"/>
              </a:xfrm>
            </p:grpSpPr>
            <p:sp>
              <p:nvSpPr>
                <p:cNvPr id="108" name="Rectangle 18"/>
                <p:cNvSpPr/>
                <p:nvPr/>
              </p:nvSpPr>
              <p:spPr>
                <a:xfrm>
                  <a:off x="449568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19"/>
                <p:cNvSpPr/>
                <p:nvPr/>
              </p:nvSpPr>
              <p:spPr>
                <a:xfrm>
                  <a:off x="449568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11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13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" name="Group 25"/>
            <p:cNvGrpSpPr/>
            <p:nvPr/>
          </p:nvGrpSpPr>
          <p:grpSpPr>
            <a:xfrm>
              <a:off x="6248160" y="4876920"/>
              <a:ext cx="990360" cy="990360"/>
              <a:chOff x="6248160" y="4876920"/>
              <a:chExt cx="990360" cy="990360"/>
            </a:xfrm>
          </p:grpSpPr>
          <p:sp>
            <p:nvSpPr>
              <p:cNvPr id="116" name="Rectangle 26"/>
              <p:cNvSpPr/>
              <p:nvPr/>
            </p:nvSpPr>
            <p:spPr>
              <a:xfrm>
                <a:off x="62481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Group 27"/>
              <p:cNvGrpSpPr/>
              <p:nvPr/>
            </p:nvGrpSpPr>
            <p:grpSpPr>
              <a:xfrm>
                <a:off x="6476760" y="5029200"/>
                <a:ext cx="761760" cy="380160"/>
                <a:chOff x="6476760" y="5029200"/>
                <a:chExt cx="761760" cy="380160"/>
              </a:xfrm>
            </p:grpSpPr>
            <p:sp>
              <p:nvSpPr>
                <p:cNvPr id="118" name="Rectangle 28"/>
                <p:cNvSpPr/>
                <p:nvPr/>
              </p:nvSpPr>
              <p:spPr>
                <a:xfrm>
                  <a:off x="64767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29"/>
                <p:cNvSpPr/>
                <p:nvPr/>
              </p:nvSpPr>
              <p:spPr>
                <a:xfrm>
                  <a:off x="64767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our "rhyme" / "alliterate" program to use boolean methods to test for rhyming and allit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Bare b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alliterat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hyme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2.length() &gt;= 2 &amp;&amp; s1.endsWith(s2.substring(s2.length() - 2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1.startsWith(s2.substring(0, 1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new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test if a resul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is is unnecessary and redundant.  Prefer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pattern can be used fo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e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fa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!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have 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code above is unnecessarily verbo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e could store the result of the logical tes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 tes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: Whatev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, we want to return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"Boolea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un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value is exactly what you want to return.  So return that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test =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e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ven shor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even need 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just perform the test and return its result in one ste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sPrim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version utilizes Boolean Z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factors == 2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f n has 2 factors,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Rhyme program to use Boolean Z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Ze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Type two words: 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1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2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rhy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2.length() &gt;= 2 &amp;&amp; s1.endsWith(s2.substring(s2.length() - 2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1.startsWith(s2.substring(0, 1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hort-circuit" evalu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stops evaluating a test if it knows the ans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crash if s2's length is less tha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1.endsWith(s2.substring(s2.length() - 2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length() &gt;= 2 &amp;&amp; s2.length() &gt;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not crash; it stops if length &lt;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1.length() &gt;= 2 &amp;&amp; s2.length() &gt;= 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endsWith(s2.substring(s2.length() - 2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statement outside the loop to place the initial "post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encepost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"loop-and-a-half"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or (length of fenc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- 1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2286000" y="4876920"/>
            <a:ext cx="4191120" cy="990360"/>
            <a:chOff x="2286000" y="4876920"/>
            <a:chExt cx="4191120" cy="990360"/>
          </a:xfrm>
        </p:grpSpPr>
        <p:grpSp>
          <p:nvGrpSpPr>
            <p:cNvPr id="123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124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126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" name="Group 10"/>
            <p:cNvGrpSpPr/>
            <p:nvPr/>
          </p:nvGrpSpPr>
          <p:grpSpPr>
            <a:xfrm>
              <a:off x="3276720" y="4876920"/>
              <a:ext cx="990360" cy="990360"/>
              <a:chOff x="3276720" y="4876920"/>
              <a:chExt cx="990360" cy="990360"/>
            </a:xfrm>
          </p:grpSpPr>
          <p:sp>
            <p:nvSpPr>
              <p:cNvPr id="129" name="Rectangle 11"/>
              <p:cNvSpPr/>
              <p:nvPr/>
            </p:nvSpPr>
            <p:spPr>
              <a:xfrm>
                <a:off x="327672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2"/>
              <p:cNvGrpSpPr/>
              <p:nvPr/>
            </p:nvGrpSpPr>
            <p:grpSpPr>
              <a:xfrm>
                <a:off x="3505320" y="5029200"/>
                <a:ext cx="761760" cy="380160"/>
                <a:chOff x="3505320" y="5029200"/>
                <a:chExt cx="761760" cy="380160"/>
              </a:xfrm>
            </p:grpSpPr>
            <p:sp>
              <p:nvSpPr>
                <p:cNvPr id="131" name="Rectangle 13"/>
                <p:cNvSpPr/>
                <p:nvPr/>
              </p:nvSpPr>
              <p:spPr>
                <a:xfrm>
                  <a:off x="350532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14"/>
                <p:cNvSpPr/>
                <p:nvPr/>
              </p:nvSpPr>
              <p:spPr>
                <a:xfrm>
                  <a:off x="350532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5"/>
            <p:cNvGrpSpPr/>
            <p:nvPr/>
          </p:nvGrpSpPr>
          <p:grpSpPr>
            <a:xfrm>
              <a:off x="4267440" y="4876920"/>
              <a:ext cx="990360" cy="990360"/>
              <a:chOff x="4267440" y="4876920"/>
              <a:chExt cx="990360" cy="990360"/>
            </a:xfrm>
          </p:grpSpPr>
          <p:sp>
            <p:nvSpPr>
              <p:cNvPr id="134" name="Rectangle 16"/>
              <p:cNvSpPr/>
              <p:nvPr/>
            </p:nvSpPr>
            <p:spPr>
              <a:xfrm>
                <a:off x="426744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" name="Group 17"/>
              <p:cNvGrpSpPr/>
              <p:nvPr/>
            </p:nvGrpSpPr>
            <p:grpSpPr>
              <a:xfrm>
                <a:off x="4496040" y="5029200"/>
                <a:ext cx="761760" cy="380160"/>
                <a:chOff x="4496040" y="5029200"/>
                <a:chExt cx="761760" cy="380160"/>
              </a:xfrm>
            </p:grpSpPr>
            <p:sp>
              <p:nvSpPr>
                <p:cNvPr id="136" name="Rectangle 18"/>
                <p:cNvSpPr/>
                <p:nvPr/>
              </p:nvSpPr>
              <p:spPr>
                <a:xfrm>
                  <a:off x="449604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9"/>
                <p:cNvSpPr/>
                <p:nvPr/>
              </p:nvSpPr>
              <p:spPr>
                <a:xfrm>
                  <a:off x="449604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39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41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" name="Rectangle 25"/>
            <p:cNvSpPr/>
            <p:nvPr/>
          </p:nvSpPr>
          <p:spPr>
            <a:xfrm>
              <a:off x="6248520" y="4876920"/>
              <a:ext cx="228600" cy="99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 Morgan's La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 Morgan's La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used to negate boolean t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want the opposite of an existing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" y="2317680"/>
          <a:ext cx="7756560" cy="1065240"/>
        </p:xfrm>
        <a:graphic>
          <a:graphicData uri="http://schemas.openxmlformats.org/drawingml/2006/table">
            <a:tbl>
              <a:tblPr/>
              <a:tblGrid>
                <a:gridCol w="2965320"/>
                <a:gridCol w="3024360"/>
                <a:gridCol w="1766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amp;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||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&amp;&amp;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||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&amp;&amp;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||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57200" y="4622760"/>
          <a:ext cx="8229600" cy="124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== 7 &amp;&amp; y &gt;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!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7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||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y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&lt;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owel (a, e, i, o, or u)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above method into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Non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y character except a vow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version.  I have seen the true way (and false wa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.equalsIgnoreCase("a") || s.equalsIgnoreCase("e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i") || s.equalsIgnoreCase("o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"Boolean Zen" ver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Non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!s.equalsIgnoreCase("a") &amp;&amp; !s.equalsIgnoreCase("e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i") &amp;&amp; !s.equalsIgnoreCase("o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r, return !isVowel(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retur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with loops and return values can be trick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d where should the method return its resul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v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uses it to draw up to ten lotto numbers from 1-3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y of the numbers is a lucky 7, the method should stop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If none of the ten are 7 it shoul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print each number as it is draw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 29 18 29 11 3 30 17 19 2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irst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9 5 29 4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econd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f (num =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always returns immediately after the first ro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wrong if that roll isn't a 7; we need to keep roll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t the right 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99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num == 7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nd lucky 7; can exit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f we get here, there was no 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mmediately if 7 is foun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7 isn't found, the loop continues drawing lotto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ll ten aren't 7, the loop ends and we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git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parameter and returns the sum of its digi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number is non-neg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gitSum(2910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2+9+1+0+7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or to extract a digit from a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digitSum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Math.abs(n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handle neg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(n % 10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d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move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482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2448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13531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917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vowe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eIeIo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oi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n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roblems are available in our Practice-It! system und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hasAnOddDigit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!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od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allDigitsOdd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=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ev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AllVowels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etter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isVowel(letter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metho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 &lt;= ma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", " + i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ternate solution: Either first or last "post" can be taken o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max -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+ ", 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ln(max);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r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tatement that is either true or fal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was created in 199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ky is purp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 is a prime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0 is greater than 2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divided by 2 equals 7.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depends on the value of x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ssertion might be false ("The sky is purple" above), but it is still an assertion because it is a true/false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you have the following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x &gt; 3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--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know abo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value at the three po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gt; 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Always?  Sometimes?  Nev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i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make assertions about our code and ask whether they are true at various point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alid answers are ALWAYS, NEVER, or SOMETIME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onnegative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A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number &lt; 0.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B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Negative; try again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C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D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7134120" y="2317680"/>
            <a:ext cx="2057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ALW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NEV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after a variable is initialized, its value is know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x &gt; 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 you know nothing about parameters'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nside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, you may know someth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 &lt;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a loop's body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a loop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a loop's body, the loop's test may bec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ometimes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gs that cause a variable's value to be unkno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often leads to "sometimes" answ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a number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rameter's initial value to a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can reach a part of the program both with the answer being "yes" and the answer being "no", then the correct answer is "sometimes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're unsure, "Sometimes" is a good gue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ystery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z = 0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x &gt;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- y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x !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 = z *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z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&lt;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==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mystery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ev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ext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ext == prev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ev = nex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1960"/>
                <a:gridCol w="114156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ev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pr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14120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ssumes y &gt;= 0, and returns x^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pow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 =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y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y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= y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d = prod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pro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257800" y="3124080"/>
          <a:ext cx="3352680" cy="30783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Text Box 41"/>
          <p:cNvSpPr/>
          <p:nvPr/>
        </p:nvSpPr>
        <p:spPr>
          <a:xfrm>
            <a:off x="4114800" y="20574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257800" y="3124080"/>
          <a:ext cx="3352680" cy="30765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new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Prim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im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s up to a ma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Primes(50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2, 3, 5, 7, 11, 13, 17, 19, 23, 29, 31, 37, 41, 43, 47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maximum is less than 2, print no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help you,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ich returns the number of factors of a give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Factors(2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ue to factors 1, 2, 4, 5, 10,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all prime numbers up to the given max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Primes(int max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max &gt;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2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3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Factors(i) =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, " + i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17Z</dcterms:modified>
  <cp:revision>124</cp:revision>
  <dc:subject/>
  <dc:title>CSE 142 Python Slides</dc:title>
</cp:coreProperties>
</file>