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2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EEE9C-1969-4D7E-A326-D58AC4FE5F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program never directly interacts with ListNode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aint can analogy: LinkedIntList is a painter, the ListNodes are buckets of paint.  I don't want the buckets, just do the painting for 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knew the answer right away, it goes between the 5 and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you see the 5, do you know to stop yet?  when do you know to stop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(current.data &lt; value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= current.nex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it be &lt; or &lt;= ?  when would it matter?  what if the list had 500 10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 is more effic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: we have gone too far.  we want to insert the 10 in *front* of the node we are at.  We want to stop 1 before the 12.  (James Bond on train c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idea: insert BETWEEN 5 and 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rder to change the link between the 5 and 12, we must be at the node with 5, so we can change its .next li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B3A28-B169-4D08-8CA2-6B10B60A6C4E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6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ed L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referenc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refere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access data or methods of an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ne with the dot notation, such a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.length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you use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fter an object variable, Java goes to the memory for that object and looks up the field/method request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udent timmy = new Stude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immy.name = "Timmah"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s = timmy.name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.toUpperCa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2003400" y="5105520"/>
          <a:ext cx="1860480" cy="495360"/>
        </p:xfrm>
        <a:graphic>
          <a:graphicData uri="http://schemas.openxmlformats.org/drawingml/2006/table">
            <a:tbl>
              <a:tblPr/>
              <a:tblGrid>
                <a:gridCol w="1066680"/>
                <a:gridCol w="79380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"/>
          <p:cNvSpPr/>
          <p:nvPr/>
        </p:nvSpPr>
        <p:spPr>
          <a:xfrm>
            <a:off x="44640" y="5334120"/>
            <a:ext cx="101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imm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093680" y="5562720"/>
            <a:ext cx="838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2003400" y="5715000"/>
          <a:ext cx="1860480" cy="495360"/>
        </p:xfrm>
        <a:graphic>
          <a:graphicData uri="http://schemas.openxmlformats.org/drawingml/2006/table">
            <a:tbl>
              <a:tblPr/>
              <a:tblGrid>
                <a:gridCol w="1066680"/>
                <a:gridCol w="79380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>
            <a:off x="2111400" y="4876920"/>
            <a:ext cx="1981080" cy="160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4865760" y="5029200"/>
          <a:ext cx="3848040" cy="395280"/>
        </p:xfrm>
        <a:graphic>
          <a:graphicData uri="http://schemas.openxmlformats.org/drawingml/2006/table">
            <a:tbl>
              <a:tblPr/>
              <a:tblGrid>
                <a:gridCol w="641160"/>
                <a:gridCol w="641520"/>
                <a:gridCol w="641160"/>
                <a:gridCol w="641520"/>
                <a:gridCol w="641160"/>
                <a:gridCol w="641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'T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'i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'm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'm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'a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'h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8" name=""/>
          <p:cNvSpPr/>
          <p:nvPr/>
        </p:nvSpPr>
        <p:spPr>
          <a:xfrm>
            <a:off x="2066040" y="4479840"/>
            <a:ext cx="111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567320" y="4479840"/>
            <a:ext cx="89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599000" y="4876920"/>
            <a:ext cx="4343400" cy="160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605840" y="5584680"/>
            <a:ext cx="4326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indexOf(String s) {...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length() {...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ring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toUpperCas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) {...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076560" y="5133960"/>
            <a:ext cx="7621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56000" y="541008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ull pointer excep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illegal to dereferenc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it causes an exceptio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oes not refer to any object, so it has no methods or dat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udent timmy = new Stude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s = timmy.name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.toUpperCas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// 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Exception in thread "main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java.lang.NullPointer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at Example.main(Example.java:8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4159080" y="3657600"/>
          <a:ext cx="1860840" cy="495360"/>
        </p:xfrm>
        <a:graphic>
          <a:graphicData uri="http://schemas.openxmlformats.org/drawingml/2006/table">
            <a:tbl>
              <a:tblPr/>
              <a:tblGrid>
                <a:gridCol w="1067040"/>
                <a:gridCol w="79380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"/>
          <p:cNvSpPr/>
          <p:nvPr/>
        </p:nvSpPr>
        <p:spPr>
          <a:xfrm>
            <a:off x="1984320" y="3886200"/>
            <a:ext cx="101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imm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48120" y="411480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4159080" y="4267080"/>
          <a:ext cx="1860840" cy="495360"/>
        </p:xfrm>
        <a:graphic>
          <a:graphicData uri="http://schemas.openxmlformats.org/drawingml/2006/table">
            <a:tbl>
              <a:tblPr/>
              <a:tblGrid>
                <a:gridCol w="1067040"/>
                <a:gridCol w="79380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"/>
          <p:cNvSpPr/>
          <p:nvPr/>
        </p:nvSpPr>
        <p:spPr>
          <a:xfrm>
            <a:off x="4267080" y="3429000"/>
            <a:ext cx="1981440" cy="160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ferences to same typ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would happen if we had a class that declared one of its own type as a fiel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Strang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String name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private Strange other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ill this compil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so, what is the behavior of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th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ield?  What can it do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not, why not?  What is the error and the reasoning behind it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data structur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the collections we will use and implement in this course use one of the following two underlying data structur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rra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all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c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shMa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set o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linked object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each storing one element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d one or more reference(s) to other element(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Ma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676520" y="3186000"/>
          <a:ext cx="2743200" cy="395280"/>
        </p:xfrm>
        <a:graphic>
          <a:graphicData uri="http://schemas.openxmlformats.org/drawingml/2006/table">
            <a:tbl>
              <a:tblPr/>
              <a:tblGrid>
                <a:gridCol w="725400"/>
                <a:gridCol w="646200"/>
                <a:gridCol w="68580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"/>
          <p:cNvSpPr/>
          <p:nvPr/>
        </p:nvSpPr>
        <p:spPr>
          <a:xfrm>
            <a:off x="318240" y="56088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1701720" y="5610240"/>
          <a:ext cx="1346400" cy="39528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3606840" y="5610240"/>
          <a:ext cx="1346040" cy="39528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5511960" y="5610240"/>
          <a:ext cx="1346040" cy="39528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7416720" y="5610240"/>
          <a:ext cx="1346400" cy="39528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1" name=""/>
          <p:cNvSpPr/>
          <p:nvPr/>
        </p:nvSpPr>
        <p:spPr>
          <a:xfrm>
            <a:off x="2743200" y="583884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648320" y="583884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553080" y="583884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8076960" y="563868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066680" y="5819760"/>
            <a:ext cx="533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list node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istNod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dat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ListNode 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list node object stor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e piece of integer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reference to another list n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No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can be "linked" into chains to store a list of val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939960" y="52578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2844720" y="52578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4749840" y="52578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6654960" y="52578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"/>
          <p:cNvSpPr/>
          <p:nvPr/>
        </p:nvSpPr>
        <p:spPr>
          <a:xfrm>
            <a:off x="1981080" y="58672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86200" y="58672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58672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7314840" y="566748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st node client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ConstructList1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Node list = new ListNod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.data = 4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.next = new ListNod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.next.data = -3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.next.next = new ListNod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.next.next.data = 17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.next.next.next = null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list.data + " " + list.next.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 " " + list.next.next.data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42 -3 1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2843280" y="52578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4748040" y="52578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6653160" y="52578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1" name=""/>
          <p:cNvSpPr/>
          <p:nvPr/>
        </p:nvSpPr>
        <p:spPr>
          <a:xfrm>
            <a:off x="3884760" y="58672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789520" y="58672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7314840" y="566748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055960" y="58672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258920" y="56674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st node w/ construc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ListNod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dat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 ListNode(int data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his.data = dat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his.next = null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 ListNode(int data, ListNode next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his.data = dat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his.next = 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Modify the previous client to use these constructo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node problem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set of statements turns this pi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o thi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2844720" y="1876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4749840" y="1876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2" name=""/>
          <p:cNvSpPr/>
          <p:nvPr/>
        </p:nvSpPr>
        <p:spPr>
          <a:xfrm>
            <a:off x="3886200" y="24861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5409720" y="225756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06720" y="2017800"/>
            <a:ext cx="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905120" y="22575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2844720" y="4648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4749840" y="4648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8" name=""/>
          <p:cNvSpPr/>
          <p:nvPr/>
        </p:nvSpPr>
        <p:spPr>
          <a:xfrm>
            <a:off x="3886200" y="525780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206720" y="4789440"/>
            <a:ext cx="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905120" y="502920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6654960" y="4648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2" name=""/>
          <p:cNvSpPr/>
          <p:nvPr/>
        </p:nvSpPr>
        <p:spPr>
          <a:xfrm>
            <a:off x="5791320" y="525780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7314840" y="50292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node problem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set of statements turns this pi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o thi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2844720" y="1876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4749840" y="1876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8" name=""/>
          <p:cNvSpPr/>
          <p:nvPr/>
        </p:nvSpPr>
        <p:spPr>
          <a:xfrm>
            <a:off x="3886200" y="24861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5409720" y="225756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06720" y="2017800"/>
            <a:ext cx="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905120" y="22575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2844720" y="4648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3" name=""/>
          <p:cNvGraphicFramePr/>
          <p:nvPr/>
        </p:nvGraphicFramePr>
        <p:xfrm>
          <a:off x="4749840" y="4648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4" name=""/>
          <p:cNvSpPr/>
          <p:nvPr/>
        </p:nvSpPr>
        <p:spPr>
          <a:xfrm>
            <a:off x="3886200" y="525780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206720" y="4789440"/>
            <a:ext cx="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905120" y="502920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6654960" y="4648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"/>
          <p:cNvSpPr/>
          <p:nvPr/>
        </p:nvSpPr>
        <p:spPr>
          <a:xfrm>
            <a:off x="5791320" y="525780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7314840" y="50292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node problem 3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set of statements turns this pi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o thi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2844720" y="1876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3" name=""/>
          <p:cNvGraphicFramePr/>
          <p:nvPr/>
        </p:nvGraphicFramePr>
        <p:xfrm>
          <a:off x="4749840" y="1876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4" name=""/>
          <p:cNvSpPr/>
          <p:nvPr/>
        </p:nvSpPr>
        <p:spPr>
          <a:xfrm>
            <a:off x="3886200" y="24861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5409720" y="225756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202760" y="2017800"/>
            <a:ext cx="6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905120" y="22575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2844720" y="286704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9" name=""/>
          <p:cNvGraphicFramePr/>
          <p:nvPr/>
        </p:nvGraphicFramePr>
        <p:xfrm>
          <a:off x="4749840" y="286704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0" name=""/>
          <p:cNvSpPr/>
          <p:nvPr/>
        </p:nvSpPr>
        <p:spPr>
          <a:xfrm>
            <a:off x="3886200" y="347652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5409720" y="324792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202760" y="3008160"/>
            <a:ext cx="6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905120" y="324792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2844720" y="4648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4749840" y="4648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6" name=""/>
          <p:cNvSpPr/>
          <p:nvPr/>
        </p:nvSpPr>
        <p:spPr>
          <a:xfrm>
            <a:off x="3886200" y="525780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202760" y="4789440"/>
            <a:ext cx="6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905120" y="502920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2844720" y="56386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0" name=""/>
          <p:cNvSpPr/>
          <p:nvPr/>
        </p:nvSpPr>
        <p:spPr>
          <a:xfrm flipH="1">
            <a:off x="3504960" y="601992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202760" y="5780160"/>
            <a:ext cx="6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905120" y="601992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6654960" y="4648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4" name=""/>
          <p:cNvSpPr/>
          <p:nvPr/>
        </p:nvSpPr>
        <p:spPr>
          <a:xfrm>
            <a:off x="5791320" y="525780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7314840" y="50292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wap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the follow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w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work?  Why or why no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a = 7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b = 35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swap a with b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swap(a, b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a + " " + b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 static void swap(int a, int b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temp = 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 = b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 = temp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node problem 4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set of statements turns this pi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o thi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2120760" y="1876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5549760" y="1876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0" name=""/>
          <p:cNvSpPr/>
          <p:nvPr/>
        </p:nvSpPr>
        <p:spPr>
          <a:xfrm>
            <a:off x="4686480" y="24861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6210000" y="225756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82760" y="2017800"/>
            <a:ext cx="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181160" y="22575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165920" y="227016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314880" y="249552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2082960" y="469584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5511960" y="469584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8" name=""/>
          <p:cNvSpPr/>
          <p:nvPr/>
        </p:nvSpPr>
        <p:spPr>
          <a:xfrm>
            <a:off x="4648320" y="530532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44600" y="4836960"/>
            <a:ext cx="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143000" y="507672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127760" y="508968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276720" y="531504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7416720" y="4705200"/>
          <a:ext cx="1406520" cy="790560"/>
        </p:xfrm>
        <a:graphic>
          <a:graphicData uri="http://schemas.openxmlformats.org/drawingml/2006/table">
            <a:tbl>
              <a:tblPr/>
              <a:tblGrid>
                <a:gridCol w="73656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4" name=""/>
          <p:cNvSpPr/>
          <p:nvPr/>
        </p:nvSpPr>
        <p:spPr>
          <a:xfrm>
            <a:off x="6553080" y="531504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ferences vs.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variabl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left side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)  is an arrow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the base of an arrow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(right side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) is an object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a box; what an arrow points a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list at righ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.next =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ans to adjust where      poi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riab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a.next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ans to make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riab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oint at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5638680" y="384336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28" name=""/>
          <p:cNvSpPr/>
          <p:nvPr/>
        </p:nvSpPr>
        <p:spPr>
          <a:xfrm>
            <a:off x="4345200" y="40132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699080" y="422424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832440" y="44625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7632720" y="385272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32" name=""/>
          <p:cNvSpPr/>
          <p:nvPr/>
        </p:nvSpPr>
        <p:spPr>
          <a:xfrm flipH="1">
            <a:off x="8305560" y="425772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400800" y="4419720"/>
            <a:ext cx="304920" cy="304560"/>
          </a:xfrm>
          <a:prstGeom prst="ellipse">
            <a:avLst/>
          </a:prstGeom>
          <a:solidFill>
            <a:srgbClr val="ffff99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467480" y="3581280"/>
            <a:ext cx="304920" cy="304920"/>
          </a:xfrm>
          <a:prstGeom prst="ellipse">
            <a:avLst/>
          </a:prstGeom>
          <a:solidFill>
            <a:srgbClr val="ffff99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809880" y="4619520"/>
            <a:ext cx="304920" cy="304920"/>
          </a:xfrm>
          <a:prstGeom prst="ellipse">
            <a:avLst/>
          </a:prstGeom>
          <a:solidFill>
            <a:srgbClr val="ffff99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153040" y="5762520"/>
            <a:ext cx="304920" cy="304920"/>
          </a:xfrm>
          <a:prstGeom prst="ellipse">
            <a:avLst/>
          </a:prstGeom>
          <a:solidFill>
            <a:srgbClr val="ffff99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assigning referenc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you sa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.next = b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say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"Make th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variabl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.nex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fer to the sam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valu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.nex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, "Mak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.nex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oint to the same place tha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.nex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oints.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3429000" y="42670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40" name=""/>
          <p:cNvSpPr/>
          <p:nvPr/>
        </p:nvSpPr>
        <p:spPr>
          <a:xfrm>
            <a:off x="2135520" y="44370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489040" y="464832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622760" y="48862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423040" y="4276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44" name=""/>
          <p:cNvGraphicFramePr/>
          <p:nvPr/>
        </p:nvGraphicFramePr>
        <p:xfrm>
          <a:off x="3429000" y="521496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45" name=""/>
          <p:cNvSpPr/>
          <p:nvPr/>
        </p:nvSpPr>
        <p:spPr>
          <a:xfrm>
            <a:off x="2135520" y="53848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489040" y="559584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622760" y="58341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5423040" y="522432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49" name=""/>
          <p:cNvSpPr/>
          <p:nvPr/>
        </p:nvSpPr>
        <p:spPr>
          <a:xfrm flipH="1">
            <a:off x="6095520" y="468144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6076440" y="563868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419720" y="4876920"/>
            <a:ext cx="914400" cy="8380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10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node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se we have a long chain of list nod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don't know exactly how long the chain i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would we print the data values in all the node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2120760" y="201456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55" name=""/>
          <p:cNvGraphicFramePr/>
          <p:nvPr/>
        </p:nvGraphicFramePr>
        <p:xfrm>
          <a:off x="7416720" y="201456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56" name=""/>
          <p:cNvSpPr/>
          <p:nvPr/>
        </p:nvSpPr>
        <p:spPr>
          <a:xfrm>
            <a:off x="6553080" y="262404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8076960" y="239544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06720" y="21844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181160" y="239544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108840" y="238932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314880" y="26337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4114800" y="202392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63" name=""/>
          <p:cNvSpPr/>
          <p:nvPr/>
        </p:nvSpPr>
        <p:spPr>
          <a:xfrm>
            <a:off x="5308560" y="264312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lgorithm pseudo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at th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the li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(there are more nodes to print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int the current node'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at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o to the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ex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n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we walk through the nodes of the lis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 = list.next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s this a good idea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197080" y="521496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7" name=""/>
          <p:cNvGraphicFramePr/>
          <p:nvPr/>
        </p:nvGraphicFramePr>
        <p:xfrm>
          <a:off x="7493040" y="521496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68" name=""/>
          <p:cNvSpPr/>
          <p:nvPr/>
        </p:nvSpPr>
        <p:spPr>
          <a:xfrm>
            <a:off x="6629400" y="582444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8152920" y="559584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82680" y="53848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257480" y="559584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185160" y="558972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390840" y="58341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4191120" y="522432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75" name=""/>
          <p:cNvSpPr/>
          <p:nvPr/>
        </p:nvSpPr>
        <p:spPr>
          <a:xfrm>
            <a:off x="5384880" y="584352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aversing a list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(bad) way to print every value in the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list != null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list.data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 = list.next;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move to next n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's wrong with this approach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It loses the linked list as it prints it!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2197080" y="52912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9" name=""/>
          <p:cNvGraphicFramePr/>
          <p:nvPr/>
        </p:nvGraphicFramePr>
        <p:xfrm>
          <a:off x="7493040" y="52912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80" name=""/>
          <p:cNvSpPr/>
          <p:nvPr/>
        </p:nvSpPr>
        <p:spPr>
          <a:xfrm>
            <a:off x="6629400" y="59007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8152920" y="567216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82680" y="54608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257480" y="56721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85160" y="566568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390840" y="591012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4191120" y="530064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87" name=""/>
          <p:cNvSpPr/>
          <p:nvPr/>
        </p:nvSpPr>
        <p:spPr>
          <a:xfrm>
            <a:off x="5384880" y="591984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529480" y="2209680"/>
            <a:ext cx="538200" cy="57960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1143000" y="4952880"/>
            <a:ext cx="2971800" cy="673200"/>
          </a:xfrm>
          <a:custGeom>
            <a:avLst/>
            <a:gdLst/>
            <a:ahLst/>
            <a:rect l="l" t="t" r="r" b="b"/>
            <a:pathLst>
              <a:path w="1872" h="568">
                <a:moveTo>
                  <a:pt x="0" y="568"/>
                </a:moveTo>
                <a:cubicBezTo>
                  <a:pt x="372" y="324"/>
                  <a:pt x="744" y="80"/>
                  <a:pt x="1056" y="40"/>
                </a:cubicBezTo>
                <a:cubicBezTo>
                  <a:pt x="1368" y="0"/>
                  <a:pt x="1696" y="288"/>
                  <a:pt x="1872" y="32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066680" y="4800600"/>
            <a:ext cx="6324840" cy="762120"/>
          </a:xfrm>
          <a:custGeom>
            <a:avLst/>
            <a:gdLst/>
            <a:ahLst/>
            <a:rect l="l" t="t" r="r" b="b"/>
            <a:pathLst>
              <a:path w="3984" h="752">
                <a:moveTo>
                  <a:pt x="0" y="752"/>
                </a:moveTo>
                <a:cubicBezTo>
                  <a:pt x="340" y="408"/>
                  <a:pt x="680" y="64"/>
                  <a:pt x="1344" y="32"/>
                </a:cubicBezTo>
                <a:cubicBezTo>
                  <a:pt x="2008" y="0"/>
                  <a:pt x="3552" y="472"/>
                  <a:pt x="3984" y="56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5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2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6" dur="5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3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urre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refere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't chang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Make another variable, and change tha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variable is NOT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lis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happens to the picture above when we writ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2273400" y="321804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94" name=""/>
          <p:cNvGraphicFramePr/>
          <p:nvPr/>
        </p:nvGraphicFramePr>
        <p:xfrm>
          <a:off x="7569360" y="321804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95" name=""/>
          <p:cNvSpPr/>
          <p:nvPr/>
        </p:nvSpPr>
        <p:spPr>
          <a:xfrm>
            <a:off x="6705720" y="382752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8229240" y="359892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59000" y="33876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333440" y="359892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261480" y="359244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467160" y="38368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4267080" y="32274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02" name=""/>
          <p:cNvSpPr/>
          <p:nvPr/>
        </p:nvSpPr>
        <p:spPr>
          <a:xfrm>
            <a:off x="5460840" y="384660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264960" y="3794040"/>
            <a:ext cx="1868760" cy="779760"/>
            <a:chOff x="264960" y="3794040"/>
            <a:chExt cx="1868760" cy="779760"/>
          </a:xfrm>
        </p:grpSpPr>
        <p:sp>
          <p:nvSpPr>
            <p:cNvPr id="404" name=""/>
            <p:cNvSpPr/>
            <p:nvPr/>
          </p:nvSpPr>
          <p:spPr>
            <a:xfrm>
              <a:off x="264960" y="4174920"/>
              <a:ext cx="157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urrent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1523880" y="3794040"/>
              <a:ext cx="60984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aversing a list correctl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ct way to print every value in the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istNode current = lis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urre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!= null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urre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data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move to next n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hang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oes not damage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2197080" y="533412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09" name=""/>
          <p:cNvGraphicFramePr/>
          <p:nvPr/>
        </p:nvGraphicFramePr>
        <p:xfrm>
          <a:off x="7493040" y="53341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10" name=""/>
          <p:cNvSpPr/>
          <p:nvPr/>
        </p:nvSpPr>
        <p:spPr>
          <a:xfrm>
            <a:off x="6629400" y="594360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8152920" y="57150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82680" y="55040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257480" y="571500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185160" y="570852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390840" y="59529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4191120" y="53434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17" name=""/>
          <p:cNvSpPr/>
          <p:nvPr/>
        </p:nvSpPr>
        <p:spPr>
          <a:xfrm>
            <a:off x="5384880" y="59626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8529480" y="2209680"/>
            <a:ext cx="538200" cy="5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" dur="5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list vs. arra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800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 to print list val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Node front = ...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current !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current.data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28840" y="1295280"/>
            <a:ext cx="42670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array co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 = ...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i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i &lt; a.length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a[i]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LinkedInt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write a collection class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s the same methods a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dexO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oSt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list is internally implemented as a chain of linked nod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keeps a reference to it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s a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the end of the list; 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signifies an empty li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"/>
          <p:cNvSpPr/>
          <p:nvPr/>
        </p:nvSpPr>
        <p:spPr>
          <a:xfrm>
            <a:off x="228600" y="4495680"/>
            <a:ext cx="2286000" cy="213372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>
              <a:lnSpc>
                <a:spcPct val="14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0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0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dd(val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0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dd(index, val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0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dexOf(val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0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move(inde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0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ze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0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String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371600" y="464832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600200" y="4800600"/>
            <a:ext cx="160020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56240" y="4129200"/>
            <a:ext cx="15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edI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173760" y="446724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st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154840" y="446724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st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212240" y="446724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st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3276720" y="48769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32" name=""/>
          <p:cNvSpPr/>
          <p:nvPr/>
        </p:nvSpPr>
        <p:spPr>
          <a:xfrm>
            <a:off x="4470480" y="54957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5270400" y="48862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34" name=""/>
          <p:cNvSpPr/>
          <p:nvPr/>
        </p:nvSpPr>
        <p:spPr>
          <a:xfrm>
            <a:off x="6464160" y="55054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7264440" y="490536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36" name=""/>
          <p:cNvSpPr/>
          <p:nvPr/>
        </p:nvSpPr>
        <p:spPr>
          <a:xfrm flipH="1">
            <a:off x="7924320" y="531504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31992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32944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31088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Value semant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lue semant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Behavior where values are copied when assigned to each other or passed as paramet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one primitive is assigned to another, its value is copi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ifying the value of one variable does not affect oth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x = 5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y = 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x = 5, y = 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 = 17;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x = 5, y = 1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 = 8;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x = 8, y = 1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LinkedInt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 v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LinkedIntLis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ListNod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o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LinkedIntList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ont = null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s go he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"/>
          <p:cNvSpPr/>
          <p:nvPr/>
        </p:nvSpPr>
        <p:spPr>
          <a:xfrm>
            <a:off x="6781680" y="2209680"/>
            <a:ext cx="1905120" cy="1371600"/>
          </a:xfrm>
          <a:prstGeom prst="rect">
            <a:avLst/>
          </a:prstGeom>
          <a:solidFill>
            <a:srgbClr val="e6e6e6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763040" y="259092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734880" y="1814400"/>
            <a:ext cx="15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edI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7772400" y="2590920"/>
            <a:ext cx="45720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s the given value to the end of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we add a new node to the end of a lis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es it matter what the list's contents are before the ad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"/>
          <p:cNvSpPr/>
          <p:nvPr/>
        </p:nvSpPr>
        <p:spPr>
          <a:xfrm>
            <a:off x="533520" y="495288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514520" y="533412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1724040" y="530496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3276720" y="48769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52" name=""/>
          <p:cNvSpPr/>
          <p:nvPr/>
        </p:nvSpPr>
        <p:spPr>
          <a:xfrm>
            <a:off x="4470480" y="54957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5270400" y="48862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54" name=""/>
          <p:cNvSpPr/>
          <p:nvPr/>
        </p:nvSpPr>
        <p:spPr>
          <a:xfrm>
            <a:off x="6464160" y="55054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264440" y="490536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56" name=""/>
          <p:cNvSpPr/>
          <p:nvPr/>
        </p:nvSpPr>
        <p:spPr>
          <a:xfrm flipH="1">
            <a:off x="7924320" y="531504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31992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32944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31088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dding to an empty li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fore adding 20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must create a new node and attach it to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"/>
          <p:cNvSpPr/>
          <p:nvPr/>
        </p:nvSpPr>
        <p:spPr>
          <a:xfrm>
            <a:off x="762120" y="2057400"/>
            <a:ext cx="1904760" cy="1371600"/>
          </a:xfrm>
          <a:prstGeom prst="rect">
            <a:avLst/>
          </a:prstGeom>
          <a:solidFill>
            <a:srgbClr val="e6e6e6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743120" y="2438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1752480" y="2438280"/>
            <a:ext cx="45720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495680" y="2057400"/>
            <a:ext cx="190512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477040" y="2438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5686560" y="24094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7238880" y="19810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69" name=""/>
          <p:cNvSpPr/>
          <p:nvPr/>
        </p:nvSpPr>
        <p:spPr>
          <a:xfrm flipH="1">
            <a:off x="7905240" y="23814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82080" y="28954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, 1st tr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s the given value to the end of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front == null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ing to an empty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ont = new ListNode(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ing to the end of an existing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dding to non-empty li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fore adding value 20 to end of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"/>
          <p:cNvSpPr/>
          <p:nvPr/>
        </p:nvSpPr>
        <p:spPr>
          <a:xfrm>
            <a:off x="762120" y="20574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743120" y="2438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1952640" y="24094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3505320" y="19810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79" name=""/>
          <p:cNvSpPr/>
          <p:nvPr/>
        </p:nvSpPr>
        <p:spPr>
          <a:xfrm>
            <a:off x="4699080" y="26002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0" name=""/>
          <p:cNvGraphicFramePr/>
          <p:nvPr/>
        </p:nvGraphicFramePr>
        <p:xfrm>
          <a:off x="5499000" y="1990800"/>
          <a:ext cx="143208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755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81" name=""/>
          <p:cNvSpPr/>
          <p:nvPr/>
        </p:nvSpPr>
        <p:spPr>
          <a:xfrm flipH="1">
            <a:off x="6200640" y="2419200"/>
            <a:ext cx="733680" cy="352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62120" y="48006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743120" y="51814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1952640" y="51526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5" name=""/>
          <p:cNvGraphicFramePr/>
          <p:nvPr/>
        </p:nvGraphicFramePr>
        <p:xfrm>
          <a:off x="3505320" y="47242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86" name=""/>
          <p:cNvSpPr/>
          <p:nvPr/>
        </p:nvSpPr>
        <p:spPr>
          <a:xfrm>
            <a:off x="4699080" y="533412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5499000" y="4734000"/>
          <a:ext cx="143208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755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88" name=""/>
          <p:cNvSpPr/>
          <p:nvPr/>
        </p:nvSpPr>
        <p:spPr>
          <a:xfrm>
            <a:off x="6692760" y="53434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9" name=""/>
          <p:cNvGraphicFramePr/>
          <p:nvPr/>
        </p:nvGraphicFramePr>
        <p:xfrm>
          <a:off x="7493040" y="47530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90" name=""/>
          <p:cNvSpPr/>
          <p:nvPr/>
        </p:nvSpPr>
        <p:spPr>
          <a:xfrm flipH="1">
            <a:off x="8152920" y="516240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548520" y="56530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558040" y="56530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539480" y="56530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548520" y="28954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558040" y="28954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on't fall off the edge!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/remove from a list, you must modify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ex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ference of the nod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efore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lace you want to chan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 shoul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e pointing, to add 20 at the en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loop test will stop us at this place in the lis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"/>
          <p:cNvSpPr/>
          <p:nvPr/>
        </p:nvSpPr>
        <p:spPr>
          <a:xfrm>
            <a:off x="762120" y="27432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743120" y="31240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1952640" y="30952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1" name=""/>
          <p:cNvGraphicFramePr/>
          <p:nvPr/>
        </p:nvGraphicFramePr>
        <p:xfrm>
          <a:off x="3505320" y="26668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02" name=""/>
          <p:cNvSpPr/>
          <p:nvPr/>
        </p:nvSpPr>
        <p:spPr>
          <a:xfrm>
            <a:off x="4699080" y="32860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3" name=""/>
          <p:cNvGraphicFramePr/>
          <p:nvPr/>
        </p:nvGraphicFramePr>
        <p:xfrm>
          <a:off x="5499000" y="2676600"/>
          <a:ext cx="143208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755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04" name=""/>
          <p:cNvSpPr/>
          <p:nvPr/>
        </p:nvSpPr>
        <p:spPr>
          <a:xfrm flipH="1">
            <a:off x="6200280" y="3105000"/>
            <a:ext cx="723960" cy="362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596040" y="35812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605920" y="35812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s the given value to the end of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front == null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ing to an empty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ont = new ListNode(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ing to the end of an existing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current.next != null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urrent.next = new ListNode(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ge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turns value in list at given index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get(int index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Implement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"/>
          <p:cNvSpPr/>
          <p:nvPr/>
        </p:nvSpPr>
        <p:spPr>
          <a:xfrm>
            <a:off x="533520" y="495288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514520" y="533412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1724040" y="530496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4" name=""/>
          <p:cNvGraphicFramePr/>
          <p:nvPr/>
        </p:nvGraphicFramePr>
        <p:xfrm>
          <a:off x="3276720" y="48769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15" name=""/>
          <p:cNvSpPr/>
          <p:nvPr/>
        </p:nvSpPr>
        <p:spPr>
          <a:xfrm>
            <a:off x="4470480" y="54957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5270400" y="48862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17" name=""/>
          <p:cNvSpPr/>
          <p:nvPr/>
        </p:nvSpPr>
        <p:spPr>
          <a:xfrm>
            <a:off x="6464160" y="55054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8" name=""/>
          <p:cNvGraphicFramePr/>
          <p:nvPr/>
        </p:nvGraphicFramePr>
        <p:xfrm>
          <a:off x="7264440" y="490536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19" name=""/>
          <p:cNvSpPr/>
          <p:nvPr/>
        </p:nvSpPr>
        <p:spPr>
          <a:xfrm flipH="1">
            <a:off x="7924320" y="531504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31992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32944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31088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ge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turns value in list at given index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Precondition: 0 &lt;= index &lt; size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get(int index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index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turn current.dat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(2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nserts the given value at the given index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inde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int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Implement the two-paramete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"/>
          <p:cNvSpPr/>
          <p:nvPr/>
        </p:nvSpPr>
        <p:spPr>
          <a:xfrm>
            <a:off x="533520" y="495288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514520" y="533412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1724040" y="530496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0" name=""/>
          <p:cNvGraphicFramePr/>
          <p:nvPr/>
        </p:nvGraphicFramePr>
        <p:xfrm>
          <a:off x="3276720" y="48769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31" name=""/>
          <p:cNvSpPr/>
          <p:nvPr/>
        </p:nvSpPr>
        <p:spPr>
          <a:xfrm>
            <a:off x="4470480" y="54957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2" name=""/>
          <p:cNvGraphicFramePr/>
          <p:nvPr/>
        </p:nvGraphicFramePr>
        <p:xfrm>
          <a:off x="5270400" y="48862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33" name=""/>
          <p:cNvSpPr/>
          <p:nvPr/>
        </p:nvSpPr>
        <p:spPr>
          <a:xfrm>
            <a:off x="6464160" y="55054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7264440" y="490536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35" name=""/>
          <p:cNvSpPr/>
          <p:nvPr/>
        </p:nvSpPr>
        <p:spPr>
          <a:xfrm flipH="1">
            <a:off x="7924320" y="531504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31992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32944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31088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ference semant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ference semant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Behavior where variables actually store the address of an object in memo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one reference variable is assigned to another, the object i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o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pied; both variables refer to th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ame obje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a1 = {4, 5, 2, 12, 14, 14, 9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[] a2 = a1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refers to same array as a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a2[0] = 7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1[0]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276720" y="5130720"/>
          <a:ext cx="475452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3276720" y="5130720"/>
          <a:ext cx="475452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6" name=""/>
          <p:cNvGrpSpPr/>
          <p:nvPr/>
        </p:nvGrpSpPr>
        <p:grpSpPr>
          <a:xfrm>
            <a:off x="533520" y="5105520"/>
            <a:ext cx="2438280" cy="444240"/>
            <a:chOff x="533520" y="5105520"/>
            <a:chExt cx="2438280" cy="444240"/>
          </a:xfrm>
        </p:grpSpPr>
        <p:sp>
          <p:nvSpPr>
            <p:cNvPr id="97" name=""/>
            <p:cNvSpPr/>
            <p:nvPr/>
          </p:nvSpPr>
          <p:spPr>
            <a:xfrm>
              <a:off x="533520" y="5105520"/>
              <a:ext cx="11430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57400" y="5321160"/>
              <a:ext cx="914400" cy="165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701720" y="5129280"/>
              <a:ext cx="38124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533520" y="5866920"/>
            <a:ext cx="2438280" cy="457560"/>
            <a:chOff x="533520" y="5866920"/>
            <a:chExt cx="2438280" cy="457560"/>
          </a:xfrm>
        </p:grpSpPr>
        <p:sp>
          <p:nvSpPr>
            <p:cNvPr id="101" name=""/>
            <p:cNvSpPr/>
            <p:nvPr/>
          </p:nvSpPr>
          <p:spPr>
            <a:xfrm>
              <a:off x="533520" y="5880240"/>
              <a:ext cx="11430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2057400" y="5866920"/>
              <a:ext cx="9144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701720" y="5904000"/>
              <a:ext cx="38124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 (2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nserts the given value at the given index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Precondition: 0 &lt;= index &lt;= size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index, int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index == 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ing to an empty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ont = new ListNode(value, fron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nserting into an existing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index - 1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urrent.next = new ListNode(value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  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urrent.nex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nceptual 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difference between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No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difference between an empty list and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is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you create each on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are the fields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No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ublic?  Is this bad sty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effect does this code have on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null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5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nceptual answ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consists of 0 to many node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node holds a single data element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list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nkedIntList list = null;</a:t>
            </a:r>
            <a:br>
              <a:rPr sz="20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pty list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nkedIntList list = new LinkedIntLis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's okay that the node fields are public, because client code never directly interacts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No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de doesn't change the list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change a list only in one of the following two way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ify it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o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ield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ify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x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ference of a node in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mov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moves and returns the list's first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remove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we remove the front node from a lis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es it matter what the list's contents are before the remov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moving front eleme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r" pos="839952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fore removing front elemen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r" pos="839952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r" pos="839952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r" pos="839952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r" pos="839952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r" pos="839952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r" pos="839952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r" pos="839952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first removal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second remova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"/>
          <p:cNvSpPr/>
          <p:nvPr/>
        </p:nvSpPr>
        <p:spPr>
          <a:xfrm>
            <a:off x="762120" y="48006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743120" y="51814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1952640" y="51526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3505320" y="47242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53" name=""/>
          <p:cNvSpPr/>
          <p:nvPr/>
        </p:nvSpPr>
        <p:spPr>
          <a:xfrm flipH="1">
            <a:off x="4167000" y="512748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762120" y="20574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743120" y="2438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1952640" y="24094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7" name=""/>
          <p:cNvGraphicFramePr/>
          <p:nvPr/>
        </p:nvGraphicFramePr>
        <p:xfrm>
          <a:off x="3505320" y="19810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58" name=""/>
          <p:cNvSpPr/>
          <p:nvPr/>
        </p:nvSpPr>
        <p:spPr>
          <a:xfrm>
            <a:off x="4699080" y="26002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5499000" y="1990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60" name=""/>
          <p:cNvSpPr/>
          <p:nvPr/>
        </p:nvSpPr>
        <p:spPr>
          <a:xfrm flipH="1">
            <a:off x="6171840" y="239544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567600" y="2847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577120" y="2847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3586320" y="561024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781680" y="4800600"/>
            <a:ext cx="190512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7763040" y="51814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7772040" y="5189400"/>
            <a:ext cx="423720" cy="29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mov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moves and returns the first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Throws a NoSuchElementException on empty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remove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front == null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row new NoSuchElementException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result = front.dat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ont = fro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mov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(2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moves value at given index from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Precondition: 0 &lt;= index &lt; siz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remove(int index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we remove any node in general from a lis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es it matter what the list's contents are before the remov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moving from a li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fore removing element at index 1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"/>
          <p:cNvSpPr/>
          <p:nvPr/>
        </p:nvSpPr>
        <p:spPr>
          <a:xfrm>
            <a:off x="762120" y="48006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743120" y="51814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1952640" y="51526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6" name=""/>
          <p:cNvGraphicFramePr/>
          <p:nvPr/>
        </p:nvGraphicFramePr>
        <p:xfrm>
          <a:off x="3505320" y="4724280"/>
          <a:ext cx="143172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755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77" name=""/>
          <p:cNvSpPr/>
          <p:nvPr/>
        </p:nvSpPr>
        <p:spPr>
          <a:xfrm>
            <a:off x="4699080" y="53434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5499000" y="47340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79" name=""/>
          <p:cNvSpPr/>
          <p:nvPr/>
        </p:nvSpPr>
        <p:spPr>
          <a:xfrm flipH="1">
            <a:off x="6152760" y="514368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762120" y="20574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743120" y="2438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1952640" y="24094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3" name=""/>
          <p:cNvGraphicFramePr/>
          <p:nvPr/>
        </p:nvGraphicFramePr>
        <p:xfrm>
          <a:off x="3505320" y="19810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84" name=""/>
          <p:cNvSpPr/>
          <p:nvPr/>
        </p:nvSpPr>
        <p:spPr>
          <a:xfrm>
            <a:off x="4699080" y="26002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5" name=""/>
          <p:cNvGraphicFramePr/>
          <p:nvPr/>
        </p:nvGraphicFramePr>
        <p:xfrm>
          <a:off x="5499000" y="1990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86" name=""/>
          <p:cNvSpPr/>
          <p:nvPr/>
        </p:nvSpPr>
        <p:spPr>
          <a:xfrm>
            <a:off x="6692760" y="261000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7" name=""/>
          <p:cNvGraphicFramePr/>
          <p:nvPr/>
        </p:nvGraphicFramePr>
        <p:xfrm>
          <a:off x="7493040" y="2009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88" name=""/>
          <p:cNvSpPr/>
          <p:nvPr/>
        </p:nvSpPr>
        <p:spPr>
          <a:xfrm flipH="1">
            <a:off x="8152920" y="241920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567600" y="2847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577120" y="2847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7558560" y="2847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586320" y="561024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596200" y="561024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moving from the fro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fore removing element at index 0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"/>
          <p:cNvSpPr/>
          <p:nvPr/>
        </p:nvSpPr>
        <p:spPr>
          <a:xfrm>
            <a:off x="762120" y="48006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1743120" y="51814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flipV="1">
            <a:off x="1952640" y="51526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9" name=""/>
          <p:cNvGraphicFramePr/>
          <p:nvPr/>
        </p:nvGraphicFramePr>
        <p:xfrm>
          <a:off x="3505320" y="47242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00" name=""/>
          <p:cNvSpPr/>
          <p:nvPr/>
        </p:nvSpPr>
        <p:spPr>
          <a:xfrm>
            <a:off x="4699080" y="53434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1" name=""/>
          <p:cNvGraphicFramePr/>
          <p:nvPr/>
        </p:nvGraphicFramePr>
        <p:xfrm>
          <a:off x="5499000" y="47340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02" name=""/>
          <p:cNvSpPr/>
          <p:nvPr/>
        </p:nvSpPr>
        <p:spPr>
          <a:xfrm flipH="1">
            <a:off x="6152760" y="514368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762120" y="20574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743120" y="2438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1952640" y="24094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6" name=""/>
          <p:cNvGraphicFramePr/>
          <p:nvPr/>
        </p:nvGraphicFramePr>
        <p:xfrm>
          <a:off x="3505320" y="19810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07" name=""/>
          <p:cNvSpPr/>
          <p:nvPr/>
        </p:nvSpPr>
        <p:spPr>
          <a:xfrm>
            <a:off x="4699080" y="26002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8" name=""/>
          <p:cNvGraphicFramePr/>
          <p:nvPr/>
        </p:nvGraphicFramePr>
        <p:xfrm>
          <a:off x="5499000" y="1990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09" name=""/>
          <p:cNvSpPr/>
          <p:nvPr/>
        </p:nvSpPr>
        <p:spPr>
          <a:xfrm>
            <a:off x="6692760" y="261000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0" name=""/>
          <p:cNvGraphicFramePr/>
          <p:nvPr/>
        </p:nvGraphicFramePr>
        <p:xfrm>
          <a:off x="7493040" y="2009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11" name=""/>
          <p:cNvSpPr/>
          <p:nvPr/>
        </p:nvSpPr>
        <p:spPr>
          <a:xfrm flipH="1">
            <a:off x="8152920" y="241920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567600" y="2847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577120" y="2847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558560" y="2847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586320" y="561024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596200" y="561024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moving the only eleme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fore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must change the front field to stor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stead of a n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 we need a special case to handle thi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"/>
          <p:cNvSpPr/>
          <p:nvPr/>
        </p:nvSpPr>
        <p:spPr>
          <a:xfrm>
            <a:off x="6172200" y="2057400"/>
            <a:ext cx="1905120" cy="1371600"/>
          </a:xfrm>
          <a:prstGeom prst="rect">
            <a:avLst/>
          </a:prstGeom>
          <a:solidFill>
            <a:srgbClr val="e6e6e6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7153200" y="2438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7162920" y="2438280"/>
            <a:ext cx="45720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762120" y="20574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1743120" y="2438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 flipV="1">
            <a:off x="1952640" y="24094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5" name=""/>
          <p:cNvGraphicFramePr/>
          <p:nvPr/>
        </p:nvGraphicFramePr>
        <p:xfrm>
          <a:off x="3505320" y="19810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26" name=""/>
          <p:cNvSpPr/>
          <p:nvPr/>
        </p:nvSpPr>
        <p:spPr>
          <a:xfrm flipH="1">
            <a:off x="4171680" y="23814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67600" y="2847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ferences and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Java, objects and arrays use reference semantics.  Why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efficiency.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pying large objects slows down a progra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haring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's useful to share an object's data among metho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 panel1 = new DrawingPanel(80, 5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rawingPanel panel2 = panel1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same window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anel2.setBackground(Color.CYA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724280" y="4537080"/>
            <a:ext cx="1981440" cy="1406520"/>
          </a:xfrm>
          <a:prstGeom prst="rect">
            <a:avLst/>
          </a:prstGeom>
          <a:ln w="0">
            <a:noFill/>
          </a:ln>
        </p:spPr>
      </p:pic>
      <p:grpSp>
        <p:nvGrpSpPr>
          <p:cNvPr id="107" name=""/>
          <p:cNvGrpSpPr/>
          <p:nvPr/>
        </p:nvGrpSpPr>
        <p:grpSpPr>
          <a:xfrm>
            <a:off x="1981080" y="4626000"/>
            <a:ext cx="2286000" cy="444600"/>
            <a:chOff x="1981080" y="4626000"/>
            <a:chExt cx="2286000" cy="444600"/>
          </a:xfrm>
        </p:grpSpPr>
        <p:sp>
          <p:nvSpPr>
            <p:cNvPr id="108" name=""/>
            <p:cNvSpPr/>
            <p:nvPr/>
          </p:nvSpPr>
          <p:spPr>
            <a:xfrm>
              <a:off x="1981080" y="4626000"/>
              <a:ext cx="11430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panel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505320" y="4842000"/>
              <a:ext cx="76176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149640" y="4649760"/>
              <a:ext cx="380880" cy="381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981080" y="5464080"/>
            <a:ext cx="2286000" cy="444240"/>
            <a:chOff x="1981080" y="5464080"/>
            <a:chExt cx="2286000" cy="444240"/>
          </a:xfrm>
        </p:grpSpPr>
        <p:sp>
          <p:nvSpPr>
            <p:cNvPr id="112" name=""/>
            <p:cNvSpPr/>
            <p:nvPr/>
          </p:nvSpPr>
          <p:spPr>
            <a:xfrm>
              <a:off x="1981080" y="5464080"/>
              <a:ext cx="11430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panel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3505320" y="5527080"/>
              <a:ext cx="76176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49640" y="5487840"/>
              <a:ext cx="38088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mov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(2)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moves value at given index from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Precondition: 0 &lt;= index &lt; size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remove(int index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index == 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pecial case: removing first elem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ont = fro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moving from elsewhere in the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index - 1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urrent.next = current.nex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Sor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integer value as a parameter and adds that value to a sorted list in sorted or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for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Sorted(17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fte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Sorted(17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"/>
          <p:cNvSpPr/>
          <p:nvPr/>
        </p:nvSpPr>
        <p:spPr>
          <a:xfrm>
            <a:off x="152280" y="2743200"/>
            <a:ext cx="1905120" cy="103824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1133640" y="301932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371600" y="317196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5" name=""/>
          <p:cNvGraphicFramePr/>
          <p:nvPr/>
        </p:nvGraphicFramePr>
        <p:xfrm>
          <a:off x="2424240" y="27432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36" name=""/>
          <p:cNvSpPr/>
          <p:nvPr/>
        </p:nvSpPr>
        <p:spPr>
          <a:xfrm>
            <a:off x="3618000" y="336240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7" name=""/>
          <p:cNvGraphicFramePr/>
          <p:nvPr/>
        </p:nvGraphicFramePr>
        <p:xfrm>
          <a:off x="4127400" y="275256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8" name=""/>
          <p:cNvGraphicFramePr/>
          <p:nvPr/>
        </p:nvGraphicFramePr>
        <p:xfrm>
          <a:off x="5878440" y="277164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39" name=""/>
          <p:cNvSpPr/>
          <p:nvPr/>
        </p:nvSpPr>
        <p:spPr>
          <a:xfrm flipH="1">
            <a:off x="6538680" y="318132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2467440" y="36720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4186440" y="36720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924880" y="36720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334120" y="336240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52280" y="5105520"/>
            <a:ext cx="1905120" cy="103824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1133640" y="538164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371600" y="553392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7" name=""/>
          <p:cNvGraphicFramePr/>
          <p:nvPr/>
        </p:nvGraphicFramePr>
        <p:xfrm>
          <a:off x="2424240" y="51055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8" name=""/>
          <p:cNvGraphicFramePr/>
          <p:nvPr/>
        </p:nvGraphicFramePr>
        <p:xfrm>
          <a:off x="5818320" y="5114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8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9" name=""/>
          <p:cNvGraphicFramePr/>
          <p:nvPr/>
        </p:nvGraphicFramePr>
        <p:xfrm>
          <a:off x="7569360" y="513396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50" name=""/>
          <p:cNvSpPr/>
          <p:nvPr/>
        </p:nvSpPr>
        <p:spPr>
          <a:xfrm flipH="1">
            <a:off x="8229240" y="554364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2467440" y="6033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877360" y="6033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7615440" y="6033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7024680" y="572436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3630600" y="572436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6" name=""/>
          <p:cNvGraphicFramePr/>
          <p:nvPr/>
        </p:nvGraphicFramePr>
        <p:xfrm>
          <a:off x="4140360" y="5114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57" name=""/>
          <p:cNvSpPr/>
          <p:nvPr/>
        </p:nvSpPr>
        <p:spPr>
          <a:xfrm>
            <a:off x="4199400" y="6033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308560" y="572436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common ca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ng to the middle of a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Sorted(17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ich references must be change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sort of loop do we nee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should the loop stop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"/>
          <p:cNvSpPr/>
          <p:nvPr/>
        </p:nvSpPr>
        <p:spPr>
          <a:xfrm>
            <a:off x="318960" y="2514600"/>
            <a:ext cx="1905120" cy="103824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300320" y="279072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538280" y="294336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4" name=""/>
          <p:cNvGraphicFramePr/>
          <p:nvPr/>
        </p:nvGraphicFramePr>
        <p:xfrm>
          <a:off x="2590920" y="25146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65" name=""/>
          <p:cNvSpPr/>
          <p:nvPr/>
        </p:nvSpPr>
        <p:spPr>
          <a:xfrm>
            <a:off x="3784680" y="313380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6" name=""/>
          <p:cNvGraphicFramePr/>
          <p:nvPr/>
        </p:nvGraphicFramePr>
        <p:xfrm>
          <a:off x="4294080" y="252396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67" name=""/>
          <p:cNvGraphicFramePr/>
          <p:nvPr/>
        </p:nvGraphicFramePr>
        <p:xfrm>
          <a:off x="6045120" y="254304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68" name=""/>
          <p:cNvSpPr/>
          <p:nvPr/>
        </p:nvSpPr>
        <p:spPr>
          <a:xfrm flipH="1">
            <a:off x="6705360" y="295272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2634120" y="3443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353120" y="3443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091560" y="3443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5500800" y="313380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rst attemp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incorrect loo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current.data &lt;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wrong with this cod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loop stops too late to affect the list in the right wa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"/>
          <p:cNvSpPr/>
          <p:nvPr/>
        </p:nvSpPr>
        <p:spPr>
          <a:xfrm>
            <a:off x="1081080" y="3809880"/>
            <a:ext cx="1905120" cy="103824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2062080" y="408636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300400" y="423864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8" name=""/>
          <p:cNvGraphicFramePr/>
          <p:nvPr/>
        </p:nvGraphicFramePr>
        <p:xfrm>
          <a:off x="3352680" y="38098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79" name=""/>
          <p:cNvSpPr/>
          <p:nvPr/>
        </p:nvSpPr>
        <p:spPr>
          <a:xfrm>
            <a:off x="4546440" y="4429080"/>
            <a:ext cx="497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0" name=""/>
          <p:cNvGraphicFramePr/>
          <p:nvPr/>
        </p:nvGraphicFramePr>
        <p:xfrm>
          <a:off x="5056200" y="38196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1" name=""/>
          <p:cNvGraphicFramePr/>
          <p:nvPr/>
        </p:nvGraphicFramePr>
        <p:xfrm>
          <a:off x="6807240" y="38386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82" name=""/>
          <p:cNvSpPr/>
          <p:nvPr/>
        </p:nvSpPr>
        <p:spPr>
          <a:xfrm flipH="1">
            <a:off x="7467120" y="424800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3395880" y="47386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5115240" y="47386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853680" y="47386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262560" y="4429080"/>
            <a:ext cx="497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6973200" y="2787480"/>
            <a:ext cx="1061640" cy="990360"/>
            <a:chOff x="6973200" y="2787480"/>
            <a:chExt cx="1061640" cy="990360"/>
          </a:xfrm>
        </p:grpSpPr>
        <p:sp>
          <p:nvSpPr>
            <p:cNvPr id="688" name=""/>
            <p:cNvSpPr/>
            <p:nvPr/>
          </p:nvSpPr>
          <p:spPr>
            <a:xfrm>
              <a:off x="6973200" y="2787480"/>
              <a:ext cx="106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urr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467480" y="3244680"/>
              <a:ext cx="0" cy="53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6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4"/>
          <p:cNvSpPr/>
          <p:nvPr/>
        </p:nvSpPr>
        <p:spPr>
          <a:xfrm>
            <a:off x="2971800" y="2209680"/>
            <a:ext cx="83988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Key idea: peeking ahea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ed version of the loo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current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.nex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data &lt;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time the loop stops in the right pla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3" name=""/>
          <p:cNvSpPr/>
          <p:nvPr/>
        </p:nvSpPr>
        <p:spPr>
          <a:xfrm>
            <a:off x="1081080" y="3809880"/>
            <a:ext cx="1905120" cy="103824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2062080" y="408636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2300400" y="423864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6" name=""/>
          <p:cNvGraphicFramePr/>
          <p:nvPr/>
        </p:nvGraphicFramePr>
        <p:xfrm>
          <a:off x="3352680" y="38098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97" name=""/>
          <p:cNvSpPr/>
          <p:nvPr/>
        </p:nvSpPr>
        <p:spPr>
          <a:xfrm>
            <a:off x="4546440" y="4429080"/>
            <a:ext cx="497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8" name=""/>
          <p:cNvGraphicFramePr/>
          <p:nvPr/>
        </p:nvGraphicFramePr>
        <p:xfrm>
          <a:off x="5056200" y="38196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99" name=""/>
          <p:cNvGraphicFramePr/>
          <p:nvPr/>
        </p:nvGraphicFramePr>
        <p:xfrm>
          <a:off x="6807240" y="38386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00" name=""/>
          <p:cNvSpPr/>
          <p:nvPr/>
        </p:nvSpPr>
        <p:spPr>
          <a:xfrm flipH="1">
            <a:off x="7467120" y="424800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3395880" y="47386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5115240" y="47386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6853680" y="47386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262560" y="4429080"/>
            <a:ext cx="497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5" name=""/>
          <p:cNvGrpSpPr/>
          <p:nvPr/>
        </p:nvGrpSpPr>
        <p:grpSpPr>
          <a:xfrm>
            <a:off x="5223960" y="2743200"/>
            <a:ext cx="1061640" cy="990360"/>
            <a:chOff x="5223960" y="2743200"/>
            <a:chExt cx="1061640" cy="990360"/>
          </a:xfrm>
        </p:grpSpPr>
        <p:sp>
          <p:nvSpPr>
            <p:cNvPr id="706" name=""/>
            <p:cNvSpPr/>
            <p:nvPr/>
          </p:nvSpPr>
          <p:spPr>
            <a:xfrm>
              <a:off x="5223960" y="2743200"/>
              <a:ext cx="106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urr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718240" y="3200400"/>
              <a:ext cx="0" cy="53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other case to hand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ng to the end of a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Sorted(42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Exception in thread "main": java.lang.NullPointerExcep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y does our code crash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can we change to fix this cas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0" name=""/>
          <p:cNvSpPr/>
          <p:nvPr/>
        </p:nvSpPr>
        <p:spPr>
          <a:xfrm>
            <a:off x="318960" y="2514600"/>
            <a:ext cx="1905120" cy="103824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300320" y="279072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538280" y="294336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3" name=""/>
          <p:cNvGraphicFramePr/>
          <p:nvPr/>
        </p:nvGraphicFramePr>
        <p:xfrm>
          <a:off x="2590920" y="25146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14" name=""/>
          <p:cNvSpPr/>
          <p:nvPr/>
        </p:nvSpPr>
        <p:spPr>
          <a:xfrm>
            <a:off x="3784680" y="313380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5" name=""/>
          <p:cNvGraphicFramePr/>
          <p:nvPr/>
        </p:nvGraphicFramePr>
        <p:xfrm>
          <a:off x="4294080" y="252396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6" name=""/>
          <p:cNvGraphicFramePr/>
          <p:nvPr/>
        </p:nvGraphicFramePr>
        <p:xfrm>
          <a:off x="6045120" y="254304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17" name=""/>
          <p:cNvSpPr/>
          <p:nvPr/>
        </p:nvSpPr>
        <p:spPr>
          <a:xfrm flipH="1">
            <a:off x="6705360" y="295272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2634120" y="3443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353120" y="3443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6091560" y="3443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5500800" y="313380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4"/>
          <p:cNvSpPr/>
          <p:nvPr/>
        </p:nvSpPr>
        <p:spPr>
          <a:xfrm>
            <a:off x="1752480" y="2209680"/>
            <a:ext cx="393084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ltiple loop tes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rrection to our loo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current.next != null &amp;&amp;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.next.data &lt;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must check for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x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before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heck it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dat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5" name=""/>
          <p:cNvSpPr/>
          <p:nvPr/>
        </p:nvSpPr>
        <p:spPr>
          <a:xfrm>
            <a:off x="1081080" y="3809880"/>
            <a:ext cx="1905120" cy="103824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2062080" y="408636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2300400" y="423864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8" name=""/>
          <p:cNvGraphicFramePr/>
          <p:nvPr/>
        </p:nvGraphicFramePr>
        <p:xfrm>
          <a:off x="3352680" y="38098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29" name=""/>
          <p:cNvSpPr/>
          <p:nvPr/>
        </p:nvSpPr>
        <p:spPr>
          <a:xfrm>
            <a:off x="4546440" y="4429080"/>
            <a:ext cx="497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0" name=""/>
          <p:cNvGraphicFramePr/>
          <p:nvPr/>
        </p:nvGraphicFramePr>
        <p:xfrm>
          <a:off x="5056200" y="38196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1" name=""/>
          <p:cNvGraphicFramePr/>
          <p:nvPr/>
        </p:nvGraphicFramePr>
        <p:xfrm>
          <a:off x="6807240" y="38386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32" name=""/>
          <p:cNvSpPr/>
          <p:nvPr/>
        </p:nvSpPr>
        <p:spPr>
          <a:xfrm flipH="1">
            <a:off x="7467120" y="424800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3395880" y="47386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5115240" y="47386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6853680" y="47386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6262560" y="4429080"/>
            <a:ext cx="497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7" name=""/>
          <p:cNvGrpSpPr/>
          <p:nvPr/>
        </p:nvGrpSpPr>
        <p:grpSpPr>
          <a:xfrm>
            <a:off x="6976440" y="2743200"/>
            <a:ext cx="1061640" cy="990360"/>
            <a:chOff x="6976440" y="2743200"/>
            <a:chExt cx="1061640" cy="990360"/>
          </a:xfrm>
        </p:grpSpPr>
        <p:sp>
          <p:nvSpPr>
            <p:cNvPr id="738" name=""/>
            <p:cNvSpPr/>
            <p:nvPr/>
          </p:nvSpPr>
          <p:spPr>
            <a:xfrm>
              <a:off x="6976440" y="2743200"/>
              <a:ext cx="106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urr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470720" y="3200400"/>
              <a:ext cx="0" cy="53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ird case to hand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ng to the front of a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Sorted(-1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will our code do in this cas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can we change to fix i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2" name=""/>
          <p:cNvSpPr/>
          <p:nvPr/>
        </p:nvSpPr>
        <p:spPr>
          <a:xfrm>
            <a:off x="318960" y="2514600"/>
            <a:ext cx="1905120" cy="103824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1300320" y="279072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538280" y="294336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5" name=""/>
          <p:cNvGraphicFramePr/>
          <p:nvPr/>
        </p:nvGraphicFramePr>
        <p:xfrm>
          <a:off x="2590920" y="25146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46" name=""/>
          <p:cNvSpPr/>
          <p:nvPr/>
        </p:nvSpPr>
        <p:spPr>
          <a:xfrm>
            <a:off x="3784680" y="313380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7" name=""/>
          <p:cNvGraphicFramePr/>
          <p:nvPr/>
        </p:nvGraphicFramePr>
        <p:xfrm>
          <a:off x="4294080" y="252396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48" name=""/>
          <p:cNvGraphicFramePr/>
          <p:nvPr/>
        </p:nvGraphicFramePr>
        <p:xfrm>
          <a:off x="6045120" y="254304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49" name=""/>
          <p:cNvSpPr/>
          <p:nvPr/>
        </p:nvSpPr>
        <p:spPr>
          <a:xfrm flipH="1">
            <a:off x="6705360" y="295272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2634120" y="3443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4353120" y="3443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091560" y="3443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5500800" y="313380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4"/>
          <p:cNvSpPr/>
          <p:nvPr/>
        </p:nvSpPr>
        <p:spPr>
          <a:xfrm>
            <a:off x="609480" y="5234040"/>
            <a:ext cx="15264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4"/>
          <p:cNvSpPr/>
          <p:nvPr/>
        </p:nvSpPr>
        <p:spPr>
          <a:xfrm>
            <a:off x="609480" y="2881440"/>
            <a:ext cx="132264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4"/>
          <p:cNvSpPr/>
          <p:nvPr/>
        </p:nvSpPr>
        <p:spPr>
          <a:xfrm>
            <a:off x="565200" y="1863720"/>
            <a:ext cx="440676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andling the fro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correction to our co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f (value &lt;= front.data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nsert at front of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ont = new ListNode(value, fron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nsert in middle of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current.next != null &amp;&amp;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.next.data &lt;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es our code now handle every possible cas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ourth case to hand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ng to (the front of) an empty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Sorted(42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will our code do in this cas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can we change to fix i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1" name=""/>
          <p:cNvSpPr/>
          <p:nvPr/>
        </p:nvSpPr>
        <p:spPr>
          <a:xfrm>
            <a:off x="1066680" y="2438280"/>
            <a:ext cx="1905120" cy="103824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2048040" y="271476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flipH="1">
            <a:off x="2048040" y="2719440"/>
            <a:ext cx="452160" cy="285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ferences as fiel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cts can store references to other objects as fiel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Homework 3 (HTML Validato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tmlValidat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tores a reference to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tores many references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tmlTa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tmlTa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stores a reference to its e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624960" y="3581280"/>
            <a:ext cx="5850360" cy="505440"/>
            <a:chOff x="624960" y="3581280"/>
            <a:chExt cx="5850360" cy="505440"/>
          </a:xfrm>
        </p:grpSpPr>
        <p:sp>
          <p:nvSpPr>
            <p:cNvPr id="118" name=""/>
            <p:cNvSpPr/>
            <p:nvPr/>
          </p:nvSpPr>
          <p:spPr>
            <a:xfrm>
              <a:off x="2255760" y="3581280"/>
              <a:ext cx="4219560" cy="5054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private Queue&lt;HtmlTag&gt; tags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24960" y="3586320"/>
              <a:ext cx="167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tmlValid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2256120" y="4419720"/>
            <a:ext cx="5289120" cy="446040"/>
            <a:chOff x="2256120" y="4419720"/>
            <a:chExt cx="5289120" cy="446040"/>
          </a:xfrm>
        </p:grpSpPr>
        <p:sp>
          <p:nvSpPr>
            <p:cNvPr id="121" name=""/>
            <p:cNvSpPr/>
            <p:nvPr/>
          </p:nvSpPr>
          <p:spPr>
            <a:xfrm>
              <a:off x="6843600" y="4419720"/>
              <a:ext cx="70164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b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234120" y="4419720"/>
              <a:ext cx="60948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624640" y="4419720"/>
              <a:ext cx="60948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014800" y="4419720"/>
              <a:ext cx="60984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405320" y="4419720"/>
              <a:ext cx="60948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46600" y="4419720"/>
              <a:ext cx="55872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124080" y="4419720"/>
              <a:ext cx="72252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1000"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fro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124080" y="4419720"/>
              <a:ext cx="44211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124080" y="4865760"/>
              <a:ext cx="44211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124080" y="4419720"/>
              <a:ext cx="0" cy="4460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846600" y="4419720"/>
              <a:ext cx="0" cy="4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05320" y="4419720"/>
              <a:ext cx="0" cy="4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014800" y="4419720"/>
              <a:ext cx="0" cy="4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624640" y="4419720"/>
              <a:ext cx="0" cy="4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234120" y="4419720"/>
              <a:ext cx="0" cy="4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843600" y="4419720"/>
              <a:ext cx="0" cy="4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545240" y="4419720"/>
              <a:ext cx="0" cy="4460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56120" y="4433760"/>
              <a:ext cx="90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Que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46440" y="4871880"/>
            <a:ext cx="3458880" cy="886680"/>
            <a:chOff x="46440" y="4871880"/>
            <a:chExt cx="3458880" cy="886680"/>
          </a:xfrm>
        </p:grpSpPr>
        <p:sp>
          <p:nvSpPr>
            <p:cNvPr id="140" name=""/>
            <p:cNvSpPr/>
            <p:nvPr/>
          </p:nvSpPr>
          <p:spPr>
            <a:xfrm>
              <a:off x="152280" y="5253120"/>
              <a:ext cx="3353040" cy="5054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private String elemen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6440" y="4871880"/>
              <a:ext cx="109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tmlTa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84920" y="5105520"/>
            <a:ext cx="3687480" cy="886320"/>
            <a:chOff x="4084920" y="5105520"/>
            <a:chExt cx="3687480" cy="886320"/>
          </a:xfrm>
        </p:grpSpPr>
        <p:sp>
          <p:nvSpPr>
            <p:cNvPr id="143" name=""/>
            <p:cNvSpPr/>
            <p:nvPr/>
          </p:nvSpPr>
          <p:spPr>
            <a:xfrm>
              <a:off x="4419720" y="5486400"/>
              <a:ext cx="3352680" cy="5054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private String elemen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84920" y="5105520"/>
              <a:ext cx="109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tmlTa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2895480" y="5562720"/>
            <a:ext cx="76320" cy="519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3886200"/>
            <a:ext cx="7632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3428640" y="4648320"/>
            <a:ext cx="68580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724280" y="4648320"/>
            <a:ext cx="838440" cy="76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62920" y="5791320"/>
            <a:ext cx="22860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486080" y="6157800"/>
            <a:ext cx="2247840" cy="395280"/>
            <a:chOff x="1486080" y="6157800"/>
            <a:chExt cx="2247840" cy="395280"/>
          </a:xfrm>
        </p:grpSpPr>
        <p:sp>
          <p:nvSpPr>
            <p:cNvPr id="151" name=""/>
            <p:cNvSpPr/>
            <p:nvPr/>
          </p:nvSpPr>
          <p:spPr>
            <a:xfrm>
              <a:off x="3389400" y="6157800"/>
              <a:ext cx="3445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048120" y="6157800"/>
              <a:ext cx="3412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705040" y="6157800"/>
              <a:ext cx="3430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362320" y="6157800"/>
              <a:ext cx="3427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62320" y="6157800"/>
              <a:ext cx="13716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362320" y="6553080"/>
              <a:ext cx="13716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615780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705040" y="615780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048120" y="615780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389400" y="615780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733920" y="615780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486080" y="6172200"/>
              <a:ext cx="82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6224760" y="6310440"/>
            <a:ext cx="2233440" cy="395280"/>
            <a:chOff x="6224760" y="6310440"/>
            <a:chExt cx="2233440" cy="395280"/>
          </a:xfrm>
        </p:grpSpPr>
        <p:sp>
          <p:nvSpPr>
            <p:cNvPr id="164" name=""/>
            <p:cNvSpPr/>
            <p:nvPr/>
          </p:nvSpPr>
          <p:spPr>
            <a:xfrm>
              <a:off x="8113680" y="6310440"/>
              <a:ext cx="3445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772400" y="6310440"/>
              <a:ext cx="3412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429680" y="6310440"/>
              <a:ext cx="3427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086600" y="6310440"/>
              <a:ext cx="3430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86600" y="6310440"/>
              <a:ext cx="13716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086600" y="6705720"/>
              <a:ext cx="13716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086600" y="631044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429680" y="631044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772400" y="631044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113680" y="631044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458200" y="631044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224760" y="6324480"/>
              <a:ext cx="82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4"/>
          <p:cNvSpPr/>
          <p:nvPr/>
        </p:nvSpPr>
        <p:spPr>
          <a:xfrm>
            <a:off x="1954080" y="2314440"/>
            <a:ext cx="268632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nal version of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s given value to list in sorted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Precondition: Existing elements are sor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Sorted(int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front == null ||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 &lt;= front.data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nsert at front of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ont = new ListNode(value, fron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nsert in middle of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current.next != null &amp;&amp;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   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.next.data &lt;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ther list featur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the following methods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iz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Emp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lea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oStr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dexOf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ntai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ield to the list to return its size more efficient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preconditions and exception tests to appropriate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an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mplement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nterfac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lass can declare that it "implements" an interfa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lass promises to contain each method in that interfa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Otherwise it will fail to compile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Bicycle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mplements Vehic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terface requirem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Banana 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implements Sha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haha, no methods! pwn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write a class that claims to b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a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ut doesn't implemen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erime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s, it will not compi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Banana.java:1: Banana is not abstract and does not override abstract method area() in Sha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public class Banana implements Shap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     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^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terfaces + polymorphis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s benefit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lient code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 the mo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y allow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olymorphism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the same code can work with different types of object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Info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ape 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shape: " + s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area : " + s.area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erim: " + s.perimeter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ircle circ = new Circle(12.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iangle tri = new Triangle(5, 12, 13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Info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r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Info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i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vs. array lis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have implemented two collection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y have similar behavior, implemented in different way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should be able to treat them the same way in client c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1731960" y="2362320"/>
          <a:ext cx="261144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  <a:gridCol w="4935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778" name=""/>
          <p:cNvSpPr/>
          <p:nvPr/>
        </p:nvSpPr>
        <p:spPr>
          <a:xfrm>
            <a:off x="126000" y="451332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9" name=""/>
          <p:cNvGraphicFramePr/>
          <p:nvPr/>
        </p:nvGraphicFramePr>
        <p:xfrm>
          <a:off x="1731960" y="41148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80" name=""/>
          <p:cNvSpPr/>
          <p:nvPr/>
        </p:nvSpPr>
        <p:spPr>
          <a:xfrm>
            <a:off x="2925720" y="473400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1" name=""/>
          <p:cNvGraphicFramePr/>
          <p:nvPr/>
        </p:nvGraphicFramePr>
        <p:xfrm>
          <a:off x="3726000" y="412416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82" name=""/>
          <p:cNvSpPr/>
          <p:nvPr/>
        </p:nvSpPr>
        <p:spPr>
          <a:xfrm>
            <a:off x="4919760" y="47433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3" name=""/>
          <p:cNvGraphicFramePr/>
          <p:nvPr/>
        </p:nvGraphicFramePr>
        <p:xfrm>
          <a:off x="5719680" y="414324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84" name=""/>
          <p:cNvSpPr/>
          <p:nvPr/>
        </p:nvSpPr>
        <p:spPr>
          <a:xfrm>
            <a:off x="893880" y="473400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6684840" y="47577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6" name=""/>
          <p:cNvGraphicFramePr/>
          <p:nvPr/>
        </p:nvGraphicFramePr>
        <p:xfrm>
          <a:off x="7485120" y="415764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87" name=""/>
          <p:cNvSpPr/>
          <p:nvPr/>
        </p:nvSpPr>
        <p:spPr>
          <a:xfrm flipH="1">
            <a:off x="8145000" y="456732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nt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presents a list of integ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erface IntLis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index, 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get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indexOf(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isEmpty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remove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(int index, 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siz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ArrayIntList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mplements Int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LinkedIntList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mplements Int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dundant client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ListClien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 list1 = new ArrayIntLis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1.add(18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1.add(27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1.add(9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System.out.println(list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1.remove(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System.out.println(list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IntList list2 = new LinkedIntLis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2.add(18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2.add(27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2.add(9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System.out.println(list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2.remove(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System.out.println(list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ent code w/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ListClien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Int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list1 = new ArrayIntLis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process(list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Int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list2 = new LinkedIntLis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process(list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process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ntList 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list.add(18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list.add(27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list.add(9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System.out.println(lis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list.remove(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System.out.println(lis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DTs as interfaces (11.1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stract data type (ADT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pecification of a collection of data and the operations that can be performed on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scribe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 collection does, no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how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t does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's collection framework uses interfaces to describe AD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lec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eq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DT can be implemented in multiple ways by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Deq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etc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They messed up on </a:t>
            </a:r>
            <a:r>
              <a:rPr b="0" lang="en-US" sz="2000" spc="-1" strike="noStrike">
                <a:solidFill>
                  <a:srgbClr val="808080"/>
                </a:solidFill>
                <a:latin typeface="Courier New"/>
              </a:rPr>
              <a:t>Stack</a:t>
            </a: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; there's no </a:t>
            </a:r>
            <a:r>
              <a:rPr b="0" lang="en-US" sz="2000" spc="-1" strike="noStrike">
                <a:solidFill>
                  <a:srgbClr val="808080"/>
                </a:solidFill>
                <a:latin typeface="Courier New"/>
              </a:rPr>
              <a:t>Stack</a:t>
            </a: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 interface, just a cla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7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ull referenc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alue that does not refer to any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elements of an array of objects are initialized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[] words = new String[5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 the same as the empty str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"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r the str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null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y does Java hav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?  What is it used for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3043080" y="3352680"/>
          <a:ext cx="4843440" cy="990720"/>
        </p:xfrm>
        <a:graphic>
          <a:graphicData uri="http://schemas.openxmlformats.org/drawingml/2006/table">
            <a:tbl>
              <a:tblPr/>
              <a:tblGrid>
                <a:gridCol w="874800"/>
                <a:gridCol w="793440"/>
                <a:gridCol w="793800"/>
                <a:gridCol w="793800"/>
                <a:gridCol w="793800"/>
                <a:gridCol w="79380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1069920" y="3733920"/>
            <a:ext cx="101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or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092320" y="396252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ADT interfac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using Java's built-in collection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considered good practice to always declare collection variables using the corresponding ADT interface typ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List&lt;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list = new ArrayList&lt;String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that accept a collection as a parameter should also declare the parameter using the ADT interface typ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tutter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List&lt;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list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y use ADTs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would we want more than one kind of list, queue, etc.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swer: Each implementation is more efficient at certain task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faster for adding/removing at the end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faster for adding/removing at the front/middl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n search a huge data set for a value in short time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slower but keeps the set of data in a sorted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hoose the optimal implementation for your task, and if the rest of your code is written to use the ADT interfaces, it will work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r list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implemented the following two list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hould be able to treat them the same way in client cod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of their methods are implemented the same way (redundancy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nked list carries around a clunky extra node cla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can store onl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lements, not any type of val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is inefficient to get or remove each element of a linked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02" name=""/>
          <p:cNvGraphicFramePr/>
          <p:nvPr/>
        </p:nvGraphicFramePr>
        <p:xfrm>
          <a:off x="4282920" y="1952640"/>
          <a:ext cx="211788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803" name=""/>
          <p:cNvSpPr/>
          <p:nvPr/>
        </p:nvSpPr>
        <p:spPr>
          <a:xfrm>
            <a:off x="3290040" y="36036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4" name=""/>
          <p:cNvGraphicFramePr/>
          <p:nvPr/>
        </p:nvGraphicFramePr>
        <p:xfrm>
          <a:off x="4282920" y="32050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05" name=""/>
          <p:cNvSpPr/>
          <p:nvPr/>
        </p:nvSpPr>
        <p:spPr>
          <a:xfrm>
            <a:off x="5486400" y="3814920"/>
            <a:ext cx="341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6" name=""/>
          <p:cNvGraphicFramePr/>
          <p:nvPr/>
        </p:nvGraphicFramePr>
        <p:xfrm>
          <a:off x="5904000" y="3214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07" name=""/>
          <p:cNvSpPr/>
          <p:nvPr/>
        </p:nvSpPr>
        <p:spPr>
          <a:xfrm>
            <a:off x="7162920" y="38149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8" name=""/>
          <p:cNvGraphicFramePr/>
          <p:nvPr/>
        </p:nvGraphicFramePr>
        <p:xfrm>
          <a:off x="7543800" y="3233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09" name=""/>
          <p:cNvSpPr/>
          <p:nvPr/>
        </p:nvSpPr>
        <p:spPr>
          <a:xfrm>
            <a:off x="4038480" y="3814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H="1">
            <a:off x="8229240" y="36576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all: ADT interfaces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1.1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stract data type (ADT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pecification of a collection of data and the operations that can be performed on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scribe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 collection does, no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ho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t does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's collection framework describes ADTs with interfac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lec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eq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ortedMa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DT can be implemented in multiple ways by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Deq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etc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Create an ADT interface for the two list clas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nt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interface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6.4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presents a list of integ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erface IntLis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index, 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get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indexOf(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isEmpty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remove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(int index, 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siz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ArrayIntList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mplements Int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LinkedIntList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mplements Int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r list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have implemented the following two list collection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We should be able to treat them the same way in client cod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ome methods are implemented the same way (redundancy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nked list carries around a clunky extra node cla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can store onl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lements, not any type of val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is inefficient to get or remove each element of a linked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17" name=""/>
          <p:cNvGraphicFramePr/>
          <p:nvPr/>
        </p:nvGraphicFramePr>
        <p:xfrm>
          <a:off x="4282920" y="1952640"/>
          <a:ext cx="211788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818" name=""/>
          <p:cNvSpPr/>
          <p:nvPr/>
        </p:nvSpPr>
        <p:spPr>
          <a:xfrm>
            <a:off x="3290040" y="36036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9" name=""/>
          <p:cNvGraphicFramePr/>
          <p:nvPr/>
        </p:nvGraphicFramePr>
        <p:xfrm>
          <a:off x="4282920" y="32050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20" name=""/>
          <p:cNvSpPr/>
          <p:nvPr/>
        </p:nvSpPr>
        <p:spPr>
          <a:xfrm>
            <a:off x="5486400" y="3814920"/>
            <a:ext cx="341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1" name=""/>
          <p:cNvGraphicFramePr/>
          <p:nvPr/>
        </p:nvGraphicFramePr>
        <p:xfrm>
          <a:off x="5904000" y="3214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22" name=""/>
          <p:cNvSpPr/>
          <p:nvPr/>
        </p:nvSpPr>
        <p:spPr>
          <a:xfrm>
            <a:off x="7162920" y="38149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3" name=""/>
          <p:cNvGraphicFramePr/>
          <p:nvPr/>
        </p:nvGraphicFramePr>
        <p:xfrm>
          <a:off x="7543800" y="3233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24" name=""/>
          <p:cNvSpPr/>
          <p:nvPr/>
        </p:nvSpPr>
        <p:spPr>
          <a:xfrm>
            <a:off x="4038480" y="3814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 flipH="1">
            <a:off x="8229240" y="36576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mon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ce that some of the methods are implemented the same way in both the array and linked list clas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ntai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Emp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we change our interface to a class?  Why / why no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can we capture this common behavior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bstract classes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9.6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stract clas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hybrid between an interface and a 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fines a superclass type that can contain method declarations (like an interface) and/or method bodies (like a clas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ike interfaces, abstract classes that cannot be instantiated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cannot us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create any objects of their typ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goes in an abstract clas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ation of common state and behavior that will be inherited by subclasses (parent class rol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clare generic behaviors that subclasses must implement (interface rol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bstract class synta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declaring an abstract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abstrac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clas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declaring an abstract meth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(any subclass must implement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abstrac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-206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lass ca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bstra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ven if it has no abstract 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-206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create variables (but not objects) of the abstrac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-206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Introduce an abstract class into the list hierarch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bstract and interfac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classes that claim to implement an interface must implement all methods of that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Empt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plements IntLi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}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 classes can claim to implement an interface without writing its methods; subclasses must implement the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abstrac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Empty implements IntList {}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o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Chil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tends Empt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}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ull referenc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set reference fields of an object are initialized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lass Studen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name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id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udent timmy = new Studen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3549600" y="4724280"/>
          <a:ext cx="1860480" cy="495360"/>
        </p:xfrm>
        <a:graphic>
          <a:graphicData uri="http://schemas.openxmlformats.org/drawingml/2006/table">
            <a:tbl>
              <a:tblPr/>
              <a:tblGrid>
                <a:gridCol w="1066680"/>
                <a:gridCol w="79380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"/>
          <p:cNvSpPr/>
          <p:nvPr/>
        </p:nvSpPr>
        <p:spPr>
          <a:xfrm>
            <a:off x="1374840" y="5257800"/>
            <a:ext cx="101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imm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438280" y="5486400"/>
            <a:ext cx="838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3549600" y="5334120"/>
          <a:ext cx="1860480" cy="495360"/>
        </p:xfrm>
        <a:graphic>
          <a:graphicData uri="http://schemas.openxmlformats.org/drawingml/2006/table">
            <a:tbl>
              <a:tblPr/>
              <a:tblGrid>
                <a:gridCol w="1066680"/>
                <a:gridCol w="79380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"/>
          <p:cNvSpPr/>
          <p:nvPr/>
        </p:nvSpPr>
        <p:spPr>
          <a:xfrm>
            <a:off x="3657600" y="4495680"/>
            <a:ext cx="1981080" cy="160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abstract list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uperclass with common code for a list of intege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bstrac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class AbstractIntList implements IntList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dd(size(), 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oolean contains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indexOf(value) &gt;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oolean isEmpty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size() =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ArrayIntList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extends AbstractIntLis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LinkedIntList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extends AbstractIntLis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bstract class vs.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do both interfaces and abstract classes exist in Java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abstract class can do everything an interface can do and mor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 why would someone ever use an interfac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swer: Java has single inheritan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extend only one superclas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implement many interfac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ving interfaces allows a class to be part of a hierarchy (polymorphism) without using up its inheritance relationship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8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8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8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8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r list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have implemented the following two list collection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We should be able to treat them the same way in client cod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Some of their methods are implemented the same way (redundancy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inked list carries around a clunky extra node cla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can store onl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lements, not any type of val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is inefficient to get or remove each element of a linked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40" name=""/>
          <p:cNvGraphicFramePr/>
          <p:nvPr/>
        </p:nvGraphicFramePr>
        <p:xfrm>
          <a:off x="4282920" y="1952640"/>
          <a:ext cx="211788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841" name=""/>
          <p:cNvSpPr/>
          <p:nvPr/>
        </p:nvSpPr>
        <p:spPr>
          <a:xfrm>
            <a:off x="3290040" y="36036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2" name=""/>
          <p:cNvGraphicFramePr/>
          <p:nvPr/>
        </p:nvGraphicFramePr>
        <p:xfrm>
          <a:off x="4282920" y="32050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43" name=""/>
          <p:cNvSpPr/>
          <p:nvPr/>
        </p:nvSpPr>
        <p:spPr>
          <a:xfrm>
            <a:off x="5486400" y="3814920"/>
            <a:ext cx="341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4" name=""/>
          <p:cNvGraphicFramePr/>
          <p:nvPr/>
        </p:nvGraphicFramePr>
        <p:xfrm>
          <a:off x="5904000" y="3214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45" name=""/>
          <p:cNvSpPr/>
          <p:nvPr/>
        </p:nvSpPr>
        <p:spPr>
          <a:xfrm>
            <a:off x="7162920" y="38149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6" name=""/>
          <p:cNvGraphicFramePr/>
          <p:nvPr/>
        </p:nvGraphicFramePr>
        <p:xfrm>
          <a:off x="7543800" y="3233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47" name=""/>
          <p:cNvSpPr/>
          <p:nvPr/>
        </p:nvSpPr>
        <p:spPr>
          <a:xfrm>
            <a:off x="4038480" y="3814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 flipH="1">
            <a:off x="8229240" y="36576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ner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ner clas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class defined inside of another 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created a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r non-static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will focus on standard non-static ("nested") inner clas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nes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ner classes are hidden from other classes (encapsulated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ner objects can access/modify the fields of the outer obj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51" name="" descr=""/>
          <p:cNvPicPr/>
          <p:nvPr/>
        </p:nvPicPr>
        <p:blipFill>
          <a:blip r:embed="rId1"/>
          <a:stretch/>
        </p:blipFill>
        <p:spPr>
          <a:xfrm>
            <a:off x="1523880" y="4952880"/>
            <a:ext cx="6172200" cy="12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ner class synta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outer (enclosing)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inner (nested)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clas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ly this file can see the inner class or make objects of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inner object is associated with the outer object that created it, so it can access/modify that outer object's methods/fiel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-1623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necessary, can refer to outer object as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uterClass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th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Convert the linked node into an inner 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r list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have implemented the following two list collection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We should be able to treat them the same way in client cod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Some of their methods are implemented the same way (redundancy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Linked list carries around a clunky extra node cla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ey can store onl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elements, not any type of val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is inefficient to get or remove each element of a linked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56" name=""/>
          <p:cNvGraphicFramePr/>
          <p:nvPr/>
        </p:nvGraphicFramePr>
        <p:xfrm>
          <a:off x="4282920" y="1952640"/>
          <a:ext cx="211788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857" name=""/>
          <p:cNvSpPr/>
          <p:nvPr/>
        </p:nvSpPr>
        <p:spPr>
          <a:xfrm>
            <a:off x="3290040" y="36036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8" name=""/>
          <p:cNvGraphicFramePr/>
          <p:nvPr/>
        </p:nvGraphicFramePr>
        <p:xfrm>
          <a:off x="4282920" y="32050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59" name=""/>
          <p:cNvSpPr/>
          <p:nvPr/>
        </p:nvSpPr>
        <p:spPr>
          <a:xfrm>
            <a:off x="5486400" y="3814920"/>
            <a:ext cx="341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0" name=""/>
          <p:cNvGraphicFramePr/>
          <p:nvPr/>
        </p:nvGraphicFramePr>
        <p:xfrm>
          <a:off x="5904000" y="3214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61" name=""/>
          <p:cNvSpPr/>
          <p:nvPr/>
        </p:nvSpPr>
        <p:spPr>
          <a:xfrm>
            <a:off x="7162920" y="38149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2" name=""/>
          <p:cNvGraphicFramePr/>
          <p:nvPr/>
        </p:nvGraphicFramePr>
        <p:xfrm>
          <a:off x="7543800" y="3233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63" name=""/>
          <p:cNvSpPr/>
          <p:nvPr/>
        </p:nvSpPr>
        <p:spPr>
          <a:xfrm>
            <a:off x="4038480" y="3814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 flipH="1">
            <a:off x="8229240" y="36576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ype Parameters (Generics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new ArrayList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(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all: When constructing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.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you specify the type of elements it will contain betwee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say that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 accepts a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 param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 that it is a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generic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&lt;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ames = new ArrayList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&lt;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s.add("Marty Stepp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s.add("Stuart Reges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gener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a parameterized (generic)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y putting the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you are demanding that any client that constructs your object must supply a type para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can require multiple type parameters separated by comm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rest of your class's code can refer to that type by na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Convert our list classes to use generic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enerics and arrays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5.4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Foo&lt;T&gt;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T myField;            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method1(T param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800000"/>
                </a:solidFill>
                <a:latin typeface="Courier New"/>
              </a:rPr>
              <a:t>myField = new T()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800000"/>
                </a:solidFill>
                <a:latin typeface="Courier New"/>
              </a:rPr>
              <a:t>T[] a = new T[10];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yField = param;          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[] a2 = (T[]) (new Object[10]);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not create objects or arrays of a parameterized typ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 create variables of that type, accept them as parameters, return them, or create arrays by casting from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[]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enerics and inner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Foo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T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class Inner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&lt;T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{}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incorr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class Inner {}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corr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an outer class declares a type parameter, inner classes can also use that type para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ner class should NOT redeclare the type parameter.  (If you do, it will create a second type parameter with the same name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ings you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an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do w/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null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a variable or an array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s = null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ords[2] = null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nt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timmy.name);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nul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whether a variable or array element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timmy.name == null) { ...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s a parameter to a meth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me methods don't lik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arameters and throw excep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rom a method  (often to indicate failur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r list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have implemented the following two list collection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We should be able to treat them the same way in client cod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Some of their methods are implemented the same way (redundancy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Linked list carries around a clunky extra node cla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They can store only </a:t>
            </a:r>
            <a:r>
              <a:rPr b="0" lang="en-US" sz="2000" spc="-1" strike="noStrike">
                <a:solidFill>
                  <a:srgbClr val="80808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 elements, not any type of val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t is inefficient to get or remove each element of a linked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75" name=""/>
          <p:cNvGraphicFramePr/>
          <p:nvPr/>
        </p:nvGraphicFramePr>
        <p:xfrm>
          <a:off x="4282920" y="1952640"/>
          <a:ext cx="211788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876" name=""/>
          <p:cNvSpPr/>
          <p:nvPr/>
        </p:nvSpPr>
        <p:spPr>
          <a:xfrm>
            <a:off x="3290040" y="36036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7" name=""/>
          <p:cNvGraphicFramePr/>
          <p:nvPr/>
        </p:nvGraphicFramePr>
        <p:xfrm>
          <a:off x="4282920" y="32050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78" name=""/>
          <p:cNvSpPr/>
          <p:nvPr/>
        </p:nvSpPr>
        <p:spPr>
          <a:xfrm>
            <a:off x="5486400" y="3814920"/>
            <a:ext cx="341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9" name=""/>
          <p:cNvGraphicFramePr/>
          <p:nvPr/>
        </p:nvGraphicFramePr>
        <p:xfrm>
          <a:off x="5904000" y="3214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80" name=""/>
          <p:cNvSpPr/>
          <p:nvPr/>
        </p:nvSpPr>
        <p:spPr>
          <a:xfrm>
            <a:off x="7162920" y="38149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1" name=""/>
          <p:cNvGraphicFramePr/>
          <p:nvPr/>
        </p:nvGraphicFramePr>
        <p:xfrm>
          <a:off x="7543800" y="3233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82" name=""/>
          <p:cNvSpPr/>
          <p:nvPr/>
        </p:nvSpPr>
        <p:spPr>
          <a:xfrm>
            <a:off x="4038480" y="3814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 flipH="1">
            <a:off x="8229240" y="36576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list itera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following code is particularly slow on linked li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&lt;Integer&gt; list = new LinkedList&lt;Integer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.size(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value =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.get(i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value % 2 == 1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.remove(i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y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can we do to improve the runtim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all: Iterators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1.1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tera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object that allows a client to traverse the elements of a collection, regardless of its implement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members a position within a collection, and allows you to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 the element at that po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vance to the next po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possibly) remove or change the element at that po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nefit: A common way to examin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ny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llection's elemen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88" name=""/>
          <p:cNvGrpSpPr/>
          <p:nvPr/>
        </p:nvGrpSpPr>
        <p:grpSpPr>
          <a:xfrm>
            <a:off x="117000" y="5333760"/>
            <a:ext cx="3240360" cy="1295280"/>
            <a:chOff x="117000" y="5333760"/>
            <a:chExt cx="3240360" cy="1295280"/>
          </a:xfrm>
        </p:grpSpPr>
        <p:sp>
          <p:nvSpPr>
            <p:cNvPr id="889" name=""/>
            <p:cNvSpPr/>
            <p:nvPr/>
          </p:nvSpPr>
          <p:spPr>
            <a:xfrm>
              <a:off x="1147680" y="5943600"/>
              <a:ext cx="2209680" cy="685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urrent element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urrent index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flipV="1">
              <a:off x="2214360" y="533376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17000" y="6110280"/>
              <a:ext cx="99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ter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92" name=""/>
          <p:cNvGraphicFramePr/>
          <p:nvPr/>
        </p:nvGraphicFramePr>
        <p:xfrm>
          <a:off x="762120" y="4495680"/>
          <a:ext cx="2117520" cy="790560"/>
        </p:xfrm>
        <a:graphic>
          <a:graphicData uri="http://schemas.openxmlformats.org/drawingml/2006/table">
            <a:tbl>
              <a:tblPr/>
              <a:tblGrid>
                <a:gridCol w="782280"/>
                <a:gridCol w="460440"/>
                <a:gridCol w="41436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893" name=""/>
          <p:cNvSpPr/>
          <p:nvPr/>
        </p:nvSpPr>
        <p:spPr>
          <a:xfrm>
            <a:off x="3442320" y="48942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4" name=""/>
          <p:cNvGraphicFramePr/>
          <p:nvPr/>
        </p:nvGraphicFramePr>
        <p:xfrm>
          <a:off x="4435560" y="44956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95" name=""/>
          <p:cNvSpPr/>
          <p:nvPr/>
        </p:nvSpPr>
        <p:spPr>
          <a:xfrm>
            <a:off x="5638680" y="5105520"/>
            <a:ext cx="341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6" name=""/>
          <p:cNvGraphicFramePr/>
          <p:nvPr/>
        </p:nvGraphicFramePr>
        <p:xfrm>
          <a:off x="6056280" y="45054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97" name=""/>
          <p:cNvSpPr/>
          <p:nvPr/>
        </p:nvSpPr>
        <p:spPr>
          <a:xfrm>
            <a:off x="7315200" y="5105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8" name=""/>
          <p:cNvGraphicFramePr/>
          <p:nvPr/>
        </p:nvGraphicFramePr>
        <p:xfrm>
          <a:off x="7696080" y="45244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99" name=""/>
          <p:cNvSpPr/>
          <p:nvPr/>
        </p:nvSpPr>
        <p:spPr>
          <a:xfrm>
            <a:off x="4191120" y="5105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 flipH="1">
            <a:off x="8381520" y="49482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"/>
          <p:cNvGrpSpPr/>
          <p:nvPr/>
        </p:nvGrpSpPr>
        <p:grpSpPr>
          <a:xfrm>
            <a:off x="4613040" y="5333760"/>
            <a:ext cx="3240360" cy="1295280"/>
            <a:chOff x="4613040" y="5333760"/>
            <a:chExt cx="3240360" cy="1295280"/>
          </a:xfrm>
        </p:grpSpPr>
        <p:sp>
          <p:nvSpPr>
            <p:cNvPr id="902" name=""/>
            <p:cNvSpPr/>
            <p:nvPr/>
          </p:nvSpPr>
          <p:spPr>
            <a:xfrm>
              <a:off x="5643720" y="5943600"/>
              <a:ext cx="2209680" cy="685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urrent element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urrent index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 flipV="1">
              <a:off x="6710400" y="533376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613040" y="6110280"/>
              <a:ext cx="99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ter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terato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ery provided collection has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terat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&lt;String&gt; set = new HashSet&lt;String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terator&lt;String&gt; itr = set.iterator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Write iterators for our array list and linked li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don't need to support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pera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07" name=""/>
          <p:cNvGraphicFramePr/>
          <p:nvPr/>
        </p:nvGraphicFramePr>
        <p:xfrm>
          <a:off x="123840" y="1371600"/>
          <a:ext cx="8915400" cy="2147760"/>
        </p:xfrm>
        <a:graphic>
          <a:graphicData uri="http://schemas.openxmlformats.org/drawingml/2006/table">
            <a:tbl>
              <a:tblPr/>
              <a:tblGrid>
                <a:gridCol w="1555560"/>
                <a:gridCol w="73598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sNex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re are more elements to exam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next element from the collection (throws a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oSuchElementExcep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re are none left to examin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from the collection the last value returned by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(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(throw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llegalStateExcep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you have not called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(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ye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list itera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ArrayList&lt;E&gt; extends AbstractIntList&lt;E&gt;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ot perfect; doesn't forbid multiple removes in a r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class ArrayIterator implements Iterator&lt;E&gt;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int index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current position in li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ArrayIterator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dex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oolean hasNext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index &lt; siz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E next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dex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get(index - 1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remove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rrayList.this.remove(index - 1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dex--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list itera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LinkedList&lt;E&gt; extends AbstractIntList&lt;E&gt;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ot perfect; doesn't support re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class LinkedIterator implements Iterator&lt;E&gt;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ListNode current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current position in li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LinkedIterator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urrent = fron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oolean hasNext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current != null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E next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 result = current.data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remove() {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ot implemented for n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 new UnsupportedOperationExceptio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or-each loop an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terab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's collections can be iterated using a "for-each" loo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&lt;String&gt; list = new LinkedList&lt;String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or (String s : list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s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r collections do not work in this wa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x this, your list must implement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ter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erfa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erface Iterable&lt;E&gt;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 Iterator&lt;E&gt; iterator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nal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interface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5.3, 16.5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presents a list of valu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erface List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E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extends Iterable&lt;E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E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index, E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E get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indexOf(E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isEmpty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public Iterator&lt;E&gt; iterator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remove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(int index, E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siz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3:34Z</dcterms:modified>
  <cp:revision>266</cp:revision>
  <dc:subject/>
  <dc:title>CSE 142 Python Slides</dc:title>
</cp:coreProperties>
</file>