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151F-883C-44F5-A975-F076EB07A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an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lready called System.out.println and passed parameter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EB63-7176-4A46-A95D-2F348F58096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ers and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parameters are pass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method is call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is stored into the parameter varia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's code executes using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51040" y="3328920"/>
            <a:ext cx="3200040" cy="1066680"/>
            <a:chOff x="2651040" y="3328920"/>
            <a:chExt cx="3200040" cy="1066680"/>
          </a:xfrm>
        </p:grpSpPr>
        <p:sp>
          <p:nvSpPr>
            <p:cNvPr id="121" name=""/>
            <p:cNvSpPr/>
            <p:nvPr/>
          </p:nvSpPr>
          <p:spPr>
            <a:xfrm>
              <a:off x="2651040" y="3328920"/>
              <a:ext cx="255276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67520" y="3739320"/>
              <a:ext cx="583560" cy="6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651040" y="3657600"/>
            <a:ext cx="3210120" cy="738000"/>
            <a:chOff x="2651040" y="3657600"/>
            <a:chExt cx="3210120" cy="738000"/>
          </a:xfrm>
        </p:grpSpPr>
        <p:sp>
          <p:nvSpPr>
            <p:cNvPr id="124" name=""/>
            <p:cNvSpPr/>
            <p:nvPr/>
          </p:nvSpPr>
          <p:spPr>
            <a:xfrm>
              <a:off x="5277600" y="3739680"/>
              <a:ext cx="583560" cy="65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51040" y="3657600"/>
              <a:ext cx="255348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method accepts a parameter, it is illegal to call it without passing any value for that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);  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lue passed to a method must be of the correct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3.7);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hang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a parameterized method for drawing lines of st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can accept multiple parameters. (separat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calling it, you must pass values for each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draw boxes with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primitive variables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re passed as parameters, their values are copi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parameter will not affect the variable passed 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trang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1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ange(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5033880"/>
            <a:ext cx="159048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 x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 x =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Parameter Mystery" problem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 = 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 and " +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86400" y="4572000"/>
            <a:ext cx="2590920" cy="609480"/>
            <a:chOff x="5486400" y="4572000"/>
            <a:chExt cx="2590920" cy="609480"/>
          </a:xfrm>
        </p:grpSpPr>
        <p:sp>
          <p:nvSpPr>
            <p:cNvPr id="144" name=""/>
            <p:cNvSpPr/>
            <p:nvPr/>
          </p:nvSpPr>
          <p:spPr>
            <a:xfrm>
              <a:off x="548640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67480" y="4572000"/>
              <a:ext cx="6098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reci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teacher = "Bictoli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Bictol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string parameters. Us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 string many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turn valu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'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219320"/>
          <a:ext cx="6643800" cy="523548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172200" y="5243400"/>
          <a:ext cx="2771640" cy="100512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quare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21.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quareRoot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1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bsoluteVal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bs(-5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bsoluteValue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3, 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do not print to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produces ("returns") a numeric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ults are used as expressions (printed, stored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send out a value as the result of a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posite of a parame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meter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the caller to the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a method to its call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call to the method can be used as part of an expre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144880" y="3581280"/>
            <a:ext cx="4904640" cy="2431080"/>
            <a:chOff x="2144880" y="3581280"/>
            <a:chExt cx="4904640" cy="2431080"/>
          </a:xfrm>
        </p:grpSpPr>
        <p:sp>
          <p:nvSpPr>
            <p:cNvPr id="165" name=""/>
            <p:cNvSpPr/>
            <p:nvPr/>
          </p:nvSpPr>
          <p:spPr>
            <a:xfrm>
              <a:off x="2144880" y="44578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966760" y="3660480"/>
              <a:ext cx="14475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30520" y="358128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36400" y="3645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39760" y="4856040"/>
              <a:ext cx="147456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30520" y="561348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2890800" y="4952880"/>
              <a:ext cx="152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73080" y="4879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119040" y="3965400"/>
              <a:ext cx="129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0440" y="4178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09560" y="5397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the following expres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used to bound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replace negative ages with 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cap the maximum age to 4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rks of real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other non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y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Math.pow(10, 3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.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 print poorly (too many digi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1.0 / 3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result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.33333333333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uter repres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 an imprecise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0.3, the outpu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 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nversion from one type to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promot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get exact division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runc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a real number to an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Math.pow(10, 3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ed reci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ag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10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that distinguishes similar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asting has high precedence and only casts the item immediately next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+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.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parentheses to force evaluation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version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achieved in other 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ope(1, 3, 5, 1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degrees Fahrenheit to Cels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horten the examples by returning a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: Not sto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students incorrectly think tha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sends a variable's name back to the calling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sult not def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the commo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returning sends the variabl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turned value must be stored into a variable or used in an expression to be useful to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s and Classes; St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326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is a blueprint or template for constructing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224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(type) is a templat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ing man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(window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-169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has 1000s of classes.  Later (Ch.8) we will write our 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0">
              <a:spcBef>
                <a:spcPts val="649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entity that contain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ble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havi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interact with the method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ata is hidden in the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(creating) an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ing an object's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/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202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206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207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storing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ke most other objects,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created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poin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fig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ask of printing the following lines/box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dex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 of a string are numbered with 0-bas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dex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 = "R. Kelly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character's index :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character's index : 1 less than the string's 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dividual characters are value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397160" y="2446200"/>
          <a:ext cx="6535440" cy="830520"/>
        </p:xfrm>
        <a:graphic>
          <a:graphicData uri="http://schemas.openxmlformats.org/drawingml/2006/table">
            <a:tbl>
              <a:tblPr/>
              <a:tblGrid>
                <a:gridCol w="1379520"/>
                <a:gridCol w="644400"/>
                <a:gridCol w="646200"/>
                <a:gridCol w="642960"/>
                <a:gridCol w="644400"/>
                <a:gridCol w="644400"/>
                <a:gridCol w="644760"/>
                <a:gridCol w="644400"/>
                <a:gridCol w="644400"/>
              </a:tblGrid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methods are called using the dot no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gangsta = "Dr. D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angsta.length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280" y="1371600"/>
          <a:ext cx="8839440" cy="307188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 where the start of the given string appears in this string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s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1 = "Stuart Rege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2 = "Marty Stepp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indexOf("e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ing(7, 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Reg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3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.substring(1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arty 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st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  0123456789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book = "Building Java Program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you extract the wor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Java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ild and return a new string, rather than modifying the current st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dify a variable's value, you must reassign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 =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ve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ystem.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active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ds input from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le the program runs, it asks the user to type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put typed by the user is stored in variable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icky; users are unpredictable and misbe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nteractive programs have more interesting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can read input from many sour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unicat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(the opposit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read from files (Ch. 6), web sites, database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s foun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o you can use 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to read console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typed by the user is retur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 typed " + ag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-15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message telling the user what input to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69880" y="1339920"/>
          <a:ext cx="8001000" cy="1976400"/>
        </p:xfrm>
        <a:graphic>
          <a:graphicData uri="http://schemas.openxmlformats.org/drawingml/2006/table">
            <a:tbl>
              <a:tblPr/>
              <a:tblGrid>
                <a:gridCol w="2133360"/>
                <a:gridCol w="586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 and returns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one-wor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eads a one-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UserInp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ears = 65 - ag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years + " years to retirement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ole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old are you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6 years until retireme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407960" y="29718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7960" y="322416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7960" y="38862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38000" y="5765760"/>
            <a:ext cx="10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76720" y="5867280"/>
            <a:ext cx="2367000" cy="961920"/>
            <a:chOff x="3276720" y="5867280"/>
            <a:chExt cx="2367000" cy="9619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0" t="0" r="5017" b="0"/>
            <a:stretch/>
          </p:blipFill>
          <p:spPr>
            <a:xfrm>
              <a:off x="4648320" y="5867280"/>
              <a:ext cx="9954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flipH="1" flipV="1">
              <a:off x="3276720" y="5927040"/>
              <a:ext cx="13716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 flipV="1">
            <a:off x="3076560" y="3352680"/>
            <a:ext cx="9619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672160" y="3200400"/>
            <a:ext cx="576000" cy="474840"/>
            <a:chOff x="5672160" y="3200400"/>
            <a:chExt cx="576000" cy="4748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5672160" y="3200400"/>
              <a:ext cx="39276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064920" y="3338280"/>
              <a:ext cx="183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9" name=""/>
          <p:cNvGraphicFramePr/>
          <p:nvPr/>
        </p:nvGraphicFramePr>
        <p:xfrm>
          <a:off x="7543800" y="2743200"/>
          <a:ext cx="1295280" cy="39528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7238880" y="3262320"/>
          <a:ext cx="159372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cannerMultip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Please type two numbers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uct = num1 * num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product is " + produc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ease type two number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8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product is 4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ad multiple values from one l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dundan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redund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variables help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constants hel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better solu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429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line of any number of st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box of any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toke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k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unit of user input, as rea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kens are separated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t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paces, tabs, new lin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okens appear on the following line of in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John Smith   42.0  "Hello world"  $2.50  "  19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oken is not the type you ask for, it crash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ag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sole.nextIn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 is your ag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im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util.InputMismatchExcep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In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word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name.toUpperCa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has " + name.length() +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letters and starts with " + name.substring(0,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hamilliona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MILLIONAIRE has 14 letters and starts with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line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ddress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addres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Lin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user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outputs a person's "gangsta name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initi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d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name (all c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-izz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your name, play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arge Simp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angsta name is "M. Diddy SIMPSON Marge-izzle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your "gangsta" n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GangstaN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your name, playa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plit name into first/last name and initi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r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0, name.indexOf(" ")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name.indexOf(" ") +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.toUpperCas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nitial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.substring(0,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r gangsta name is \"" + fInitial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. Diddy " + last + " " + first + "-izzle\"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passed to a method by its cal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ri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draw any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clar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thod, we will state that it requires a parameter for the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l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method, we will specify how many stars to dra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101" name="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ing that a method requires a parameter in order to r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, the caller must specif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teger code to pr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s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ing a method and specifying values for its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rameter can guide the number of repetitions of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08Z</dcterms:modified>
  <cp:revision>122</cp:revision>
  <dc:subject/>
  <dc:title>CSE 142 Python Slides</dc:title>
</cp:coreProperties>
</file>