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E37B-CD70-4864-8B18-377788CF9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99BB-E536-4FAD-85DA-C0B4FCE4FFA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1AA9-F26A-44A9-8E9F-FC1C8ABD522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C39D-E916-4C95-9B5D-D651DAB15AF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86E5-AED9-486D-BF2F-32B1C8C0D3E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CFD0-9923-4EA6-A3A1-031A8F034CD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2F62-E3FB-4F4A-B340-FAD49236F86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1DE1-8890-4439-B2C1-2C11C7840AC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45A1-6E9B-4EBB-B46C-2A2476848BC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54FF-DF64-44EA-96B7-4817CDE27B5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750C-8B84-4489-9A4A-CD6AB5F77C0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CD53-6758-440C-9128-B54D18A7F74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4300-D6DC-4DEF-8C4E-2672C8089D1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0619-A509-4A81-A074-D1A06FE75D8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52E4-A152-4EAB-8290-AE29C3B4D77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9CB6-DBE1-4E43-8E23-48A2B615978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A8B1-2777-412D-866B-C7E29E4A2BD1}"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1:53Z</dcterms:modified>
  <cp:revision>118</cp:revision>
  <dc:subject/>
  <dc:title>CSE 142 Python Slides</dc:title>
</cp:coreProperties>
</file>