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694A-8F09-456E-A1BA-465613707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This program computes two people's body mass index (BMI)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compares them.  The code uses parameters, returns, and Sca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java.util.*;  // so that I can use Sca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class BMI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static void main(String[] args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"This program reads in data for two people and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"computes their body mass index (BMI)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finish 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we round the BMI numb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B536-B0E0-43CC-8DCD-F0A01E0361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== tests equality, not = .  The = is used for the assignment operat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CB0F-C6E1-41FB-AF4C-5AEF265B6806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al 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ula for body mass index (BMI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produces output lik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is program reads data for two people a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utes their body mass index (BMI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70.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94.2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62.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30.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1 BMI = 27.86892857142857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verweigh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2 BMI = 23.48582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fference = 4.383104571428571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888840" y="1884240"/>
                <a:ext cx="24638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M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eight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eigh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0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3" name=""/>
          <p:cNvGraphicFramePr/>
          <p:nvPr/>
        </p:nvGraphicFramePr>
        <p:xfrm>
          <a:off x="5867280" y="1295280"/>
          <a:ext cx="3054600" cy="1505160"/>
        </p:xfrm>
        <a:graphic>
          <a:graphicData uri="http://schemas.openxmlformats.org/drawingml/2006/table">
            <a:tbl>
              <a:tblPr/>
              <a:tblGrid>
                <a:gridCol w="1420920"/>
                <a:gridCol w="1633680"/>
              </a:tblGrid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ight 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low 1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derw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5 - 2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.0 - 29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w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.0 and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computes two people's body mass index (BMI) and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ares them.  The code uses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Scanner for input, and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parameters/returns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BMI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roductio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 bmi1 = person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 bmi2 = person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port overall result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port(1, bmi1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port(2, bmi2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Difference = " + Math.abs(bmi1 - bmi2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ints a welcome message explaining the program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introduction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This program reads data for two people and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computes their body mass index (BMI).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information for one person, computes their BMI, and returns it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double person(Scanner console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Enter next person's information: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height (in inches)?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height = console.nextDouble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weight (in pounds)?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weight = console.nextDouble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bodyMass = bmi(height, weight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bodyMas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Computes/returns a person's BMI based on their height and weigh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double bmi(double height, double weight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(weight * 703 / height / height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Outputs information about a person's BMI and weight statu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report(int number, double bmi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Person " + number + " BMI = " + bmi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f (bmi &lt; 18.5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underweight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else if (bmi &lt; 25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normal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else if (bmi &lt; 30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overweight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obese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canners as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any methods need to read input, declar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pass it to the other methods as a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readSum3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s for 3 numbers and returns their su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eadSum3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canner conso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3 numbers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1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2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3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num1 + num2 + num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gical op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s can be combined us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gical opera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Truth tables" for each, used with logical valu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03400" y="1905120"/>
          <a:ext cx="6897600" cy="1460520"/>
        </p:xfrm>
        <a:graphic>
          <a:graphicData uri="http://schemas.openxmlformats.org/drawingml/2006/table">
            <a:tbl>
              <a:tblPr/>
              <a:tblGrid>
                <a:gridCol w="1333440"/>
                <a:gridCol w="1652400"/>
                <a:gridCol w="2914920"/>
                <a:gridCol w="996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&amp;&amp; (-1 &lt; 5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|| (-1 &lt; 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2 ==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104840" y="4422600"/>
          <a:ext cx="3721320" cy="1825560"/>
        </p:xfrm>
        <a:graphic>
          <a:graphicData uri="http://schemas.openxmlformats.org/drawingml/2006/table">
            <a:tbl>
              <a:tblPr/>
              <a:tblGrid>
                <a:gridCol w="866880"/>
                <a:gridCol w="866880"/>
                <a:gridCol w="1054080"/>
                <a:gridCol w="933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226200" y="4422600"/>
          <a:ext cx="1774800" cy="1095480"/>
        </p:xfrm>
        <a:graphic>
          <a:graphicData uri="http://schemas.openxmlformats.org/drawingml/2006/table">
            <a:tbl>
              <a:tblPr/>
              <a:tblGrid>
                <a:gridCol w="866880"/>
                <a:gridCol w="907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valuating logic expres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al operators have lower precedence than ma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* 7 &gt;= 3 + 5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7 - 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 * 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gt;= 3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 * 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5    &gt;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+ 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5    &gt;= 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al operators cannot be "chained" as in algeb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&lt;=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=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true   &lt;= 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ssume tha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error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, combine multiple test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||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&lt;=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amp;&amp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&lt;=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   &amp;&amp; 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gical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result of each of the following expres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4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 = 1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z = 2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&lt; x &amp;&amp; y &lt;= 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% 2 == y % 2 || x % 2 == z %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&lt;= y + z &amp;&amp; x &gt;= y + 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!(x &lt; y &amp;&amp; x &lt; z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x + y) % 2 == 0 || !((z - y) % 2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swers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a program that prompts for information about a person and uses it to decide whether to date th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actor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cto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xtracting common/redundant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reduce or eliminate redundancy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a =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6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y +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==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419720" y="2895480"/>
            <a:ext cx="4647600" cy="3276720"/>
            <a:chOff x="4419720" y="2895480"/>
            <a:chExt cx="4647600" cy="3276720"/>
          </a:xfrm>
        </p:grpSpPr>
        <p:sp>
          <p:nvSpPr>
            <p:cNvPr id="132" name=""/>
            <p:cNvSpPr/>
            <p:nvPr/>
          </p:nvSpPr>
          <p:spPr>
            <a:xfrm>
              <a:off x="5790960" y="3657600"/>
              <a:ext cx="3276360" cy="173988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a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x = 3 * a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f (a == 2) {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y = y + 10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 = b + x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4419720" y="2895480"/>
              <a:ext cx="1301040" cy="3276720"/>
              <a:chOff x="4419720" y="2895480"/>
              <a:chExt cx="1301040" cy="3276720"/>
            </a:xfrm>
          </p:grpSpPr>
          <p:sp>
            <p:nvSpPr>
              <p:cNvPr id="134" name=""/>
              <p:cNvSpPr/>
              <p:nvPr/>
            </p:nvSpPr>
            <p:spPr>
              <a:xfrm>
                <a:off x="5033880" y="4535640"/>
                <a:ext cx="68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9720" y="2895480"/>
                <a:ext cx="609480" cy="3276720"/>
              </a:xfrm>
              <a:custGeom>
                <a:avLst/>
                <a:gdLst>
                  <a:gd name="textAreaLeft" fmla="*/ 0 w 609480"/>
                  <a:gd name="textAreaRight" fmla="*/ 219960 w 609480"/>
                  <a:gd name="textAreaTop" fmla="*/ 85320 h 3276720"/>
                  <a:gd name="textAreaBottom" fmla="*/ 3191400 h 327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s the larger of the two given integ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can return different values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ever path the code enters, it will return tha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ing a value causes a method to immediately ex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paths through the code must reach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l paths must 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// Error: not all paths return a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also does not comp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f (b &gt;=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b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think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/i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might skip all paths, even though mathematically it must choose one or the oth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tat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cutes a block of statements only if a test is tr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double gpa = console.nextDouble()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(gpa &gt;= 2.0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ystem.out.println("Application accepted.")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629400" y="2019240"/>
            <a:ext cx="223992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adr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pair of real number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returns the quadrant for that poin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adrant(-4.2, 17.3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point falls directly on either axis,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4510080" y="2617920"/>
            <a:ext cx="0" cy="2209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3714840"/>
            <a:ext cx="2819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98080" y="3524400"/>
            <a:ext cx="9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x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68720" y="3519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x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2680" y="2236680"/>
            <a:ext cx="9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y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24440" y="47656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y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36440" y="286704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1280" y="288144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1280" y="410040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36440" y="408636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int quadrant(double x, double y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x &gt; 0 &amp;&amp; y &g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lt; 0 &amp;&amp; y &g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2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lt; 0 &amp;&amp; y &l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3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gt; 0 &amp;&amp; y &l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4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      </a:t>
            </a:r>
            <a:r>
              <a:rPr b="1" lang="en-US" sz="1900" spc="-1" strike="noStrike">
                <a:solidFill>
                  <a:srgbClr val="008080"/>
                </a:solidFill>
                <a:latin typeface="Courier New"/>
              </a:rPr>
              <a:t>// at least one coordinate equals 0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umulative algorithm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many nu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you find the sum of all integers from 1-1000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is may require a lot of typ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1 + 2 + 3 + 4 + ... 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 want the sum from 1 - 1,000,000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the sum up to any maximu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generalize the above cod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sum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nt sum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1000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m = sum + i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mulative s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riable that keeps a sum in progress and is updated repeatedly until summing is fin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above code is an attempt at a cumulative s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umulative sum variables must be declare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uts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loops that update them, so that they will still exist after the lo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produ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cumulative idea can be used with other opera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product =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20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 = product *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2 ^ 20 =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ould we make the base and exponent adjustabl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cumul. su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do a cumulative sum of user in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100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Type a number: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m = sum + console.next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sum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ei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from Ch. 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mpt for how many people, and each person's dinner c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static methods to structure the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log of exec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ow many people ate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1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0.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2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3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30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4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.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total: $75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x: $6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p: $11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tal: $92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sum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enhances our Receipt program using a cumulative su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Receipt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subtotal = meals(consol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ults(sub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ompts for number of people and returns total meal subtota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double meals(Scanner consol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How many people ate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eople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Int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subtotal = 0.0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umulative su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people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Person #" + i +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: How much did your dinner cost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personCo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Doubl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total = subtotal + personCos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dd to su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btotal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answer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alculates total owed, assuming 8% tax and 15% ti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results(double subtota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ax = subtotal * .08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ip = subtotal * .15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otal = subtotal + tax + ti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ubtotal: $" + sub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x: $" + tax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ip: $" + tip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otal: $" + 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tat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cutes one block if a test is true, another if fa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double gpa = console.nextDouble(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gpa &gt;= 2.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Welcome to Mars University!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Application denied.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638680" y="2003400"/>
            <a:ext cx="3254400" cy="21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ntF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umber of factors of an integ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untFactors(24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caus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, 2, 3, 4, 6, 8, 12, and 24 are factors of 24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8080"/>
                </a:solidFill>
                <a:latin typeface="Courier New"/>
              </a:rPr>
              <a:t>// Returns how many factors the given number ha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unt++;  </a:t>
            </a:r>
            <a:r>
              <a:rPr b="1" lang="en-US" sz="2100" spc="-1" strike="noStrike">
                <a:solidFill>
                  <a:srgbClr val="008080"/>
                </a:solidFill>
                <a:latin typeface="Courier New"/>
              </a:rPr>
              <a:t>// i is a factor of numb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ext Process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A primitive type representing single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stored internally as an array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Ali G.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legal to have variables, parameters, returns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rrounded with apostrophes: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or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4'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\n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or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\''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letter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'P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etter);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etter + " Diddy"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Did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191120" y="2562120"/>
          <a:ext cx="4722840" cy="942840"/>
        </p:xfrm>
        <a:graphic>
          <a:graphicData uri="http://schemas.openxmlformats.org/drawingml/2006/table">
            <a:tbl>
              <a:tblPr/>
              <a:tblGrid>
                <a:gridCol w="874440"/>
                <a:gridCol w="641520"/>
                <a:gridCol w="641160"/>
                <a:gridCol w="641520"/>
                <a:gridCol w="641520"/>
                <a:gridCol w="641160"/>
                <a:gridCol w="641520"/>
              </a:tblGrid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A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l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i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 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G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.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A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accessed using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pt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dex parameter and return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t that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food = "cookie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firstLetter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.charAt(0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'c'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firstLetter + " is for " + foo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us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oop to print or examine each charac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major = "CSE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major.length(); i++) {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c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jor.charAt(i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c);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    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ompa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other opera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word = console.nex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 last = word.charAt(word.length() - 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ast == 's'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word + " is plural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prints the alphab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char c = 'a';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 &lt;= 'z'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c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c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mapped to an integer value intern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ed an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SCII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65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66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 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3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97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98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*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4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uses automatic conversion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 + 10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107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 + 'A'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1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onvert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o the equival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ype-cast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char) ('a' + 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c'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ch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St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964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h"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b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h'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hey are differe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59640" indent="-274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object; it contains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 = "h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s.toUpperCase()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"H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len = s.length()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first = s.charAt(0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'H'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59640" indent="-274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primitive; you can't call methods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c = 'h'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c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c.toUpperCase();             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s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s.charAt(0).toUpperCase();   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 + 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 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 + 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 + 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 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 + 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rmatting text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92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f("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mat string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format string can contai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laceholder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insert parameter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19160" indent="-15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placeholders are used instead of + concate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9160" indent="0">
              <a:spcBef>
                <a:spcPts val="499"/>
              </a:spcBef>
              <a:buNone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-1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x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nd y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!\n", x, 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is 3 and y is -17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spcBef>
                <a:spcPts val="2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019160" indent="-15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es not drop to the next line unless you wri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widt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acters wide, right-alig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-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acters wide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lef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alig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acters wide, right-alig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3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j = 1; j &lt;= 10; j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f(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%4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, (i * j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  2   3   4   5   6   7   8   9  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   4   6   8  10  12  14  16  18  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  6   9  12  15  18  21  24  27  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preci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rounded to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s after decim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s wide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s after decim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-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de (left-align)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ter decim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gpa = 3.253764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your GPA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.1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", gp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more precisely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8.3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", gp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r GPA is 3.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ore precisely:    3.25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657600" y="5186520"/>
            <a:ext cx="1218960" cy="682560"/>
            <a:chOff x="3657600" y="5186520"/>
            <a:chExt cx="1218960" cy="682560"/>
          </a:xfrm>
        </p:grpSpPr>
        <p:sp>
          <p:nvSpPr>
            <p:cNvPr id="192" name=""/>
            <p:cNvSpPr/>
            <p:nvPr/>
          </p:nvSpPr>
          <p:spPr>
            <a:xfrm>
              <a:off x="3817440" y="5500800"/>
              <a:ext cx="87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6200000">
              <a:off x="4114800" y="4729320"/>
              <a:ext cx="304560" cy="121896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205160" y="4294080"/>
            <a:ext cx="876960" cy="582480"/>
            <a:chOff x="4205160" y="4294080"/>
            <a:chExt cx="876960" cy="582480"/>
          </a:xfrm>
        </p:grpSpPr>
        <p:sp>
          <p:nvSpPr>
            <p:cNvPr id="195" name=""/>
            <p:cNvSpPr/>
            <p:nvPr/>
          </p:nvSpPr>
          <p:spPr>
            <a:xfrm rot="5400000">
              <a:off x="4533840" y="4533480"/>
              <a:ext cx="228600" cy="4572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05160" y="4294080"/>
              <a:ext cx="87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lational expres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statements and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loops both use logical test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se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xpressions, seen in Ch. 5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s us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lational opera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19320" y="3921120"/>
          <a:ext cx="6735600" cy="2556000"/>
        </p:xfrm>
        <a:graphic>
          <a:graphicData uri="http://schemas.openxmlformats.org/drawingml/2006/table">
            <a:tbl>
              <a:tblPr/>
              <a:tblGrid>
                <a:gridCol w="1333440"/>
                <a:gridCol w="2948040"/>
                <a:gridCol w="1549440"/>
                <a:gridCol w="904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qu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+ 1 ==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es not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.2 != 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ss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l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eater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g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ss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6 &lt;=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eater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.0 &gt;= 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ei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better format its outp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play results in the format below,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2 digits af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log of exec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many people ate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1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2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3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5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4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total:  $7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x:       $5.6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ip:       $10.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tal:     $86.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alculates total owed, assuming 8% tax and 15% ti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sults(double subtota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ax = subtotal * .08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ip = subtotal * .15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otal = subtotal + tax + ti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Subtotal: $" + sub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ax: $" + ta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ip: $" + ti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otal: $" + 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Subtotal: $%.2f\n", sub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ax:      $%.2f\n", ta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ip:      $%.2f\n", ti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otal:    $%.2f\n", 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al operators such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ail on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name == "Barney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 love you, you love me,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e're a happy family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de will compile, but it will not print the so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ares objects b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ferenc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een later), so it often give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ven when tw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have the same let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s are compared using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ame.equals("Barney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 love you, you love me,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e're a happy family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hnically this is a method that returns a value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ype used in logical tes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st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startsWith("Prof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When are your office hours?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qualsIgnoreCase("STUART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Let's talk about meta!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8160" y="1219320"/>
          <a:ext cx="9067680" cy="2690640"/>
        </p:xfrm>
        <a:graphic>
          <a:graphicData uri="http://schemas.openxmlformats.org/drawingml/2006/table">
            <a:tbl>
              <a:tblPr/>
              <a:tblGrid>
                <a:gridCol w="3038400"/>
                <a:gridCol w="6029280"/>
              </a:tblGrid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IgnoreCas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, ignoring upper vs. lower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rt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he given string is found within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470720" y="1969920"/>
            <a:ext cx="1563840" cy="4572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isuse of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percentage did you earn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ercent = 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9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A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8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B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7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C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6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D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lt; 6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F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hooses between outcomes using many t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x &g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Positive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if (x &l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Negative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Zero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950080" y="1969920"/>
            <a:ext cx="3117600" cy="243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/if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56880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ends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exactly one path must be tak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ends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code might not execute any pat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place == 1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Gold medal!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if (place == 2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Silver medal!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if (place == 3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Bronze medal.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91320" y="2013120"/>
            <a:ext cx="3276360" cy="28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truc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1295280"/>
          <a:ext cx="9144000" cy="51246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46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ctly 1 path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808080"/>
                      </a:solidFill>
                    </a:lnR>
                    <a:lnT>
                      <a:noFill/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or 1 path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24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117880" indent="-28908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 1, or many paths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dependent tests; not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74320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ich 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1) if/if/if   (2) nested if/else   (3) nested if/else/i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a user is lower, middle, or upper-class based on inco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else if / el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you made the dean's list (GPA ≥ 3.8) or honor roll (3.5-3.8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else i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a number is divisible by 2, 3, and/or 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quentia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if / i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ing a grade of A, B, C, D, or F based on a percent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else if / else if / else if / e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12Z</dcterms:modified>
  <cp:revision>122</cp:revision>
  <dc:subject/>
  <dc:title>CSE 142 Python Slides</dc:title>
</cp:coreProperties>
</file>