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65957704"/>
        <c:axId val="23398829"/>
      </c:barChart>
      <c:catAx>
        <c:axId val="659577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98829"/>
        <c:crossesAt val="0"/>
        <c:auto val="1"/>
        <c:lblAlgn val="ctr"/>
        <c:lblOffset val="100"/>
        <c:noMultiLvlLbl val="0"/>
      </c:catAx>
      <c:valAx>
        <c:axId val="23398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5770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CD00-D07F-468A-B057-1714974A5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1FF5-CFE8-457D-81D4-5494853589E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1:48Z</dcterms:modified>
  <cp:revision>117</cp:revision>
  <dc:subject/>
  <dc:title>CSE 142 Python Slides</dc:title>
</cp:coreProperties>
</file>