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9.xml.rels" ContentType="application/vnd.openxmlformats-package.relationships+xml"/>
  <Override PartName="/ppt/notesSlides/notesSlide5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DD394-63D0-4190-9EFE-81E48AF797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's annoying to flip back and forth between slides here.  I suggest putting the classes into a text editor so you can switch windows back and forth to fill in the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C6798-D94D-4F69-BEFA-281256632AAB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39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3032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hapter 9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heritance and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pyright (c) Pearson 2013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heritan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heritanc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way to form new classes based on existing classes, taking on their attributes/behavi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way to group related class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way to share code between two or more class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lass ca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extend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, absorbing its data/behavi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uperclas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The parent class that is being extend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ubclas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The child class that extends the superclass and inherits its behavio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2462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bclass gets a copy of every field and method from supercla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heritance syntax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633240" indent="-2433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extends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uperclas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Secretary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extends Employe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24372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extending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each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creta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bject now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ceives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etHour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etSala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etVacationDay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etVacationForm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ethod automatically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be treated as 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y client code (seen later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rove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ecretary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A class to represent secretarie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Secretary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extends Employe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takeDictation(String text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Taking dictation of text: " + text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we only write the parts unique to each typ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creta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herit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etHour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etSala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etVacationDay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etVacationForm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ethods from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creta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dds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akeDict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etho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Lawy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 the following lawyer regula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awyers who get an extra week of paid vacation (a total of 3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awyers use a pink form when applying for vacation leav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awyers have some unique behavior: they know how to su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We want lawyers to inheri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st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havior from employee, but we want to replace parts with new behavi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verriding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verri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To write a new version of a method in a subclass that replaces the superclass's vers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pecial syntax required to override a superclass method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Just write a new version of it in the subclas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Lawyer extends Employe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overrides getVacationForm method in Employee cla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ublic String getVacationForm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return "pink"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ercise: Complete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awy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las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3 weeks vacation, pink vacation form, can su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1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Lawye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A class to represent lawyer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Lawyer extends Employe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overrides getVacationForm from Employee clas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ring getVacationForm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"pink"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overrides getVacationDays from Employee clas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int getVacationDays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15;     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3 weeks vaca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sue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I'll see you in court!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ercise: Complete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rket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lass.  Marketers make $10,000 extra ($50,000 total) and know how to advertis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Markete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A class to represent marketer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Marketer extends Employe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advertise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Act now while supplies last!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double getSalary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50000.0;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$50,000.00 / yea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evels of inheritan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evels of inheritance in a hierarchy are allow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A legal secretary is the same as a regular secretary but makes more money ($45,000) and can file legal brief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class LegalSecretary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  <a:ea typeface="Courier New"/>
              </a:rPr>
              <a:t>extends Secretary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ercise: Complete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egalSecreta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las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LegalSecretary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A class to represent legal secretarie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LegalSecretary extends Secretary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fileLegalBriefs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I could file all day!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double getSalary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45000.0;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$45,000.00 / yea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Interacting with the superclas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software crisi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oftware enginee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The practice of developing, designing, documenting, testing large computer program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-scale projects face many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getting many programmers to work togeth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getting code finished on tim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voiding redundant cod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inding and fixing bug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aintaining, improving, and reusing existing cod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de reus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The practice of writing program code once and using it in many contex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hanges to common behavior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's return to our previous company/employee examp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ine a company-wide change affecting all employe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Everyone is given a $10,000 raise due to inflatio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base employee salary is now $50,000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egal secretaries now make $55,000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arketers now make $60,000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must modify our code to reflect this policy chang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odifying the super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A class to represent employees (20-page manual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Employe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nt getHours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40; 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works 40 hours / wee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double getSalary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50000.0;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$50,000.00 / yea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re we finished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ubclasses are still incorrec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y have overridde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etSala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o return other valu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2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2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 unsatisfactory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LegalSecretary extends Secretary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double getSalary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55000.0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Marketer extends Employe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double getSalary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60000.0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blem: The subclasses' salaries are based on the Employee salary, but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etSala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de does not reflect thi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alling overridden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classes can call overridden methods with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u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uper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ethod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LegalSecretary extends Secretary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double getSalary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uble baseSalary =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uper.getSalary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baseSalary + 5000.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2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ercise: Modify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awy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rket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o us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up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3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roved subclas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Lawyer extends Employe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ring getVacationForm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"pink"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int getVacationDays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super.getVacationDays() + 5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sue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I'll see you in court!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Marketer extends Employe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advertise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Act now while supplies last!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double getSalary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super.getSalary() + 10000.0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heritance and constructo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ine that we want to give employees more vacation days the longer they've been with the compan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or each year worked, we'll award 2 additional vacation day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an Employee object is constructed, we'll pass in the number of years the person has been with the compan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will require us to modify our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lass and add some new state and behavio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ercise: Make necessary modifications to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las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odifie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Employe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Employe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vate int years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Employee(int initialYear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years = initialYears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int getHours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40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double getSalary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50000.0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int getVacationDays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10 + 2 * years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ring getVacationForm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"yellow"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oblem with constructo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that we've added the constructor to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, our subclasses do not compile.  The err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Lawyer.java:2: cannot find symbo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symbol  : constructor Employee(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location: class Employe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public class Lawyer extends Employe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       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^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short explanation: Once we write a constructor (that requires parameters) in the superclass, we must now write constructors for our employee subclasses as well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long explanation: (next slide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detailed explan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uctors are not inherit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ubclasses don't inherit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mployee(int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nstructo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2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ubclasses receive a default constructor that contain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2462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2462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Lawyer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2462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uper()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calls Employee() construc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2462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2462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2462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ou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mployee(int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places the defaul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mployee(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subclasses' default constructors are now trying to call a non-existent defaul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nstructo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Calling superclass constructor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uper(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Lawyer extends Employe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Lawyer(int years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uper(years)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calls Employee construc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up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all must be the first statement in the constructo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ercise: Make a similar modification to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rket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las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aw firm employee analog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rules: hours, vacation, benefits, regulations 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ll employees attend a common orientation to learn general company rul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employee receives a 20-page manual of common rul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ubdivision also has specific ru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mployee receives a smaller (1-3 page) manual of these rul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maller manual adds some new rules and also changes some rules from the large manua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2" name="Picture 4" descr="employee_manuals"/>
          <p:cNvPicPr/>
          <p:nvPr/>
        </p:nvPicPr>
        <p:blipFill>
          <a:blip r:embed="rId1"/>
          <a:stretch/>
        </p:blipFill>
        <p:spPr>
          <a:xfrm>
            <a:off x="5062680" y="4572000"/>
            <a:ext cx="3776400" cy="21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odifie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Markete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A class to represent marketer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Marketer extends Employe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public Marketer(int year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uper(years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advertise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Act now while supplies last!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double getSalary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super.getSalary() + 10000.0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ercise: Modify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creta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subclas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246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aries' years of employment are not track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246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y do not earn extra vacation for years work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odifie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ecretary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A class to represent secretarie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Secretary extends Employe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public Secretary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uper(0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takeDictation(String text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Taking dictation of text: " + text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inc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creta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doesn't require any parameters to its constructor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egalSecreta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mpiles without a constructo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ts default constructor calls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cretary(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onstructo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heritance and fiel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to give lawyers $5000 for each year at the compan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lnSpc>
                <a:spcPct val="7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Lawyer extends Employe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double getSalary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return super.getSalary() + 5000 * years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lnSpc>
                <a:spcPct val="7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59200" indent="-2592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; the error is the follow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Lawyer.java:7: years has private access in Employ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return super.getSalary() + 5000 * years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                                          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^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59200" indent="-2592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vate fields cannot be directly accessed from subclass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ne reason: So that subclassing can't break encapsulatio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can we get around this limitation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5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5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5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5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rove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Employe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an accessor for any field needed by the subclas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Employe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vate int years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Employee(int initialYear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years = initialYears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public int getYears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return years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Lawyer extends Employe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Lawyer(int year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uper(years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double getSalary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super.getSalary() + 5000 *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getYears(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visit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ecretar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creta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currently has a poor solu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set all Secretaries to 0 years because they do not get a vacation bonus for their servic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we call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etYear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n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creta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, we'll always get 0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isn't a good solution; what if we wanted to give some other reward to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al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employees based on years of servic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esign ou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to allow for a better solu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rove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Employe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74320" indent="-274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's separate the standard 10 vacation days from those that are awarded based on seniorit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Employe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int years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Employee(int initialYear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years = initialYears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nt getVacationDays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10 +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SeniorityBonus(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vacation days given for each year in the compan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int getSeniorityBonus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2 * years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does this help us improve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creta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4320" indent="-27432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rove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ecretary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creta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an selectively overrid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SeniorityBonu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; whe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VacationDay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uns, it will use the new vers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6920" indent="-2829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hoosing a method at runtime is called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dynamic bindin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6920" indent="-2829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6920" indent="-2829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6920" indent="-282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Secretary extends Employe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6920" indent="-282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ecretary(int year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6920" indent="-282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uper(years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6920" indent="-282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6920" indent="-282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6920" indent="-282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Secretaries don't get a bonus for their years of servic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6920" indent="-282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int getSeniorityBonus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6920" indent="-282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6920" indent="-282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6920" indent="-282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6920" indent="-282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takeDictation(String text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6920" indent="-282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Taking dictation of text: " + text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6920" indent="-282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6920" indent="-282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ass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Objec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types of objects have a superclass name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very class implicitly extend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bjec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defines several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ring toString()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turns a text representation of the object,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ften so that it can be print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boolean equals(Object other)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mpare the object to any other for equality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turn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f the objects have equal stat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2" name="Picture 5" descr=""/>
          <p:cNvPicPr/>
          <p:nvPr/>
        </p:nvPicPr>
        <p:blipFill>
          <a:blip r:embed="rId1"/>
          <a:stretch/>
        </p:blipFill>
        <p:spPr>
          <a:xfrm>
            <a:off x="7467480" y="1905120"/>
            <a:ext cx="139068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Objec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variabl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 store any object in a variable of typ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bject o1 = new Point(5, -3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bject o2 = "hello there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bject o3 = new Scanner(System.in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variable only knows how to do general thing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s = o1.toString();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ok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int len = o2.length();        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// erro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String line = o3.nextLine();  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// erro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 write methods that accept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aramet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checkForNull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Object o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o == null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row new IllegalArgumentException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call: comparing obj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==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perator does not work well with objec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==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mpares references to objects, not their stat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t only produce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when you compare an object to itself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 p1 = new Point(5, 3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 p2 = new Point(5, 3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1 == p2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fals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equal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3962520" y="4495680"/>
            <a:ext cx="2438280" cy="102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4051440" y="4665600"/>
          <a:ext cx="2197080" cy="397080"/>
        </p:xfrm>
        <a:graphic>
          <a:graphicData uri="http://schemas.openxmlformats.org/drawingml/2006/table">
            <a:tbl>
              <a:tblPr/>
              <a:tblGrid>
                <a:gridCol w="336240"/>
                <a:gridCol w="685800"/>
                <a:gridCol w="489240"/>
                <a:gridCol w="685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9" name=""/>
          <p:cNvGraphicFramePr/>
          <p:nvPr/>
        </p:nvGraphicFramePr>
        <p:xfrm>
          <a:off x="1752480" y="4800600"/>
          <a:ext cx="1428840" cy="520560"/>
        </p:xfrm>
        <a:graphic>
          <a:graphicData uri="http://schemas.openxmlformats.org/drawingml/2006/table">
            <a:tbl>
              <a:tblPr/>
              <a:tblGrid>
                <a:gridCol w="87480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0" name="Line 33"/>
          <p:cNvSpPr/>
          <p:nvPr/>
        </p:nvSpPr>
        <p:spPr>
          <a:xfrm>
            <a:off x="2895480" y="5105520"/>
            <a:ext cx="990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1752480" y="5692680"/>
          <a:ext cx="1428840" cy="520920"/>
        </p:xfrm>
        <a:graphic>
          <a:graphicData uri="http://schemas.openxmlformats.org/drawingml/2006/table">
            <a:tbl>
              <a:tblPr/>
              <a:tblGrid>
                <a:gridCol w="874800"/>
                <a:gridCol w="554040"/>
              </a:tblGrid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2" name="Line 44"/>
          <p:cNvSpPr/>
          <p:nvPr/>
        </p:nvSpPr>
        <p:spPr>
          <a:xfrm>
            <a:off x="2895480" y="5997600"/>
            <a:ext cx="990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45"/>
          <p:cNvSpPr/>
          <p:nvPr/>
        </p:nvSpPr>
        <p:spPr>
          <a:xfrm>
            <a:off x="3962520" y="5600880"/>
            <a:ext cx="2438280" cy="102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4051440" y="5770440"/>
          <a:ext cx="2197080" cy="397080"/>
        </p:xfrm>
        <a:graphic>
          <a:graphicData uri="http://schemas.openxmlformats.org/drawingml/2006/table">
            <a:tbl>
              <a:tblPr/>
              <a:tblGrid>
                <a:gridCol w="336240"/>
                <a:gridCol w="685800"/>
                <a:gridCol w="489240"/>
                <a:gridCol w="685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eparating behavio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not just have a 22 page Lawyer manual, a 21-page Secretary manual, a 23-page Marketer manual, etc.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advantages of the separate manual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aintenance: Only one update if a common rule chang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ocality: Quick discovery of all rules specific to lawy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key ideas from this 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General rules are useful (the 20-page manual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ecific rules that may override general ones are also useful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equals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 compares the state of objec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2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r1.equals(str2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the strings are equal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if you write a class, it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 behaves lik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==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2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1.equals(p2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false :-(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equal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is the behavior we inherit from clas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bje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Java doesn't understand how to compar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 by defaul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lawe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equals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an change this behavior by writing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urs will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overrid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he default behavior from clas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bje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method should compare the state of the two objects and retur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f they have the same x/y positio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flawed implem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public boolean equals(Point other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if (x == other.x &amp;&amp; y == other.y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return true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} els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return false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laws in our metho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body can be shortened to the follow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8080"/>
                </a:solidFill>
                <a:latin typeface="Courier New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boolean ze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x == other.x &amp;&amp; y == other.y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should be legal to compare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any objec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not just othe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this should be allow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 p = new Point(7, 2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.equals("hello"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fals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should always retur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f a non-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pass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equals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Objec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boolean equals(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Object </a:t>
            </a: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tatement(s) that return a boolean val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parameter to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ust be of typ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bje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bje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a general type that can match any objec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aving 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bje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parameter means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an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 can be pass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we don't know what type it is, how can we compare it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other flawed vers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flawe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mplem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public boolean equals(Object o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return x == o.x &amp;&amp; y == o.y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does not compi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.java:36: cannot find symbo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mbol  : variable 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ocation: class java.lang.Objec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x == </a:t>
            </a:r>
            <a:r>
              <a:rPr b="0" lang="en-US" sz="2200" spc="-1" strike="noStrike">
                <a:solidFill>
                  <a:srgbClr val="a50021"/>
                </a:solidFill>
                <a:latin typeface="Courier New"/>
              </a:rPr>
              <a:t>o.x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&amp;&amp; y == </a:t>
            </a:r>
            <a:r>
              <a:rPr b="0" lang="en-US" sz="2200" spc="-1" strike="noStrike">
                <a:solidFill>
                  <a:srgbClr val="a50021"/>
                </a:solidFill>
                <a:latin typeface="Courier New"/>
              </a:rPr>
              <a:t>o.y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^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compiler is saying,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"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uld be any object. Not every object has 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ield.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ype-casting obj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lution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ype-ca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the object parameter to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boolean equals(Object o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Point other = (Point) o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x == other.x &amp;&amp; y == other.y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ting objects is different than casting primitiv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ally casting 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bje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ference into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ferenc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oesn't actually change the object that was pass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ells the compiler to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assume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a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fers to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asting objects diagra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co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 p1 = new Point(5, 3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 p2 = new Point(5, 3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1.equals(p2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equal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"/>
          <p:cNvSpPr/>
          <p:nvPr/>
        </p:nvSpPr>
        <p:spPr>
          <a:xfrm>
            <a:off x="2666880" y="3352680"/>
            <a:ext cx="6172200" cy="1797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public boolean equals(Object o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Point other = (Point) o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return x == other.x &amp;&amp; y == other.y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2755800" y="3505320"/>
          <a:ext cx="2654280" cy="395280"/>
        </p:xfrm>
        <a:graphic>
          <a:graphicData uri="http://schemas.openxmlformats.org/drawingml/2006/table">
            <a:tbl>
              <a:tblPr/>
              <a:tblGrid>
                <a:gridCol w="336600"/>
                <a:gridCol w="685800"/>
                <a:gridCol w="946080"/>
                <a:gridCol w="685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1" name=""/>
          <p:cNvGraphicFramePr/>
          <p:nvPr/>
        </p:nvGraphicFramePr>
        <p:xfrm>
          <a:off x="457200" y="4648320"/>
          <a:ext cx="1428480" cy="520560"/>
        </p:xfrm>
        <a:graphic>
          <a:graphicData uri="http://schemas.openxmlformats.org/drawingml/2006/table">
            <a:tbl>
              <a:tblPr/>
              <a:tblGrid>
                <a:gridCol w="87444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2" name=""/>
          <p:cNvSpPr/>
          <p:nvPr/>
        </p:nvSpPr>
        <p:spPr>
          <a:xfrm>
            <a:off x="1600200" y="4876920"/>
            <a:ext cx="990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457200" y="5540400"/>
          <a:ext cx="1428480" cy="520560"/>
        </p:xfrm>
        <a:graphic>
          <a:graphicData uri="http://schemas.openxmlformats.org/drawingml/2006/table">
            <a:tbl>
              <a:tblPr/>
              <a:tblGrid>
                <a:gridCol w="87444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4" name=""/>
          <p:cNvSpPr/>
          <p:nvPr/>
        </p:nvSpPr>
        <p:spPr>
          <a:xfrm>
            <a:off x="1600200" y="5845320"/>
            <a:ext cx="990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666880" y="5448240"/>
            <a:ext cx="2438640" cy="102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2755800" y="5618160"/>
          <a:ext cx="2197080" cy="395280"/>
        </p:xfrm>
        <a:graphic>
          <a:graphicData uri="http://schemas.openxmlformats.org/drawingml/2006/table">
            <a:tbl>
              <a:tblPr/>
              <a:tblGrid>
                <a:gridCol w="336600"/>
                <a:gridCol w="685800"/>
                <a:gridCol w="488880"/>
                <a:gridCol w="685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7" name=""/>
          <p:cNvGraphicFramePr/>
          <p:nvPr/>
        </p:nvGraphicFramePr>
        <p:xfrm>
          <a:off x="7696080" y="3429000"/>
          <a:ext cx="1022040" cy="395280"/>
        </p:xfrm>
        <a:graphic>
          <a:graphicData uri="http://schemas.openxmlformats.org/drawingml/2006/table">
            <a:tbl>
              <a:tblPr/>
              <a:tblGrid>
                <a:gridCol w="336240"/>
                <a:gridCol w="685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8" name=""/>
          <p:cNvGraphicFramePr/>
          <p:nvPr/>
        </p:nvGraphicFramePr>
        <p:xfrm>
          <a:off x="7086600" y="3886200"/>
          <a:ext cx="1631880" cy="395280"/>
        </p:xfrm>
        <a:graphic>
          <a:graphicData uri="http://schemas.openxmlformats.org/drawingml/2006/table">
            <a:tbl>
              <a:tblPr/>
              <a:tblGrid>
                <a:gridCol w="946080"/>
                <a:gridCol w="685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th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paring different typ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 p = new Point(7, 2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.equals("hello"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should be fals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urrently our method crashes on the above cod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Exception in thread "main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java.lang.ClassCastException: java.lang.Str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at Point.equals(Point.java:25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at PointMain.main(PointMain.java:25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culprit is the line with the type-cas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boolean equals(Object o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50021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a50021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a50021"/>
                </a:solidFill>
                <a:latin typeface="Courier New"/>
              </a:rPr>
              <a:t>Point other = (Point) o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nstanceof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keywor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variab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nstanceof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tatement(s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s if a variable refer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n object of a given typ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sed as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e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s = "hello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 p = new Point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4865760" y="3084480"/>
          <a:ext cx="4201920" cy="3316320"/>
        </p:xfrm>
        <a:graphic>
          <a:graphicData uri="http://schemas.openxmlformats.org/drawingml/2006/table">
            <a:tbl>
              <a:tblPr/>
              <a:tblGrid>
                <a:gridCol w="3187440"/>
                <a:gridCol w="10144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xpres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sul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 instanceof Po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 instanceof Str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 instanceof Po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 instanceof Str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 instanceof Obje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 instanceof Obje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 instanceof Str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 instanceof Obje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inal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equals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Returns whether o refers to a Point object with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the same (x, y) coordinates as this Poin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boolean equals(Object o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 (o instanceof Point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o is a Point; cast and compare 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 other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(Point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o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x == other.x &amp;&amp; y == other.y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o is not a Point; cannot be equa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Is-a relationships, hierarchie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s-a relationshi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hierarchical connection where one category can be treated as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pecialized version of anoth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very marketer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is a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employe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very legal secretary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is 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secretar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heritance hierarch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set of classes connected by is-a relationships that can share common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7" name="Picture 3" descr=""/>
          <p:cNvPicPr/>
          <p:nvPr/>
        </p:nvPicPr>
        <p:blipFill>
          <a:blip r:embed="rId1"/>
          <a:srcRect l="6013" t="0" r="0" b="45385"/>
          <a:stretch/>
        </p:blipFill>
        <p:spPr>
          <a:xfrm>
            <a:off x="2479680" y="4114800"/>
            <a:ext cx="3844800" cy="213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Polymorphism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olymorphis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olymorphis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bility for the same code to be used with different types of objects and behave differently with each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an print any type of objec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one displays in its own way on the conso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ritterMai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an interact with any type of critt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one moves, fights, etc. in its own wa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ding with polymorphis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A variable of type </a:t>
            </a:r>
            <a:r>
              <a:rPr b="0" i="1" lang="en-US" sz="23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 can hold an object of any subclass of </a:t>
            </a:r>
            <a:r>
              <a:rPr b="0" i="1" lang="en-US" sz="23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mployee e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new Lawyer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You can call any methods from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lass o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method is called o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it behaves a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awy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d.getSalary(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50000.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d.getVacationForm(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p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Tahoma"/>
              </a:rPr>
              <a:t>Polymorphism and parameters</a:t>
            </a:r>
            <a:endParaRPr b="1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 pass any subtype of a parameter's typ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60000"/>
              </a:lnSpc>
              <a:spcBef>
                <a:spcPts val="224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60000"/>
              </a:lnSpc>
              <a:spcBef>
                <a:spcPts val="224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EmployeeMain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awyer lisa = new Lawyer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cretary steve = new Secretary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Info(lisa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Info(steve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printInfo(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mployee empl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salary: " + empl.getSalary()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v.days: " + empl.getVacationDays()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v.form: " + empl.getVacationForm()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60000"/>
              </a:lnSpc>
              <a:spcBef>
                <a:spcPts val="224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alary: 50000.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alary: 50000.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.days: 15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.days: 1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.form: pink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.form: yellow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"/>
          <p:cNvSpPr/>
          <p:nvPr/>
        </p:nvSpPr>
        <p:spPr>
          <a:xfrm>
            <a:off x="3657600" y="2971800"/>
            <a:ext cx="2379600" cy="566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733920" y="3200400"/>
            <a:ext cx="2157120" cy="34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olymorphism and array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rrays of superclass types can store any subtype as elemen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EmployeeMain2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mployee[] e = { new Lawyer(),   new Secretary(),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ew Marketer(), new LegalSecretary() }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nt i = 0; i &lt; e.length; i++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salary: " +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[i].getSalary(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v.days: " +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[i].getVacationDays(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5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alary: 50000.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.days: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alary: 50000.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.days: 1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alary: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60000.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.days: 1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alary: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55000.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.days: 1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olymorphism problem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-5 classes with inheritance relationships are show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lient program calls methods on objects of each clas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must read the code and determine the client's outpu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always put such a question on our final exams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polymorphism proble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uppose that the following four classes have been declared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Foo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method1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foo 1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method2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foo 2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ring toString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"foo"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Bar extends Foo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method2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bar 2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polymorphism proble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Baz extends Foo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method1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baz 1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ring toString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"baz"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Mumble extends Baz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method2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mumble 2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48040" indent="-2480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would be the output of the following client cod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6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o[] pity = {new Baz(), new Bar(), new Mumble(), new Foo()}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0; i &lt; pity.length; i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ity[i]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ity[i].method1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ity[i].method2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classes from top (superclass) to bottom (subclass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all inherited metho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5" name="Picture 4" descr=""/>
          <p:cNvPicPr/>
          <p:nvPr/>
        </p:nvPicPr>
        <p:blipFill>
          <a:blip r:embed="rId1"/>
          <a:stretch/>
        </p:blipFill>
        <p:spPr>
          <a:xfrm>
            <a:off x="3816360" y="2438280"/>
            <a:ext cx="1744560" cy="11462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5" descr=""/>
          <p:cNvPicPr/>
          <p:nvPr/>
        </p:nvPicPr>
        <p:blipFill>
          <a:blip r:embed="rId2"/>
          <a:stretch/>
        </p:blipFill>
        <p:spPr>
          <a:xfrm>
            <a:off x="2424240" y="2440080"/>
            <a:ext cx="3139920" cy="25416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6" descr=""/>
          <p:cNvPicPr/>
          <p:nvPr/>
        </p:nvPicPr>
        <p:blipFill>
          <a:blip r:embed="rId3"/>
          <a:stretch/>
        </p:blipFill>
        <p:spPr>
          <a:xfrm>
            <a:off x="2438280" y="2443320"/>
            <a:ext cx="4527720" cy="253656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7" descr=""/>
          <p:cNvPicPr/>
          <p:nvPr/>
        </p:nvPicPr>
        <p:blipFill>
          <a:blip r:embed="rId4"/>
          <a:stretch/>
        </p:blipFill>
        <p:spPr>
          <a:xfrm>
            <a:off x="2432160" y="2441520"/>
            <a:ext cx="4724280" cy="382896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Diagramming the clas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inding output with tabl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762120" y="1752480"/>
          <a:ext cx="7619760" cy="2966760"/>
        </p:xfrm>
        <a:graphic>
          <a:graphicData uri="http://schemas.openxmlformats.org/drawingml/2006/table">
            <a:tbl>
              <a:tblPr/>
              <a:tblGrid>
                <a:gridCol w="1523880"/>
                <a:gridCol w="1523880"/>
                <a:gridCol w="1524240"/>
                <a:gridCol w="1523880"/>
                <a:gridCol w="1523880"/>
              </a:tblGrid>
              <a:tr h="74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o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B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Ba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um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ethod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ethod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oStr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2" name=""/>
          <p:cNvGraphicFramePr/>
          <p:nvPr/>
        </p:nvGraphicFramePr>
        <p:xfrm>
          <a:off x="762120" y="1757520"/>
          <a:ext cx="7619760" cy="2966760"/>
        </p:xfrm>
        <a:graphic>
          <a:graphicData uri="http://schemas.openxmlformats.org/drawingml/2006/table">
            <a:tbl>
              <a:tblPr/>
              <a:tblGrid>
                <a:gridCol w="1523880"/>
                <a:gridCol w="1523880"/>
                <a:gridCol w="1524240"/>
                <a:gridCol w="1523880"/>
                <a:gridCol w="1523880"/>
              </a:tblGrid>
              <a:tr h="74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o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B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Ba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um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ethod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oo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az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ethod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oo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ar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umbl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oStr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o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a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3" name=""/>
          <p:cNvGraphicFramePr/>
          <p:nvPr/>
        </p:nvGraphicFramePr>
        <p:xfrm>
          <a:off x="762120" y="1752480"/>
          <a:ext cx="7619760" cy="2966760"/>
        </p:xfrm>
        <a:graphic>
          <a:graphicData uri="http://schemas.openxmlformats.org/drawingml/2006/table">
            <a:tbl>
              <a:tblPr/>
              <a:tblGrid>
                <a:gridCol w="1523880"/>
                <a:gridCol w="1523880"/>
                <a:gridCol w="1524240"/>
                <a:gridCol w="1523880"/>
                <a:gridCol w="1523880"/>
              </a:tblGrid>
              <a:tr h="74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o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B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Ba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um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ethod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oo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oo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az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az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ethod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oo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ar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oo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umbl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oStr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o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o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a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a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mployee regula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der the following employee regulation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mployees work 40 hours / week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mployees make $40,000 per year, except legal secretaries who make $5,000 extra per year ($45,000 total), and marketers who make $10,000 extra per year ($50,000 total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mployees have 2 weeks of paid vacation leave per year, except lawyers who get an extra week (a total of 3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mployees should use a yellow form to apply for leave, except for lawyers who use a pink form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type of employee has some unique behavior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wyers know how to su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rketers know how to advertis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cretaries know how to take dictatio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gal secretaries know how to prepare legal document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olymorphism answ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o[] pity = {new Baz(), new Bar(), new Mumble(), new Foo()}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1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0; i &lt; pity.length; i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1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pity[i]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1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ity[i].method1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1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ity[i].method2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1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1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1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a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az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o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o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ar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a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az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umble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o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o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other proble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order of the classes is jumbled up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methods sometimes call other methods (tricky!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Lamb extends Ham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b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Lamb b  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Ham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a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Ham a  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b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Ham b  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ring toString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"Ham"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other problem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lvl="1" marL="56916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Spam extends Yam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b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Spam b  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Yam extends Lamb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a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Yam a  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uper.a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ring toString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"Yam"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would be the output of the following client cod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am[] food = {new Lamb(), new Ham(), new Spam(), new Yam()}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0; i &lt; food.length; i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od[i]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od[i].a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to end the line of out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od[i].b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to end the line of out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ass diagra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1" name="Picture 9" descr="HamLambYamSpam_noanswers"/>
          <p:cNvPicPr/>
          <p:nvPr/>
        </p:nvPicPr>
        <p:blipFill>
          <a:blip r:embed="rId1"/>
          <a:stretch/>
        </p:blipFill>
        <p:spPr>
          <a:xfrm>
            <a:off x="3809880" y="1295280"/>
            <a:ext cx="1204920" cy="533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olymorphism at work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am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herit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Ha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'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all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 Bu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am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verrid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Ham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a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Ham a  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b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Ham b  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ring toString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"Ham"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Lamb extends Ham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void b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ystem.out.print("Lamb b  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48040" indent="-248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am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's output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am a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Lamb b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tab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152280" y="1600200"/>
          <a:ext cx="8915400" cy="4724280"/>
        </p:xfrm>
        <a:graphic>
          <a:graphicData uri="http://schemas.openxmlformats.org/drawingml/2006/table">
            <a:tbl>
              <a:tblPr/>
              <a:tblGrid>
                <a:gridCol w="1371600"/>
                <a:gridCol w="1905120"/>
                <a:gridCol w="1905120"/>
                <a:gridCol w="1828800"/>
                <a:gridCol w="190476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am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Y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p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oStr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6" name=""/>
          <p:cNvGraphicFramePr/>
          <p:nvPr/>
        </p:nvGraphicFramePr>
        <p:xfrm>
          <a:off x="152280" y="1600200"/>
          <a:ext cx="8915400" cy="4724280"/>
        </p:xfrm>
        <a:graphic>
          <a:graphicData uri="http://schemas.openxmlformats.org/drawingml/2006/table">
            <a:tbl>
              <a:tblPr/>
              <a:tblGrid>
                <a:gridCol w="1371600"/>
                <a:gridCol w="1905120"/>
                <a:gridCol w="1905120"/>
                <a:gridCol w="1828800"/>
                <a:gridCol w="190476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am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Y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p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Ham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Yam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Ham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Ham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Lamb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pam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oStr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Y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7" name=""/>
          <p:cNvGraphicFramePr/>
          <p:nvPr/>
        </p:nvGraphicFramePr>
        <p:xfrm>
          <a:off x="152280" y="1600200"/>
          <a:ext cx="8915400" cy="4724280"/>
        </p:xfrm>
        <a:graphic>
          <a:graphicData uri="http://schemas.openxmlformats.org/drawingml/2006/table">
            <a:tbl>
              <a:tblPr/>
              <a:tblGrid>
                <a:gridCol w="1371600"/>
                <a:gridCol w="1905120"/>
                <a:gridCol w="1905120"/>
                <a:gridCol w="1828800"/>
                <a:gridCol w="190476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am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Y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p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Ham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Ham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Yam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Ham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Yam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Ham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Ham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Lamb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Lamb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pam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oStr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Y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Y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answ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am[] food = {new Lamb(), new Ham(), new Spam(), new Yam()}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56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0; i &lt; food.length; i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56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food[i]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56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od[i].a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56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od[i].b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56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56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lnSpc>
                <a:spcPct val="7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am a   Lamb 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amb 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am a   Ham 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am 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am a   Ham a   Spam 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pam 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am a   Ham a   Lamb 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amb 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2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2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2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2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2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2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24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24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24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24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249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249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249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asting referenc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A variable can only call that type's methods, not a subtype's.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mployee e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new Lawyer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hours = ed.getHours();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ok; it's in Employ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ed.sue()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compiler err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3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compiler's reasoning is, variabl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uld store any kind of employee, and not all kinds know how to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us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awy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s o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we can type-cast i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awyer theRealEd = (Lawyer) ed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eRealEd.sue();        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o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((Lawyer) ed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sue();    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shorter ver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ore about cast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5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The code crashes if you cast an object too far down the tree.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mployee eric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ew Secretary(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(Secretary) eric).takeDictation("hi");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o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((LegalSecretary) eric).fileLegalBriefs()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excep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808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(Secretary object doesn't know how to file brief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 cast only up and down the tree, not sideway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awyer linda = new Lawyer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((Secretary) linda).takeDictation("hi")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err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ting doesn't actually change the object's behavio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just gets the code to compile/ru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(Employee) linda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getVacationForm()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pink (Lawyer'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other 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Assume that the following classes have been declare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class Snow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void method2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Snow 2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void method3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Snow 3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class Rain extends Snow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void method1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Rain 1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void method2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Rain 2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Employe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A class to represent employees in general (20-page manual)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Employe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int getHours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40;     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works 40 hours / week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double getSalary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40000.0;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$40,000.00 / yea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int getVacationDays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10;     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2 weeks' paid vaca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ring getVacationForm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"yellow";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use the yellow for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ercise: Implement clas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creta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based on the previous employee regulations.  (Secretaries can take dictation.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0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class Sleet extends Snow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void method2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Sleet 2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uper.method2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ethod3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void method3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Sleet 3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class Fog extends Sleet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void method1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Fog 1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void method3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Fog 3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253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What happens when the following examples are executed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Example 1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now var1 = new Slee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ar1.method2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Example 2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now var2 = new Rain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ar2.method1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Example 3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now var3 = new Rain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(Sleet) var3).method3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echnique 1: diagra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gram the classes from top (superclass) to botto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2" name="Group 20" descr=""/>
          <p:cNvPicPr/>
          <p:nvPr/>
        </p:nvPicPr>
        <p:blipFill>
          <a:blip r:embed="rId1"/>
          <a:stretch/>
        </p:blipFill>
        <p:spPr>
          <a:xfrm>
            <a:off x="3797280" y="2120760"/>
            <a:ext cx="1092240" cy="1013040"/>
          </a:xfrm>
          <a:prstGeom prst="rect">
            <a:avLst/>
          </a:prstGeom>
          <a:ln w="0">
            <a:noFill/>
          </a:ln>
        </p:spPr>
      </p:pic>
      <p:pic>
        <p:nvPicPr>
          <p:cNvPr id="263" name="Group 21" descr=""/>
          <p:cNvPicPr/>
          <p:nvPr/>
        </p:nvPicPr>
        <p:blipFill>
          <a:blip r:embed="rId2"/>
          <a:stretch/>
        </p:blipFill>
        <p:spPr>
          <a:xfrm>
            <a:off x="2352600" y="3571920"/>
            <a:ext cx="1085760" cy="1238040"/>
          </a:xfrm>
          <a:prstGeom prst="rect">
            <a:avLst/>
          </a:prstGeom>
          <a:ln w="0">
            <a:noFill/>
          </a:ln>
        </p:spPr>
      </p:pic>
      <p:pic>
        <p:nvPicPr>
          <p:cNvPr id="264" name="Group 22" descr=""/>
          <p:cNvPicPr/>
          <p:nvPr/>
        </p:nvPicPr>
        <p:blipFill>
          <a:blip r:embed="rId3"/>
          <a:stretch/>
        </p:blipFill>
        <p:spPr>
          <a:xfrm>
            <a:off x="5168880" y="5016600"/>
            <a:ext cx="1092240" cy="1244520"/>
          </a:xfrm>
          <a:prstGeom prst="rect">
            <a:avLst/>
          </a:prstGeom>
          <a:ln w="0">
            <a:noFill/>
          </a:ln>
        </p:spPr>
      </p:pic>
      <p:pic>
        <p:nvPicPr>
          <p:cNvPr id="265" name="Group 19" descr=""/>
          <p:cNvPicPr/>
          <p:nvPr/>
        </p:nvPicPr>
        <p:blipFill>
          <a:blip r:embed="rId4"/>
          <a:stretch/>
        </p:blipFill>
        <p:spPr>
          <a:xfrm>
            <a:off x="5168880" y="3571920"/>
            <a:ext cx="1092240" cy="1012680"/>
          </a:xfrm>
          <a:prstGeom prst="rect">
            <a:avLst/>
          </a:prstGeom>
          <a:ln w="0">
            <a:noFill/>
          </a:ln>
        </p:spPr>
      </p:pic>
      <p:cxnSp>
        <p:nvCxnSpPr>
          <p:cNvPr id="266" name="Elbow Connector 28"/>
          <p:cNvCxnSpPr/>
          <p:nvPr/>
        </p:nvCxnSpPr>
        <p:spPr>
          <a:xfrm flipV="1" rot="16200000">
            <a:off x="4800240" y="2666160"/>
            <a:ext cx="457920" cy="137232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round/>
            <a:tailEnd len="lg" type="triangle" w="lg"/>
          </a:ln>
        </p:spPr>
      </p:cxnSp>
      <p:cxnSp>
        <p:nvCxnSpPr>
          <p:cNvPr id="267" name="Elbow Connector 32"/>
          <p:cNvCxnSpPr/>
          <p:nvPr/>
        </p:nvCxnSpPr>
        <p:spPr>
          <a:xfrm flipH="1" flipV="1" rot="5400000">
            <a:off x="3390480" y="2628360"/>
            <a:ext cx="457920" cy="144864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round/>
            <a:tailEnd len="lg" type="triangle" w="lg"/>
          </a:ln>
        </p:spPr>
      </p:cxnSp>
      <p:cxnSp>
        <p:nvCxnSpPr>
          <p:cNvPr id="268" name="Straight Arrow Connector 42"/>
          <p:cNvCxnSpPr/>
          <p:nvPr/>
        </p:nvCxnSpPr>
        <p:spPr>
          <a:xfrm flipV="1">
            <a:off x="5713560" y="4573080"/>
            <a:ext cx="36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echnique 2: tab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152280" y="1523880"/>
          <a:ext cx="8915400" cy="3772080"/>
        </p:xfrm>
        <a:graphic>
          <a:graphicData uri="http://schemas.openxmlformats.org/drawingml/2006/table">
            <a:tbl>
              <a:tblPr/>
              <a:tblGrid>
                <a:gridCol w="1371600"/>
                <a:gridCol w="1905120"/>
                <a:gridCol w="1905120"/>
                <a:gridCol w="1828800"/>
                <a:gridCol w="19047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n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a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le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o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ethod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ethod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ethod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1" name="TextBox 9"/>
          <p:cNvSpPr/>
          <p:nvPr/>
        </p:nvSpPr>
        <p:spPr>
          <a:xfrm>
            <a:off x="3206160" y="5530680"/>
            <a:ext cx="323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Italic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- inherited behav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Bold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- dynamic method c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152280" y="1523880"/>
          <a:ext cx="8915400" cy="3775320"/>
        </p:xfrm>
        <a:graphic>
          <a:graphicData uri="http://schemas.openxmlformats.org/drawingml/2006/table">
            <a:tbl>
              <a:tblPr/>
              <a:tblGrid>
                <a:gridCol w="1371600"/>
                <a:gridCol w="1905120"/>
                <a:gridCol w="1905120"/>
                <a:gridCol w="1828800"/>
                <a:gridCol w="19047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n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a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le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o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ethod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ain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og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ethod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now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ain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leet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now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ethod3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leet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now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ethod3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ethod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now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now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leet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og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3" name="Straight Connector 4"/>
          <p:cNvSpPr/>
          <p:nvPr/>
        </p:nvSpPr>
        <p:spPr>
          <a:xfrm flipV="1">
            <a:off x="1523880" y="1981080"/>
            <a:ext cx="190512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traight Connector 6"/>
          <p:cNvSpPr/>
          <p:nvPr/>
        </p:nvSpPr>
        <p:spPr>
          <a:xfrm flipV="1">
            <a:off x="5334120" y="1981080"/>
            <a:ext cx="182880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ample 1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Snow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1 = new </a:t>
            </a:r>
            <a:r>
              <a:rPr b="0" lang="en-US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Sle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ar1.method2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leet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now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leet 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77" name="Group 20" descr=""/>
          <p:cNvPicPr/>
          <p:nvPr/>
        </p:nvPicPr>
        <p:blipFill>
          <a:blip r:embed="rId1"/>
          <a:stretch/>
        </p:blipFill>
        <p:spPr>
          <a:xfrm>
            <a:off x="6083280" y="2120760"/>
            <a:ext cx="1092240" cy="1013040"/>
          </a:xfrm>
          <a:prstGeom prst="rect">
            <a:avLst/>
          </a:prstGeom>
          <a:ln w="0">
            <a:noFill/>
          </a:ln>
        </p:spPr>
      </p:pic>
      <p:pic>
        <p:nvPicPr>
          <p:cNvPr id="278" name="Group 21" descr=""/>
          <p:cNvPicPr/>
          <p:nvPr/>
        </p:nvPicPr>
        <p:blipFill>
          <a:blip r:embed="rId2"/>
          <a:stretch/>
        </p:blipFill>
        <p:spPr>
          <a:xfrm>
            <a:off x="4638600" y="3571920"/>
            <a:ext cx="1085760" cy="1238040"/>
          </a:xfrm>
          <a:prstGeom prst="rect">
            <a:avLst/>
          </a:prstGeom>
          <a:ln w="0">
            <a:noFill/>
          </a:ln>
        </p:spPr>
      </p:pic>
      <p:pic>
        <p:nvPicPr>
          <p:cNvPr id="279" name="Group 22" descr=""/>
          <p:cNvPicPr/>
          <p:nvPr/>
        </p:nvPicPr>
        <p:blipFill>
          <a:blip r:embed="rId3"/>
          <a:stretch/>
        </p:blipFill>
        <p:spPr>
          <a:xfrm>
            <a:off x="7454880" y="5016600"/>
            <a:ext cx="1092240" cy="1244520"/>
          </a:xfrm>
          <a:prstGeom prst="rect">
            <a:avLst/>
          </a:prstGeom>
          <a:ln w="0">
            <a:noFill/>
          </a:ln>
        </p:spPr>
      </p:pic>
      <p:pic>
        <p:nvPicPr>
          <p:cNvPr id="280" name="Group 19" descr=""/>
          <p:cNvPicPr/>
          <p:nvPr/>
        </p:nvPicPr>
        <p:blipFill>
          <a:blip r:embed="rId4"/>
          <a:stretch/>
        </p:blipFill>
        <p:spPr>
          <a:xfrm>
            <a:off x="7454880" y="3571920"/>
            <a:ext cx="1092240" cy="1012680"/>
          </a:xfrm>
          <a:prstGeom prst="rect">
            <a:avLst/>
          </a:prstGeom>
          <a:ln w="0">
            <a:noFill/>
          </a:ln>
        </p:spPr>
      </p:pic>
      <p:cxnSp>
        <p:nvCxnSpPr>
          <p:cNvPr id="281" name="Elbow Connector 28"/>
          <p:cNvCxnSpPr/>
          <p:nvPr/>
        </p:nvCxnSpPr>
        <p:spPr>
          <a:xfrm flipV="1" rot="16200000">
            <a:off x="7086240" y="2666160"/>
            <a:ext cx="457920" cy="137232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round/>
            <a:tailEnd len="lg" type="triangle" w="lg"/>
          </a:ln>
        </p:spPr>
      </p:cxnSp>
      <p:cxnSp>
        <p:nvCxnSpPr>
          <p:cNvPr id="282" name="Elbow Connector 32"/>
          <p:cNvCxnSpPr/>
          <p:nvPr/>
        </p:nvCxnSpPr>
        <p:spPr>
          <a:xfrm flipH="1" flipV="1" rot="5400000">
            <a:off x="5676480" y="2628360"/>
            <a:ext cx="457920" cy="144864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round/>
            <a:tailEnd len="lg" type="triangle" w="lg"/>
          </a:ln>
        </p:spPr>
      </p:cxnSp>
      <p:cxnSp>
        <p:nvCxnSpPr>
          <p:cNvPr id="283" name="Straight Arrow Connector 42"/>
          <p:cNvCxnSpPr/>
          <p:nvPr/>
        </p:nvCxnSpPr>
        <p:spPr>
          <a:xfrm flipV="1">
            <a:off x="7999560" y="4573080"/>
            <a:ext cx="36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284" name="TextBox 25"/>
          <p:cNvSpPr/>
          <p:nvPr/>
        </p:nvSpPr>
        <p:spPr>
          <a:xfrm>
            <a:off x="8001000" y="320040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ＭＳ Ｐゴシック"/>
              </a:rPr>
              <a:t>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Box 26"/>
          <p:cNvSpPr/>
          <p:nvPr/>
        </p:nvSpPr>
        <p:spPr>
          <a:xfrm>
            <a:off x="6019920" y="17524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vari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ample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Snow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2 = new </a:t>
            </a:r>
            <a:r>
              <a:rPr b="0" lang="en-US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Rai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ar2.method1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Non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There is an error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becaus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now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 does no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have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ethod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88" name="Group 20" descr=""/>
          <p:cNvPicPr/>
          <p:nvPr/>
        </p:nvPicPr>
        <p:blipFill>
          <a:blip r:embed="rId1"/>
          <a:stretch/>
        </p:blipFill>
        <p:spPr>
          <a:xfrm>
            <a:off x="6083280" y="2120760"/>
            <a:ext cx="1092240" cy="1013040"/>
          </a:xfrm>
          <a:prstGeom prst="rect">
            <a:avLst/>
          </a:prstGeom>
          <a:ln w="0">
            <a:noFill/>
          </a:ln>
        </p:spPr>
      </p:pic>
      <p:pic>
        <p:nvPicPr>
          <p:cNvPr id="289" name="Group 21" descr=""/>
          <p:cNvPicPr/>
          <p:nvPr/>
        </p:nvPicPr>
        <p:blipFill>
          <a:blip r:embed="rId2"/>
          <a:stretch/>
        </p:blipFill>
        <p:spPr>
          <a:xfrm>
            <a:off x="4638600" y="3571920"/>
            <a:ext cx="1085760" cy="1238040"/>
          </a:xfrm>
          <a:prstGeom prst="rect">
            <a:avLst/>
          </a:prstGeom>
          <a:ln w="0">
            <a:noFill/>
          </a:ln>
        </p:spPr>
      </p:pic>
      <p:pic>
        <p:nvPicPr>
          <p:cNvPr id="290" name="Group 22" descr=""/>
          <p:cNvPicPr/>
          <p:nvPr/>
        </p:nvPicPr>
        <p:blipFill>
          <a:blip r:embed="rId3"/>
          <a:stretch/>
        </p:blipFill>
        <p:spPr>
          <a:xfrm>
            <a:off x="7454880" y="5016600"/>
            <a:ext cx="1092240" cy="1244520"/>
          </a:xfrm>
          <a:prstGeom prst="rect">
            <a:avLst/>
          </a:prstGeom>
          <a:ln w="0">
            <a:noFill/>
          </a:ln>
        </p:spPr>
      </p:pic>
      <p:pic>
        <p:nvPicPr>
          <p:cNvPr id="291" name="Group 19" descr=""/>
          <p:cNvPicPr/>
          <p:nvPr/>
        </p:nvPicPr>
        <p:blipFill>
          <a:blip r:embed="rId4"/>
          <a:stretch/>
        </p:blipFill>
        <p:spPr>
          <a:xfrm>
            <a:off x="7454880" y="3571920"/>
            <a:ext cx="1092240" cy="1012680"/>
          </a:xfrm>
          <a:prstGeom prst="rect">
            <a:avLst/>
          </a:prstGeom>
          <a:ln w="0">
            <a:noFill/>
          </a:ln>
        </p:spPr>
      </p:pic>
      <p:cxnSp>
        <p:nvCxnSpPr>
          <p:cNvPr id="292" name="Elbow Connector 28"/>
          <p:cNvCxnSpPr/>
          <p:nvPr/>
        </p:nvCxnSpPr>
        <p:spPr>
          <a:xfrm flipV="1" rot="16200000">
            <a:off x="7086240" y="2666160"/>
            <a:ext cx="457920" cy="137232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round/>
            <a:tailEnd len="lg" type="triangle" w="lg"/>
          </a:ln>
        </p:spPr>
      </p:cxnSp>
      <p:cxnSp>
        <p:nvCxnSpPr>
          <p:cNvPr id="293" name="Elbow Connector 32"/>
          <p:cNvCxnSpPr/>
          <p:nvPr/>
        </p:nvCxnSpPr>
        <p:spPr>
          <a:xfrm flipH="1" flipV="1" rot="5400000">
            <a:off x="5676480" y="2628360"/>
            <a:ext cx="457920" cy="144864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round/>
            <a:tailEnd len="lg" type="triangle" w="lg"/>
          </a:ln>
        </p:spPr>
      </p:cxnSp>
      <p:cxnSp>
        <p:nvCxnSpPr>
          <p:cNvPr id="294" name="Straight Arrow Connector 42"/>
          <p:cNvCxnSpPr/>
          <p:nvPr/>
        </p:nvCxnSpPr>
        <p:spPr>
          <a:xfrm flipV="1">
            <a:off x="7999560" y="4573080"/>
            <a:ext cx="36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295" name="TextBox 23"/>
          <p:cNvSpPr/>
          <p:nvPr/>
        </p:nvSpPr>
        <p:spPr>
          <a:xfrm>
            <a:off x="6019920" y="17524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vari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24"/>
          <p:cNvSpPr/>
          <p:nvPr/>
        </p:nvSpPr>
        <p:spPr>
          <a:xfrm>
            <a:off x="4191120" y="3200400"/>
            <a:ext cx="9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ＭＳ Ｐゴシック"/>
              </a:rPr>
              <a:t>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ample 3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now var3 = new </a:t>
            </a:r>
            <a:r>
              <a:rPr b="0" lang="en-US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Rai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(</a:t>
            </a:r>
            <a:r>
              <a:rPr b="0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Sle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 var3).method2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Non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There is an err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because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ai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 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not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lee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99" name="Group 20" descr=""/>
          <p:cNvPicPr/>
          <p:nvPr/>
        </p:nvPicPr>
        <p:blipFill>
          <a:blip r:embed="rId1"/>
          <a:stretch/>
        </p:blipFill>
        <p:spPr>
          <a:xfrm>
            <a:off x="6083280" y="2120760"/>
            <a:ext cx="1092240" cy="1013040"/>
          </a:xfrm>
          <a:prstGeom prst="rect">
            <a:avLst/>
          </a:prstGeom>
          <a:ln w="0">
            <a:noFill/>
          </a:ln>
        </p:spPr>
      </p:pic>
      <p:pic>
        <p:nvPicPr>
          <p:cNvPr id="300" name="Group 21" descr=""/>
          <p:cNvPicPr/>
          <p:nvPr/>
        </p:nvPicPr>
        <p:blipFill>
          <a:blip r:embed="rId2"/>
          <a:stretch/>
        </p:blipFill>
        <p:spPr>
          <a:xfrm>
            <a:off x="4638600" y="3571920"/>
            <a:ext cx="1085760" cy="1238040"/>
          </a:xfrm>
          <a:prstGeom prst="rect">
            <a:avLst/>
          </a:prstGeom>
          <a:ln w="0">
            <a:noFill/>
          </a:ln>
        </p:spPr>
      </p:pic>
      <p:pic>
        <p:nvPicPr>
          <p:cNvPr id="301" name="Group 22" descr=""/>
          <p:cNvPicPr/>
          <p:nvPr/>
        </p:nvPicPr>
        <p:blipFill>
          <a:blip r:embed="rId3"/>
          <a:stretch/>
        </p:blipFill>
        <p:spPr>
          <a:xfrm>
            <a:off x="7454880" y="5016600"/>
            <a:ext cx="1092240" cy="1244520"/>
          </a:xfrm>
          <a:prstGeom prst="rect">
            <a:avLst/>
          </a:prstGeom>
          <a:ln w="0">
            <a:noFill/>
          </a:ln>
        </p:spPr>
      </p:pic>
      <p:pic>
        <p:nvPicPr>
          <p:cNvPr id="302" name="Group 19" descr=""/>
          <p:cNvPicPr/>
          <p:nvPr/>
        </p:nvPicPr>
        <p:blipFill>
          <a:blip r:embed="rId4"/>
          <a:stretch/>
        </p:blipFill>
        <p:spPr>
          <a:xfrm>
            <a:off x="7454880" y="3571920"/>
            <a:ext cx="1092240" cy="1012680"/>
          </a:xfrm>
          <a:prstGeom prst="rect">
            <a:avLst/>
          </a:prstGeom>
          <a:ln w="0">
            <a:noFill/>
          </a:ln>
        </p:spPr>
      </p:pic>
      <p:cxnSp>
        <p:nvCxnSpPr>
          <p:cNvPr id="303" name="Elbow Connector 28"/>
          <p:cNvCxnSpPr/>
          <p:nvPr/>
        </p:nvCxnSpPr>
        <p:spPr>
          <a:xfrm flipV="1" rot="16200000">
            <a:off x="7086240" y="2666160"/>
            <a:ext cx="457920" cy="137232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round/>
            <a:tailEnd len="lg" type="triangle" w="lg"/>
          </a:ln>
        </p:spPr>
      </p:cxnSp>
      <p:cxnSp>
        <p:nvCxnSpPr>
          <p:cNvPr id="304" name="Elbow Connector 32"/>
          <p:cNvCxnSpPr/>
          <p:nvPr/>
        </p:nvCxnSpPr>
        <p:spPr>
          <a:xfrm flipH="1" flipV="1" rot="5400000">
            <a:off x="5676480" y="2628360"/>
            <a:ext cx="457920" cy="144864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round/>
            <a:tailEnd len="lg" type="triangle" w="lg"/>
          </a:ln>
        </p:spPr>
      </p:cxnSp>
      <p:cxnSp>
        <p:nvCxnSpPr>
          <p:cNvPr id="305" name="Straight Arrow Connector 42"/>
          <p:cNvCxnSpPr/>
          <p:nvPr/>
        </p:nvCxnSpPr>
        <p:spPr>
          <a:xfrm flipV="1">
            <a:off x="7999560" y="4573080"/>
            <a:ext cx="36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306" name="TextBox 25"/>
          <p:cNvSpPr/>
          <p:nvPr/>
        </p:nvSpPr>
        <p:spPr>
          <a:xfrm>
            <a:off x="4191120" y="3200400"/>
            <a:ext cx="9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ＭＳ Ｐゴシック"/>
              </a:rPr>
              <a:t>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26"/>
          <p:cNvSpPr/>
          <p:nvPr/>
        </p:nvSpPr>
        <p:spPr>
          <a:xfrm>
            <a:off x="8001000" y="32004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vari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Interface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latedness of typ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2170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set o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irc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ctang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iang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2170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2170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170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rtain operations that are common to all shap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2170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erimet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- distance around the outside of the sha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2170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re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- amount of 2D space occupied by the sha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170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170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ry shape has them but computes them differentl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hape area, perimet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tangle (as defined by width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heigh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re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=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w h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erimet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= 2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+ 2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h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le (as defined by radiu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re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=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erimet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= 2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angle (as defined by side length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n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re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= √(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-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 (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-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 (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-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re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= ½ (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erimet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=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c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"/>
          <p:cNvSpPr/>
          <p:nvPr/>
        </p:nvSpPr>
        <p:spPr>
          <a:xfrm>
            <a:off x="7238880" y="1981080"/>
            <a:ext cx="1524240" cy="990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7620120" y="3352680"/>
            <a:ext cx="1143000" cy="11430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6477120" y="5105160"/>
            <a:ext cx="2209680" cy="1219320"/>
            <a:chOff x="6477120" y="5105160"/>
            <a:chExt cx="2209680" cy="1219320"/>
          </a:xfrm>
        </p:grpSpPr>
        <p:sp>
          <p:nvSpPr>
            <p:cNvPr id="317" name=""/>
            <p:cNvSpPr/>
            <p:nvPr/>
          </p:nvSpPr>
          <p:spPr>
            <a:xfrm flipH="1">
              <a:off x="6477120" y="5105520"/>
              <a:ext cx="1218960" cy="1218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6477120" y="5638320"/>
              <a:ext cx="2209680" cy="685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 flipV="1">
              <a:off x="7695720" y="5105160"/>
              <a:ext cx="990360" cy="533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dundant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ecretary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A redundant class to represent secretarie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Secretary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int getHours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40;     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works 40 hours / week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double getSalary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40000.0;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$40,000.00 / yea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int getVacationDays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10;     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2 weeks' paid vaca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ring getVacationForm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"yellow";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use the yellow for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void takeDictation(String text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ystem.out.println("Taking dictation of text: " + text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mon behavio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shape classes with method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erime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e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'd like to be able to write client code that treats different kinds of shape objects in the same way, such 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rite a method that prints any shape's area and perimet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eate an array of shapes that could hold a mixture of the various shape objec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rite a method that could return a rectangle, a circle, a triangle, or any other shape we've writte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ake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rawingPane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display many shapes on scree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terfac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-215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terfac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list of methods that a class can impl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heritance gives you an is-a relationship and code-sharing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50320" indent="-1623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awy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bject can be treated as a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an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awy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herit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's cod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terfaces give you an is-a relationship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without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de sharing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50320" indent="-1623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ctangl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bject can be treated as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hap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alogous to the idea of roles or certification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50320" indent="0"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2" marL="850320" indent="-1623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"I'm certified as a CPA accountant.  That means I know how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compute taxes, perform audits, and do consulting.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0320" indent="0"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2" marL="850320" indent="-1623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"I'm certified as a Shape.  That means I know how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compute my area and perimeter.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3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3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32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Declaring an interfa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erface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...,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...,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erface Vehicl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double speed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setDirection(int direction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abstract metho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A header without an implementatio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actual body is not specified, to allow/force different classes to implement the behavior in its own wa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hape interfa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erface Shap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double area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double perimeter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interface describes the features common to all shapes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Every shape has an area and perimeter.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an interfa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mplements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interfac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Bicycl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mplements Vehic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lass can declare that i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mplement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 interfac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means the class must contain each of the abstract methods in that interface.  (Otherwise, it will not compile.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What must be true about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Bicycl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lass for it to compile?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terface requiremen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 class claims to be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hap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but doesn't implement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e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erime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s, it will not compi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Banana </a:t>
            </a:r>
            <a:r>
              <a:rPr b="1" lang="en-US" sz="2200" spc="-1" strike="noStrike">
                <a:solidFill>
                  <a:srgbClr val="a50021"/>
                </a:solidFill>
                <a:latin typeface="Courier New"/>
              </a:rPr>
              <a:t>implements Sha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compiler error messag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Banana.java:1: Banana is not abstract and does not override abstract method area() in Sha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public class Banana implements Shap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             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^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plete Circle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presents circl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Circle implements Shap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double radius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Constructs a new circle with the given radiu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ircle(double radiu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is.radius = radius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turns the area of this circl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double area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Math.PI * radius * radius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turns the perimeter of this circl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double perimeter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2.0 * Math.PI * radius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plete Rectangle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presents rectangl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Rectangle implements Shap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double width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double heigh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Constructs a new rectangle with the given dimension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Rectangle(double width, double heigh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is.width = width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is.height = heigh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turns the area of this rectangl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double area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width * heigh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turns the perimeter of this rectangl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double perimeter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2.0 * (width + height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plete Triangle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presents triangl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Triangle implements Shap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double a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double b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double c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Constructs a new Triangle given side length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Triangle(double a, double b, double c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is.a = a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is.b = b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is.c = c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turns this triangle's area using Heron's formul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double area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s = (a + b + c) / 2.0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Math.sqrt(s * (s - a) * (s - b) * (s - c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turns the perimeter of this triangl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double perimeter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a + b + c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terfaces + polymorphis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s don't benefit the class so much as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lient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terface's is-a relationship lets the client use polymorphism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printInfo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hape 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The shape: " + s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area : " + s.area(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perim: " + s.perimeter(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y object that implements the interface may be pass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ircle circ = new Circle(12.0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ctangle rect = new Rectangle(4, 7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iangle tri = new Triangle(5, 12, 13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Info(circ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Info(tri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Info(rec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hape[] shapes = {tri, circ, rect}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Desire for code-shar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akeDic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the only unique behavior i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creta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'd like to be able to sa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A class to represent secretarie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Secretary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opy all the contents from the Employee class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takeDictation(String text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Taking dictation of text: " + text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terface diagra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19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25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25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25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25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25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25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25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25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25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194400" indent="-194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row goes up from class to interface(s) it impleme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25240" indent="-234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re is a supertype-subtype relationship here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.g., all Circles are Shapes, but not all Shapes are Circl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25240" indent="-234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kind of picture is also called a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UML class diagram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1900080" y="1219320"/>
            <a:ext cx="5186520" cy="2844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Marty Stepp</cp:lastModifiedBy>
  <dcterms:modified xsi:type="dcterms:W3CDTF">2013-03-28T21:52:39Z</dcterms:modified>
  <cp:revision>127</cp:revision>
  <dc:subject/>
  <dc:title>CSE 142 Python Slides</dc:title>
</cp:coreProperties>
</file>