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FE70-F06E-4AA8-B652-70C71EC2B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6837-54A1-4E5C-8D6F-1D8CE47578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4DCB-380B-4044-8E56-D24D9FAB4FC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-240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,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7Z</dcterms:modified>
  <cp:revision>124</cp:revision>
  <dc:subject/>
  <dc:title>CSE 142 Python Slides</dc:title>
</cp:coreProperties>
</file>