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BD6B-1367-49D1-82BF-FF5D9EBED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53D3-2D9D-42D7-B3AA-B6CDB0EF125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34Z</dcterms:modified>
  <cp:revision>266</cp:revision>
  <dc:subject/>
  <dc:title>CSE 142 Python Slides</dc:title>
</cp:coreProperties>
</file>