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4D2A-67A7-446B-8CB5-2A5B832AE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4A73-8BBF-481B-990B-38BCB629803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0Z</dcterms:modified>
  <cp:revision>378</cp:revision>
  <dc:subject/>
  <dc:title>CSE 142 Python Slides</dc:title>
</cp:coreProperties>
</file>