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386C-D9DD-43C3-B307-2E8B7F58C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BCF2-8C38-4D18-AD13-94B6575028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C751-9E09-48B2-80B3-2576426C755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al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 for body mass index (BMI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roduces output lik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ares them.  The code uses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fference = " + Math.abs(bmi1 - bmi2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is program reads data for two people and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computes their body mass index (BMI).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erson " + number + " BMI = " + bmi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anner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any methods need to read input, decl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ass it to the other methods as a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can be combined us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Truth tables" for each, used with logical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04840" y="442260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6200" y="4422600"/>
          <a:ext cx="1774800" cy="109548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aluating logic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have lower precedence than m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cannot be "chained" as in alge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true  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ssum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, combine multiple test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esult of each of the following expres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program that prompts for information about a person and uses it to decide whether to date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acto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racting common/redundant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duce or eliminate redundancy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2895480"/>
            <a:ext cx="4647600" cy="3276720"/>
            <a:chOff x="4419720" y="2895480"/>
            <a:chExt cx="4647600" cy="3276720"/>
          </a:xfrm>
        </p:grpSpPr>
        <p:sp>
          <p:nvSpPr>
            <p:cNvPr id="132" name=""/>
            <p:cNvSpPr/>
            <p:nvPr/>
          </p:nvSpPr>
          <p:spPr>
            <a:xfrm>
              <a:off x="5790960" y="3657600"/>
              <a:ext cx="3276360" cy="173988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a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 = 3 *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 (a == 2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 = y + 10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b + x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19720" y="2895480"/>
              <a:ext cx="1301040" cy="3276720"/>
              <a:chOff x="4419720" y="2895480"/>
              <a:chExt cx="1301040" cy="3276720"/>
            </a:xfrm>
          </p:grpSpPr>
          <p:sp>
            <p:nvSpPr>
              <p:cNvPr id="134" name=""/>
              <p:cNvSpPr/>
              <p:nvPr/>
            </p:nvSpPr>
            <p:spPr>
              <a:xfrm>
                <a:off x="5033880" y="4535640"/>
                <a:ext cx="68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9720" y="2895480"/>
                <a:ext cx="609480" cy="3276720"/>
              </a:xfrm>
              <a:custGeom>
                <a:avLst/>
                <a:gdLst>
                  <a:gd name="textAreaLeft" fmla="*/ 0 w 609480"/>
                  <a:gd name="textAreaRight" fmla="*/ 219960 w 609480"/>
                  <a:gd name="textAreaTop" fmla="*/ 85320 h 3276720"/>
                  <a:gd name="textAreaBottom" fmla="*/ 319140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an return different value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ever path the code enters, it will return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a value causes a method to immediately ex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aths through the code must reac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l paths must 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also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think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might skip all paths, even though mathematically it must choose one or the 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a block of statements only if a test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2019240"/>
            <a:ext cx="22399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air of re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the quadrant for that poi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adrant(-4.2, 17.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point falls directly on either axi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10080" y="2617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71484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98080" y="3524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3519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2236680"/>
            <a:ext cx="9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4765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36440" y="28670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1280" y="2881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1280" y="41004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36440" y="4086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quadrant(double x, double y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x &g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g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4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at least one coordinate equals 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umulative algorithm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many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find the sum of all integers from 1-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may require a lot of ty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 want the sum from 1 - 1,000,000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the sum up to any maximu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neralize the abov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mulative 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that keeps a sum in progress and is updated repeatedly until summing is fin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above code is an attempt at a cumulativ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mulative sum variables must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loops that update them, so that they will still exist after the lo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produ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umulative idea can be used with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make the base and exponent adjustab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umul. su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do a cumulative sum of user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from Ch.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pt for how many people, and each person's dinner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static methods to structure the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total: $75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x: $6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p: $11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: $92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answer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ubtotal: $" + 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x: $" + tax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ip: $" + tip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otal: $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one block if a test is true, another if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38680" y="2003400"/>
            <a:ext cx="32544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factors of a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3, 4, 6, 8, 12, and 24 are factors of 2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ext Process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primitive type representing single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tored internally as an arra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Ali G.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 have variables, parameters, return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rounded with apostrophes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'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191120" y="2562120"/>
          <a:ext cx="4722840" cy="94284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A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accessed us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ex parameter and return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hat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 to print or examine each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omp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 last = word.charAt(word.length() - 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 == 's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rints the alphab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mapped to an integer value intern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ed 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CII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6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3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uses automatic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07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nver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equival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ype-cas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964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ey are differ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object; it contain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rimitive; you can't call methods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matting text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9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 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format string can contai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laceholder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paramet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laceholders are used instead of + concate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0">
              <a:spcBef>
                <a:spcPts val="499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drop to the next line unless you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d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preci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rounded t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s wi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de (left-align)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7600" y="5186520"/>
            <a:ext cx="1218960" cy="682560"/>
            <a:chOff x="3657600" y="5186520"/>
            <a:chExt cx="1218960" cy="682560"/>
          </a:xfrm>
        </p:grpSpPr>
        <p:sp>
          <p:nvSpPr>
            <p:cNvPr id="192" name=""/>
            <p:cNvSpPr/>
            <p:nvPr/>
          </p:nvSpPr>
          <p:spPr>
            <a:xfrm>
              <a:off x="3817440" y="550080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4114800" y="47293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05160" y="4294080"/>
            <a:ext cx="876960" cy="582480"/>
            <a:chOff x="4205160" y="4294080"/>
            <a:chExt cx="876960" cy="582480"/>
          </a:xfrm>
        </p:grpSpPr>
        <p:sp>
          <p:nvSpPr>
            <p:cNvPr id="195" name=""/>
            <p:cNvSpPr/>
            <p:nvPr/>
          </p:nvSpPr>
          <p:spPr>
            <a:xfrm rot="5400000">
              <a:off x="4533840" y="4533480"/>
              <a:ext cx="228600" cy="457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5160" y="429408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ional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s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loops both use logical test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s, seen in Ch. 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lation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392112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better format it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play results in the format below,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2 digits 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 $7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      $5.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      $10.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    $86.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Subtotal: $" +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ax: $" +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ip: $" +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otal: $" +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ax:      $%.2f\n",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ip:      $%.2f\n",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otal:    $%.2f\n",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ail on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will compile, but it will not print the s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objects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, so it often giv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ven when tw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have the same let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are compared using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ly this is a method that return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used in logical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160" y="121932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70720" y="1969920"/>
            <a:ext cx="156384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suse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hooses between outcomes using many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50080" y="1969920"/>
            <a:ext cx="311760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/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xactly one path must be tak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code might not execute any pa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Silver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Bronze medal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013120"/>
            <a:ext cx="32763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95280"/>
          <a:ext cx="9144000" cy="5124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6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 if/if/if   (2) nested if/else   (3) nested if/else/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user is lower, middle, or upper-class based on inco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you made the dean's list (GPA ≥ 3.8) or honor roll (3.5-3.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number is divisible by 2, 3, and/or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 if / else if / 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2Z</dcterms:modified>
  <cp:revision>122</cp:revision>
  <dc:subject/>
  <dc:title>CSE 142 Python Slides</dc:title>
</cp:coreProperties>
</file>