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1700-A618-411C-B398-6844C0796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AFAB-5193-456C-99A5-78396FCEE1E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999A-D3DC-4626-9F55-646C971A157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70F4-617D-4861-8FEF-3B45FED0930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DF5B-9D51-475D-8B5B-43A0984D420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7F0D-C195-4060-B452-3E72A4D18A1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5E84-AA37-4BB3-8585-88CC367BA25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E52B-2871-40D5-AF9D-955A8EC97F5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167E-B6D2-49A9-A171-FCCA4001FB2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60C9-A11A-4D10-BDFF-BEC98CED508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FAE1-DE3C-4B3A-B844-0798B6E988E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526F-A189-443F-970C-812226971C1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80FC-1022-4A13-9BE7-CD65886DAB7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9811-8BBF-431B-B17A-EE311395584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90E2-6935-4B9D-9474-07C2FC226F2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DD87-E957-4C74-A0C2-48A825FA25B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FA8B-3D85-42FA-9934-3CAFB2C803B1}"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1:53Z</dcterms:modified>
  <cp:revision>118</cp:revision>
  <dc:subject/>
  <dc:title>CSE 142 Python Slides</dc:title>
</cp:coreProperties>
</file>