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5C65-48C2-460A-B0FB-3899990A6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6AE-C71E-4A73-A04A-B26310076B4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7Z</dcterms:modified>
  <cp:revision>98</cp:revision>
  <dc:subject/>
  <dc:title>CSE 142 Python Slides</dc:title>
</cp:coreProperties>
</file>