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5C73-EC3E-4D51-889B-F09FB5A1F74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Programming with Java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iveProblems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iveProblem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canner console, int cou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text,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BinaryOperator ope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dom r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Righ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 = r.nextInt(12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 = r.nextInt(12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x + " " + text + " " + y + " =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nswer =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perator.applyAsInt(x, y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ponse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ponse == answ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it righ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Right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ncorrect...the answer was 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answ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Right + " of " + count + " correc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(19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elements from a data source that supports aggregate oper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s operate on a data source and modify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+               +--------+                      +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|source| -&gt; stream1 -&gt; |modifier| -&gt; stream2 -&gt; ... -&gt; | terminator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------+               +--------+                      +------------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 each element of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sum each integer in a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oncatenate strings together into one large 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find the largest value in a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o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functional programming sum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 *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applies a lambda to each stream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igher-order fun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akes a function as an argu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the squares of integers 1-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IntStream.range(1, 6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333399"/>
                </a:solidFill>
                <a:latin typeface="Courier New"/>
              </a:rPr>
              <a:t>.sum()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range(1, 6) -&gt; [1, 2, 3, 4, 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1, 4, 9, 16, 2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5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lter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ream modifier removes/keeps elements of the stream using a boolean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the sum of squares of odd integ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 sum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IntStream.of(3, 1, 4, 1, 5, 9, 2, 6, 5, 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200" spc="-1" strike="noStrike">
                <a:solidFill>
                  <a:srgbClr val="333399"/>
                </a:solidFill>
                <a:latin typeface="Courier New"/>
              </a:rPr>
              <a:t>.filter(n -&gt; n % 2 !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map(n -&gt; n * 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the stream operations are as follow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  -&gt; [3, 1, 4, 1, 5, 9, 2, 6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filter -&gt; [3, 1, 1, 5, 9, 5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 -&gt; [9, 1, 1, 25, 81, 25, 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sum -&gt; 15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streams as part of a regular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true if the given integer is pr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&gt;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boolean isPrime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1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x -&gt; n % x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unt() =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duce modifi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u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ier combines elements of a stream using a lambda combination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s two parameters: an initial value and a lambda to combine that initial value with each next value in the stre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Returns n!, or 1*2*3*...*(n-1)*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ssumes n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factorial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IntStream.range(2, n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reduce(1, (a, b) -&gt; a *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8120" y="1143000"/>
          <a:ext cx="8809200" cy="526392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y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ny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l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all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verag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rithmetic mean of number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ll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 stream into a collection and return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u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stinc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unique elements from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te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that match the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Ea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forms an action on each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mi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only the nex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lements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function to every element of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neMat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zero elements of stream match given predic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8120" y="1143000"/>
          <a:ext cx="8809200" cy="328608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multithreaded version of this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xamines the first element of stream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du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lies the given binary reduction function to stream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quentia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ngle-threaded, opposite of parallel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kip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mits the next n elements from the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e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tream's elements in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sum of elements in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stream into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71360" y="4572000"/>
          <a:ext cx="8809200" cy="2190600"/>
        </p:xfrm>
        <a:graphic>
          <a:graphicData uri="http://schemas.openxmlformats.org/drawingml/2006/table">
            <a:tbl>
              <a:tblPr/>
              <a:tblGrid>
                <a:gridCol w="2637000"/>
                <a:gridCol w="617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tic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ca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s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ues two streams 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zero-element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infinite stream with given start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verts the given values into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ng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ge of integer values as a 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tream terminators like max return an "optional" result because the stream might be empty or not contain the resul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does not compile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max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FP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al programm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style of programming that emphasizes the use o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ethods) to decompose a complex task into sub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of functional language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P, Scheme, ML, Haskell, Erlang, F#, Clojure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is considered an object-oriented language, not a functional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Java 8 adds several language features to facilitate a partial functional programming sty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ptional results fi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xtract the optional result, use a "get as" termin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s type OptionalInt to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print largest multiple of 10 in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this version compiles and work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argest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Stream.of(55, 20, 19, 31, 40, -2, 62, 3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10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getAsInt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arge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bsV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mpute the sum of the absolute values of an array of integers.  For example, the sum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-1, 2, -4, 6, -9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gest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find and return the largest even number from an array of integers. For example, if the array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5, -1, 12, 10, 2, 8}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r method should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You may assume that the array contains at least one e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osures (19.4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und/free vari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 a lambda expression, parameters are bound variables while variables in the outer containing scope are free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 clo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block of code defining a function along with the definitions of any free variables that are defined in the containing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free variables: min, max, multip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urier New"/>
              </a:rPr>
              <a:t>// bound variables: x,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5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mpute((x, y) -&gt; Math.max(x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Math.max(y,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*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ultipli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can be converted into a stream with Arrays.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n -&gt; Math.abs(n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reference lets you pass a method where a lambda would otherwise be expec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3, -4, 8, 4, -2, 17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, -10, 14, 6, -12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Arrays.stream(numbe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Math::ab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ilter(n -&gt; n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istinct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su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llection can be converted into a stream by call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mpute sum of absolute values of even 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&lt;Integer&gt; list =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 Array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6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trea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Math::ab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forEach(System.out::printl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nvert into set of lowercase 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 = Arrays.asList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To", "be", "or", "Not", "to", "be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words2 = words.stream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(String::toLowerCa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collect(Collectors.toSe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set = " + 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set = [not, be, or, t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fi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find longest line in the f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longest = Files.lines(Paths.get("haiku.txt"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pToInt(String::leng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max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getAs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eam oper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s.lines -&gt; ["haiku are funny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but sometimes they don't make sense"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refrigerator"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pToInt -&gt; [15, 35, 12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 max -&gt; 3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gLat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uses stream operations to convert a String parameter into its "Pig Latin" form.  For example, if the string passed is "go seattle mariners", return "o-gay eattle-say ariners-may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LetterWo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name as a parameter and returns a count of the number of unique lines in the file that are exactly four letters long.  Assume that each line in the file contains at least one wo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8 FP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Effect-free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Processing structured data via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First-class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Function clo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Higher-order operations on col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ect-free code (19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de eff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hange to the state of an object or program variable produced by a call on a function (i.e., a metho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modifying the value of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printing output to System.o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ading/writing data to a file, collection, or networ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(x) +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2 * f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 two above statements the sam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es, if the function f() has n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goal of functional programming is to minimize side eff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side eff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SideEffect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x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int f(int n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x * 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// what if it were 2 * f(x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5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esult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(x) + f(x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(result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-class functions (19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rst-class citiz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lement of a programming language that is tightly integrated with the language and supports the full range of operations generally available to other entities in the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unctional programming, functions (methods) are treated as first-class citizens of the langu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store a function in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 function as a parameter to another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turn a value from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reate a collection of fun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mbda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mbda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"lambda"): Expression that describes a function by specifying its parameters and return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8 adds support for lambda express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arameter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-&gt;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express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) -&gt; x * x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squares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roughly equivalent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squared(int 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*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/multiply tu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 program that gives addition and multiplication quiz problems to the us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 + 6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got it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* 7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correct...the answer was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generalize the idea of "add or multiply"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uch work would it be to add other operato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functional programming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w/ lambda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present the math operation as a lamb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quiz the user on 3 additio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iveProblems(console, 3, "+"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x, y) -&gt; x + 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quiz the user on 3 multiplicatio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iveProblems(console, 3, "*"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x, y) -&gt; x * 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Registered User</cp:lastModifiedBy>
  <dcterms:modified xsi:type="dcterms:W3CDTF">2016-08-17T07:01:37Z</dcterms:modified>
  <cp:revision>658</cp:revision>
  <dc:subject/>
  <dc:title>CSE 142 Python Slides</dc:title>
</cp:coreProperties>
</file>