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F417-5F53-4E3F-AEF9-95B64060D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nnoying to flip back and forth between slides here.  I suggest putting the classes into a text editor so you can switch windows back and forth to fill in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34A4-B1E7-477B-BCFE-C63CEE69517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ance an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ay to form new classes based on existing classes, taking on their attributes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group related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 code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lass c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, absorbing its data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parent class that i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child class that extends the superclass and inherits its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 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243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automatical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we only write the parts unique to each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dd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lawyer regul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who get an extra week of paid vacation (a total of 3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use a pink form when applying for vacation le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have some unique behavior: they know how to s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e want lawyers to inher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 from employee, but we want to replace parts with new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write a new version of a method in a subclass that replaces the superclass's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required to override a superclass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 weeks vacation, pink vacation form, can s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  Marketers make $10,000 extra ($50,000 total) and know how to adverti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vels of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evels of inheritance in a hierarchy are all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legal secretary is the same as a regular secretary but makes more money ($45,000) and can file legal brief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gal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ng with the supercla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oftware cri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developing, designing, documenting, testing large comput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-scale projects face many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many programmers to work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code finished o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oiding redunda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ing and fixing bu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ing, improving, and reusing existing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re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writing program code once and using it in many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nges to common behavi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return to our previous company/employee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company-wide change affecting all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Everyone is given a $10,000 raise due to inf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e employee salary is now $5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gal secretaries now make $55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keters now make $6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modify our code to reflect this policy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the super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 class to represent employees (20-page manu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we finish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classes are still incorr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overridd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return othe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unsatisfactor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5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60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The subclasses' salaries are based on the Employee salary, b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does not reflect th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overridde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sub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VacationDays() + 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that we want to give employees more vacation days the longer they've been with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year worked, we'll award 2 additional vacation day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mployee object is constructed, we'll pass in the number of years the person has been with the compan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will require us to modify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nd add some new state and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necessary modification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0 + 2 *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've added the constructo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, our subclasses do not compile.  The err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awyer.java:2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ymbol  : constructor Employe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ocation: class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Lawyer extends Employe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ort explanation: Once we write a constructor (that requires parameters) in the superclass, we must now write constructors for our employee subclasses as we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ng explanation: (next slid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tailed explan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not inheri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don't inheri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receive a default constructor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(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laces the defaul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classes' default constructors are now trying to call a non-existent defaul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alling superclass constructo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a similar modification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w firm employee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rules: hours, vacation, benefits, regulation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employees attend a common orientation to learn general company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mployee receives a 20-page manual of common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ubdivision also has specific 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loyee receives a smaller (1-3 page) manual of these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manual adds some new rules and also changes some rules from the large 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Market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aries' years of employment are not trac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 not earn extra vacation for years wor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ecret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n't require any parameters to its constructor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iles without a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default constructor call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give lawyers $5000 for each year at the compan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; the error is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Lawyer.java:7: years has private acces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fields cannot be directly accessed from sub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reason: So that subclassing can't break encapsu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t around this limit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n accessor for any field needed by the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int getYea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5000 *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etYear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i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urrently has a poo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et all Secretaries to 0 years because they do not get a vacation bonus for their serv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Yea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, we'll always get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n't a good solution; what if we wanted to give some other reward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s based on years of serv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o allow for a bette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separate the standard 10 vacation days from those that are awarded based on sen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eniorityBonu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vacation days given for each year in the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2 *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is help us improv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selectively overr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niorityBon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uns, it will use the new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ing a method at runtime is call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ynamic bin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ecretary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ecretaries don't get a bonus for their years of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ypes of objects have a super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lass implicitly extend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defines several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 text representation of the objec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so that it can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ther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 object to any other for equalit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 objects have equ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390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i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tore any object in a variable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1 = new Point(5, -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2 = "hello the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3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 only knows how to do general th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o1.toString(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nt len = o2.length(); 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tring line = o3.nextLine()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methods that accep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checkForNull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o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rator does not work well with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references to objects, not their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only produ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en you compare an object to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 == p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962520" y="44956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51440" y="466560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52480" y="480060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Line 33"/>
          <p:cNvSpPr/>
          <p:nvPr/>
        </p:nvSpPr>
        <p:spPr>
          <a:xfrm>
            <a:off x="2895480" y="51055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56926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Line 44"/>
          <p:cNvSpPr/>
          <p:nvPr/>
        </p:nvSpPr>
        <p:spPr>
          <a:xfrm>
            <a:off x="2895480" y="5997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3962520" y="56008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051440" y="577044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ing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 just have a 22 page Lawyer manual, a 21-page Secretary manual, a 23-page Marketer manual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dvantages of the separate manu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enance: Only one update if a common rule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lity: Quick discovery of all rules specific to lawy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key ideas from this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 rules are useful (the 20-page manua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fic rules that may override general ones are also usefu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compares the stat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1.equals(str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trings are 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you write a class,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 :-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behavior we inherit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doesn't understand how to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hange this behavior by wri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s wil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default behavior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compare the state of the two objects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y have the same x/y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lawed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f (x == other.x &amp;&amp; y ==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s in our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ody can be shortened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oolean z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should be legal to comp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y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 just 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should be allow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hould alway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Object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 that return a boolean 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aramete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general type that can match an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 mean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an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don't know what type it is, how can we compare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flawe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flaw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x == o.x &amp;&amp; y == o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:36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mbol  : variable 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cation: class java.lang.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&amp; y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is sayi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any object. Not every object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-cas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-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object parameter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objects is different than casting primi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ly cast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n't actually change the object that wa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s the compiler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object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352680"/>
            <a:ext cx="617220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ublic boolean equals(Object o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int other = (Point) 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turn x == other.x &amp;&amp; y == other.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755800" y="3505320"/>
          <a:ext cx="26542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57200" y="46483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600200" y="4876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55404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00200" y="58453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5448240"/>
            <a:ext cx="243864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55800" y="5618160"/>
          <a:ext cx="21970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4888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696080" y="3429000"/>
          <a:ext cx="102204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086600" y="3886200"/>
          <a:ext cx="163188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different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hould be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rrently our method crashes on the abov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java.lang.ClassCastException: java.lang.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.equals(Point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Main.main(PointMain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lprit is the line with the type-ca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stanceo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nstance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s if a variable re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n object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hello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865760" y="3084480"/>
          <a:ext cx="4201920" cy="3316320"/>
        </p:xfrm>
        <a:graphic>
          <a:graphicData uri="http://schemas.openxmlformats.org/drawingml/2006/table">
            <a:tbl>
              <a:tblPr/>
              <a:tblGrid>
                <a:gridCol w="3187440"/>
                <a:gridCol w="1014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whether o refers to a Point object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(x, y) coordinates as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o instanceof Poin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a Point; cast and compar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th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Po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not a Point; cannot be eq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-a relationships, hierarch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ierarchical connection where one category can be treated a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alized version of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market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legal secretar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cret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 hierarch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classes connected by is-a relationships that can share common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bility for the same code to be used with different types of objects and behave differently with ea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print any type of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displays in its own way on the cons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interact with any type of cri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moves, fights, etc.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ing with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of type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can hold an object of any subclass of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ll any methods from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method is called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t behaves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Polymorphism and parameters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pass any subtype of a parameter's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empl.getSalary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empl.getVacationDays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form: " + empl.getVacationForm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pin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971800"/>
            <a:ext cx="237960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3200400"/>
            <a:ext cx="215712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of superclass types can store any subtype a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-5 classes with inheritance relationships are show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ient program calls methods on objects of each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read the code and determine the client'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lways put such a question on our final exam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that the following four classes have been declar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classes from top (superclass) to bottom (subcla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all inherit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iagramming the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ding output with t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loyee regu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pity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der of the classes is jumbled 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s sometimes call other methods (tricky!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pam extends Y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Sp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Yam extends Lamb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9" descr="HamLambYamSpam_noanswers"/>
          <p:cNvPicPr/>
          <p:nvPr/>
        </p:nvPicPr>
        <p:blipFill>
          <a:blip r:embed="rId1"/>
          <a:stretch/>
        </p:blipFill>
        <p:spPr>
          <a:xfrm>
            <a:off x="3809880" y="1295280"/>
            <a:ext cx="1204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t 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verrid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utput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m a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d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can only call that type's methods, not a subtype'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ours = ed.getHours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; it'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d.sue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mpiler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's reasoning is,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store any kind of employee, and not all kinds know ho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can type-cast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 theRealEd = (Lawyer) 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alEd.sue();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(Lawyer) ed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sue(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horter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code crashes if you cast an object too far down the tre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 eri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ecret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Secretary) eric).takeDictation("hi"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LegalSecretary) eric).fileLegalBriefs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(Secretary object doesn't know how to file brie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st only up and down the tree, not side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wyer linda = new Lawy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Secretary) linda).takeDictation("hi"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doesn't actually change the object's behavi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just gets the code to compile/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Employee) linda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getVacationForm()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 (Lawyer'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ume that the following classes have been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ain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ased on the previous employee regulations.  (Secretaries can take dictatio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leet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Fog extends Sle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happens when the following examples are execu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1 = new Slee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2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Sleet) var3).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1: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ram the classes from top (superclass) to bot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Group 20" descr=""/>
          <p:cNvPicPr/>
          <p:nvPr/>
        </p:nvPicPr>
        <p:blipFill>
          <a:blip r:embed="rId1"/>
          <a:stretch/>
        </p:blipFill>
        <p:spPr>
          <a:xfrm>
            <a:off x="3797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63" name="Group 21" descr=""/>
          <p:cNvPicPr/>
          <p:nvPr/>
        </p:nvPicPr>
        <p:blipFill>
          <a:blip r:embed="rId2"/>
          <a:stretch/>
        </p:blipFill>
        <p:spPr>
          <a:xfrm>
            <a:off x="2352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64" name="Group 22" descr=""/>
          <p:cNvPicPr/>
          <p:nvPr/>
        </p:nvPicPr>
        <p:blipFill>
          <a:blip r:embed="rId3"/>
          <a:stretch/>
        </p:blipFill>
        <p:spPr>
          <a:xfrm>
            <a:off x="5168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65" name="Group 19" descr=""/>
          <p:cNvPicPr/>
          <p:nvPr/>
        </p:nvPicPr>
        <p:blipFill>
          <a:blip r:embed="rId4"/>
          <a:stretch/>
        </p:blipFill>
        <p:spPr>
          <a:xfrm>
            <a:off x="5168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66" name="Elbow Connector 28"/>
          <p:cNvCxnSpPr/>
          <p:nvPr/>
        </p:nvCxnSpPr>
        <p:spPr>
          <a:xfrm flipV="1" rot="16200000">
            <a:off x="4800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7" name="Elbow Connector 32"/>
          <p:cNvCxnSpPr/>
          <p:nvPr/>
        </p:nvCxnSpPr>
        <p:spPr>
          <a:xfrm flipH="1" flipV="1" rot="5400000">
            <a:off x="3390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8" name="Straight Arrow Connector 42"/>
          <p:cNvCxnSpPr/>
          <p:nvPr/>
        </p:nvCxnSpPr>
        <p:spPr>
          <a:xfrm flipV="1">
            <a:off x="5713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2: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2280" y="1523880"/>
          <a:ext cx="8915400" cy="37720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9"/>
          <p:cNvSpPr/>
          <p:nvPr/>
        </p:nvSpPr>
        <p:spPr>
          <a:xfrm>
            <a:off x="3206160" y="553068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a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inheri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o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dynamic metho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280" y="1523880"/>
          <a:ext cx="8915400" cy="377532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Straight Connector 4"/>
          <p:cNvSpPr/>
          <p:nvPr/>
        </p:nvSpPr>
        <p:spPr>
          <a:xfrm flipV="1">
            <a:off x="1523880" y="198108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6"/>
          <p:cNvSpPr/>
          <p:nvPr/>
        </p:nvSpPr>
        <p:spPr>
          <a:xfrm flipV="1">
            <a:off x="5334120" y="19810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1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78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79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80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81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2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3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4" name="TextBox 25"/>
          <p:cNvSpPr/>
          <p:nvPr/>
        </p:nvSpPr>
        <p:spPr>
          <a:xfrm>
            <a:off x="800100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6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2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does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h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89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90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92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3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4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5" name="TextBox 23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4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var3)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300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301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302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303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4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5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06" name="TextBox 25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6"/>
          <p:cNvSpPr/>
          <p:nvPr/>
        </p:nvSpPr>
        <p:spPr>
          <a:xfrm>
            <a:off x="800100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edness of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operations that are common to all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distance around the outside of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amount of 2D space occupied by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hape has them but computes them differ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area, peri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 (as defined by wid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heigh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 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 (as defined by radiu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 (as defined by side length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√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= ½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1981080"/>
            <a:ext cx="152424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3352680"/>
            <a:ext cx="11430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77120" y="5105160"/>
            <a:ext cx="2209680" cy="1219320"/>
            <a:chOff x="6477120" y="5105160"/>
            <a:chExt cx="2209680" cy="1219320"/>
          </a:xfrm>
        </p:grpSpPr>
        <p:sp>
          <p:nvSpPr>
            <p:cNvPr id="317" name=""/>
            <p:cNvSpPr/>
            <p:nvPr/>
          </p:nvSpPr>
          <p:spPr>
            <a:xfrm flipH="1">
              <a:off x="6477120" y="5105520"/>
              <a:ext cx="12189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477120" y="5638320"/>
              <a:ext cx="22096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7695720" y="5105160"/>
              <a:ext cx="9903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shape classes with metho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write client code that treats different kinds of shape objects in the same way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prints any shape's area and peri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n array of shapes that could hold a mixture of the various shap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could return a rectangle, a circle, a triangle, or any other shape we've writt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play many shapes on scr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ist of methods that a class can imp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heritance gives you an is-a relationship and code-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s give you an is-a relationship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thou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ous to the idea of roles or certif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CPA accountant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taxes, perform audits, and do consult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Shape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my area and perimet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Vehic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speed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Direction(int directio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bstrac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eader without an implement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ctual body is not specified, to allow/force different classes to implement the behavior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area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perimete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nterface describes the features common to all shap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very shape has an area and perimeter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means the class must contain each of the abstract methods in that interface.  (Otherwise, it will not compil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must be true abo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icyc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for it to compile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class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error messag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Circ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circ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irc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circle with the given rad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ircle(double radiu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adius =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PI * radius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Math.PI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Rect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rect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ct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rectangle with the given dimen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width, double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width =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height =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(width + he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Tri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tri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Tri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Triangle given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riangle(double a, double b, double c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a =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b =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c =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is triangle's area using Heron's formu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 = (a + b + c) / 2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sqrt(s * (s - a) * (s - b) * (s - c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tri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don't benefit the class so much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's is-a relationship lets the client use polymorphis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object that implements the interface may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rect = new Rectangle(4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cir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tr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rec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[] shapes = {tri, circ, rect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re for code-sha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only unique behavior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ow goes up from class to interface(s) it imp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a supertype-subtype relationship he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all Circles are Shapes, but not all Shapes are Circ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kind of picture is 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ML class dia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0080" y="1219320"/>
            <a:ext cx="51865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9Z</dcterms:modified>
  <cp:revision>127</cp:revision>
  <dc:subject/>
  <dc:title>CSE 142 Python Slides</dc:title>
</cp:coreProperties>
</file>